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1239-5A82-4D8E-806A-2071E34A4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723F3-1931-41E1-ACC9-04CBCD420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A56C6-3423-402E-8222-C9ED6EC23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18517C-77FF-40E0-8128-3927C5A45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41089-DFFF-481D-9646-66399F190D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22080-9936-4018-A118-4D5E47873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89D80-8FBE-46FC-BE4C-EB876728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EA7950-8CD8-45BB-8FD4-16D266B1E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2AC49-084E-4E62-A65C-35DA9834A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70E2B-4FA7-475A-B262-D06E8816A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E500FB-2B84-4238-AAF8-FFD520174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0A97-A89D-4577-99C6-0A28B505D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3096D-B378-4A3D-8FA5-C1F46533A3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F9E6C-AC72-48EE-8265-467ED4E998D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RomaK</cp:lastModifiedBy>
  <dcterms:modified xsi:type="dcterms:W3CDTF">2015-09-04T09:35:26Z</dcterms:modified>
  <cp:revision>38</cp:revision>
  <dc:subject/>
  <dc:title>Slide 1</dc:title>
</cp:coreProperties>
</file>