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E946-97D3-4A10-94FE-506D4E8EBE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9BB-19B2-4A90-967D-4E43A3B5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DAD-B77E-44F7-B34E-9AC809FC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847-398F-4858-8CCE-EA78D776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9B0-5A96-4843-86CC-DEC1E271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F9D3-C9F9-4DEB-94B5-2304A8A9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5E5A-3EEC-4FE8-9E29-BCCB9724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A794-131E-4155-9294-A8B170CB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0979-C766-4838-8118-C2932AEB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D506-96F3-4495-AB6A-FC4124BA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8E7A-7ED3-4708-B4A9-06F8FF79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B4FB-71EC-48DB-A571-1C0D5910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3AC-FAA3-4433-9288-ED254308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B467-09AD-483B-9EA7-FF39F27F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1344-56CF-452B-8F59-2387C713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02B9-0212-43E4-AB7E-3583390F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48B2-A138-481A-9FEC-C363DDB7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33F2-5C70-48DA-8953-0BE841BF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94075-92D8-4432-827D-2AD35626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3640-A99C-4115-AE3B-5D13E403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D15B-49B9-4C46-BD70-F9C61C0F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8961C-00FC-452A-AC3A-8D5A948F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E2EBE-A671-4AE0-916B-1A6ACABE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4DE-204A-4395-9126-567C74B4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16F68-EB74-4881-BF62-5C5D6A9B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9179D-DDEA-423E-B3A4-77252752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171E5-65B9-4137-B3BF-2EFF21FD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EF39-FA9F-405E-96F3-AB4435E6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87449-2643-4CC2-A688-581FCA65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E5D03-9F9A-410F-8B14-1E86C9AA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97EBF-21BA-46B2-863E-257401BB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52D7D-FBA2-4AD2-8D10-3F434BB6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6A36E-8FBA-4EAD-949B-89F730E7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DE469-0C08-4716-80C4-8DFF3FC2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89A7-6102-49EB-8C34-DC0FEC8E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99CCE-8B1F-4801-9785-BAEE2C74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813FB-77C4-4605-97B6-7E3C3452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3CE56-0F53-4DFE-B46D-D6D0D26C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585B6-30A5-4286-A034-2C02D992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293F4-FD0F-4146-87B6-0A1E2F96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D8ACB-A39F-473D-8C08-F48E2CD0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316EE-1783-4E08-A25F-54D10B0B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10A7-77E0-4EEF-957A-9356B203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0D0B2-A86C-41F7-A5D4-721AB657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7F35A-036E-4CD5-B3D2-92566CBB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EB1-6E23-48A5-B033-D3629327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98972-23BE-454C-843A-B3149DAC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3F0C5-0E06-4043-B5C7-2783D03B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BB981-13CE-4B3C-B340-1E419F54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75B89-473B-4FB0-B1B6-502A1938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D0370-871C-4FA0-AC91-57096786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9BEF9-B53C-4090-AA93-87D6DACD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2E014-D0EA-4C84-AED3-41E14FE2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7C862-4001-438E-BE98-F4453CA8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A4504-F2A7-4C39-A6D6-13D6EDF3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09AE3-45C2-4CEE-A734-64357021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22A-1080-4845-B3A3-6D679173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E4331-53D6-4FDB-A43F-AFD7AEE5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4EA-9F1D-4991-94F6-20D321D8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A63-C2A2-41AC-A7DE-9D8C1913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0DE-6D68-4155-95B2-A3758E1D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20E0-F311-41C2-9CCF-6CC727D6450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A75E-6A01-4BBA-A80A-954889840B2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F177-FB52-426A-9011-C12F7A57F70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3724-3E5C-4BC0-A60F-1F9E9CA32C8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6A83-3D61-411F-9F1B-3C5064B2FC8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1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89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2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0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5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7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0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4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59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4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69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1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6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RomaK</cp:lastModifiedBy>
  <dcterms:modified xsi:type="dcterms:W3CDTF">2015-09-04T09:35:03Z</dcterms:modified>
  <cp:revision>21</cp:revision>
  <dc:subject/>
  <dc:title>Slide 1</dc:title>
</cp:coreProperties>
</file>