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734A-FCDC-4F02-99F1-2454872F01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3C96-D96F-42F6-B37D-CE1FEFC0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DA2-DD0C-4CE2-AFFC-0946B6B9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A0D-B00E-491A-B681-3110ED29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AFE-5A8E-4F01-A502-B2835813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292E-8294-4DB8-8D18-20EBBA6B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5163-C0BB-4ABA-9633-BE2B216C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45BD-B4DA-4760-93B1-F688DDC6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EBC2-8010-4FC9-94AC-206344CB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A72A-F299-4777-9E8C-12E8566A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C8E9-F172-434E-957F-3E69AC8D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6C7C-0DBB-4DD6-B644-8996D0B4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0CE-1D9B-4FBD-B663-347C0500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67E1-8877-49A5-B174-0ADBD650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8F01-2448-4BE2-9689-D9C8EC28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D264-0B58-4BCD-A9D3-27CA056C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62F4-82DF-4637-8595-CEF35103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023B-C2EF-4D97-BC0D-7612281B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E5F6F-7059-4FAA-AC5E-02B54035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4DEA-11D0-4430-ADEF-FDB75B61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82C86-8521-4FCA-B512-6B85E3B9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F56E-9225-4009-8A07-C7B906ED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5A1A-C95B-439B-9A6C-59AAD856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EBD-F831-4EE8-8AFB-6AF30FAB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BF163-8C35-4983-8B0F-D3C2378D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F7DE-CB7B-40AB-A47F-30BF7A49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C0D93-19C2-4E0D-9584-76279A31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48DE-5F60-43D4-B5D8-0EEDDAC2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62789-4703-4C45-A4D6-2051047D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41F5-6EEF-40B6-BD38-498CF563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99BE7-4F7E-4F99-938E-C519A96F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25414-AA31-492F-8B41-485293FF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05F81-F901-4C08-842D-F2B1F627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6083A-B20C-4971-99C0-9E67427E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50DF-3E22-44CC-9B91-958E016D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4F9B4-4248-474F-B94D-8480F5C6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84853-3201-4C32-A9C1-441A0EE5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C4A67-96E2-4FD2-8F57-0EFDE8FA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F148E-CC8E-4FD7-BFBF-63114B7F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0951E-FD53-4082-AB25-3C2C77EC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955E3-F194-4746-A2D1-994AE435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94B42-58B8-49CB-BA41-3E3F2DB2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A24F7-AA18-4810-A523-81FC0BDC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42B21-F83A-4E18-BD1D-8ACA3EFB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0028C-278B-4BFD-89E4-3BA06B11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3A0-845A-4E84-8B75-EDE948E7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0F34B-3EFC-4792-8DE9-D81E5336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FC0F2-545B-48D6-9461-7CD39B21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7A8B8-43F1-429F-B280-470526F8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C6906-04BA-41A2-98E8-5A80829C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0E174-EEB0-4D3F-ABBF-9430A36C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2947C-8A13-4F35-82DA-82A0DE9F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B47DD-E559-42E0-B12D-BC208FE3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94600-389E-40E0-8D90-F2FAE181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4DB32-C966-4813-80B6-9FD2FB19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905CF-D907-4CEC-B218-C1E80890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705-30E6-41D6-B696-77993974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DD001-56A6-40E9-BB6B-C6C2A664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FE1-0B45-4C92-B764-17E7E64A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535-DE79-4156-9504-FA2E9E4F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E67-20D6-4479-8375-4E23DC28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BA9B-4902-462A-8EC3-859301D7D7F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9284-4812-4419-A776-187520DC17A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F542-CA33-4228-A41D-8CFA1757E4E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BE43-17C2-445F-AAF9-6CE32834E20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9634-BD69-4DE0-8DE1-AC9F6681497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1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89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2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0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5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7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0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4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59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4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69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1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6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RomaK</cp:lastModifiedBy>
  <dcterms:modified xsi:type="dcterms:W3CDTF">2015-09-04T09:35:03Z</dcterms:modified>
  <cp:revision>21</cp:revision>
  <dc:subject/>
  <dc:title>Slide 1</dc:title>
</cp:coreProperties>
</file>