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5939-EBAF-4E9C-9A8F-133222B95B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FA3-4E2B-40B8-A872-8FE67EFA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895-EB02-418A-8662-6FC8ED85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4C5-4640-4F9F-980E-4B8D22A3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058-0CE9-4823-9A8D-C29E5EF5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0DF-026C-41B6-96ED-4BECF103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4E9-AC7C-4FF7-8148-7B73B062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B05-DCBF-4965-B99E-BC230A9A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C05-2F09-4271-A318-D523F2D0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41B-CB9B-422C-8319-E766D3CB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B6A-2C72-40DE-8659-882CDE18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B90-C06E-44F7-B3C6-8BA706C9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B06-A969-40E6-A9AE-1B982F33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92AE-53F9-486D-B763-19BC51FEE76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RomaK</cp:lastModifiedBy>
  <dcterms:modified xsi:type="dcterms:W3CDTF">2015-09-04T09:34:50Z</dcterms:modified>
  <cp:revision>8</cp:revision>
  <dc:subject>Trench Warfare in WWI</dc:subject>
  <dc:title>Trench Warfare in WWI</dc:title>
</cp:coreProperties>
</file>