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822C-7371-4A0B-81CF-FEFEEE87B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E0E-9A31-4365-A34A-0BB1B980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382-C364-48B3-99E5-BC2459C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93F-2268-49CE-BA16-D8DBB7A4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6F8-4691-4091-B485-33996BE5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043-A15E-4806-A88F-770B2604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0D8-0693-45EA-A421-DCF01496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07A-1EF8-43B0-A52F-AE57D04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49E-9512-4D72-A94F-41C7EE23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BB6-FDF4-452B-A342-8FD50DB8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D62-A2F4-4DED-AFAC-8C3E08E9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B9A-49DC-4264-91E0-BFB04E49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1FC-1072-4527-8100-36D27A41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C8D-E1EA-4929-9AC7-DCCCB5725D8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RomaK</cp:lastModifiedBy>
  <dcterms:modified xsi:type="dcterms:W3CDTF">2015-09-04T09:34:50Z</dcterms:modified>
  <cp:revision>8</cp:revision>
  <dc:subject>Trench Warfare in WWI</dc:subject>
  <dc:title>Trench Warfare in WWI</dc:title>
</cp:coreProperties>
</file>