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E880-5B7E-46C4-8F38-012F93D186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BDC-9436-4A1C-8500-E3D5F678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54C-B3E7-4B65-BE3F-E3C0FEB7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02D-5BFD-47C3-A50E-3A06E960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8F3E-F439-4E18-BF2A-50ACE740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E1E-1A27-48DF-818E-AC282247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DD4-2D97-40B9-A844-6FB9C545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DE9-052D-4C6B-A8B9-B37B617C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11A-B7FB-4884-ABD2-0D4A79CA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B55-12FC-47DB-B382-57EF6021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EBF-4474-4435-89D0-F2C0D463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133-770C-4761-B84A-656CA2D3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C97-4E82-4378-A423-62137A83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0A8B-06FA-4567-BCD4-E13C280C8B8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RomaK</cp:lastModifiedBy>
  <dcterms:modified xsi:type="dcterms:W3CDTF">2015-09-04T09:34:50Z</dcterms:modified>
  <cp:revision>8</cp:revision>
  <dc:subject>Trench Warfare in WWI</dc:subject>
  <dc:title>Trench Warfare in WWI</dc:title>
</cp:coreProperties>
</file>