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83E1-51F9-4F04-B798-71DCEBEEF9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in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9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tre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 attacks into No Man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over the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my goes fo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trench see p. 24 of text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scription how trench warfare wor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icture of a soldier and what he would have had to take into batt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book p.2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p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DC1-FCC2-4596-84A9-A4B20EF0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4A7-EA48-4CF4-8D86-5D76F721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7CF-3C17-44CD-B121-23DF00A6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EF9D-910E-492D-B79F-89914950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C86-895B-4D47-96EF-AAF07CF3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61D-D64B-4AAD-AF5E-AB05A012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ECE-27EF-4C40-A39E-39E7C74A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E6C-3F88-4DFB-855C-6C46A48D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D1AB-2F87-4A08-8A04-2E577B91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A6E-1B38-4B3A-8CDE-36C92712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ABC-EE38-4191-A19D-59970CBE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4F66-1CFE-4D0B-9F9A-163008D7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27DC-DB0F-40F3-A683-F7FC10488B51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 in WWI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Year 9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Myth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1" name="Picture 4" descr="Worcester regiment off to war"/>
          <p:cNvPicPr/>
          <p:nvPr/>
        </p:nvPicPr>
        <p:blipFill>
          <a:blip r:embed="rId1"/>
          <a:stretch/>
        </p:blipFill>
        <p:spPr>
          <a:xfrm>
            <a:off x="324000" y="1341360"/>
            <a:ext cx="83516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Reality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53" name="Picture 4" descr="Trenches"/>
          <p:cNvPicPr/>
          <p:nvPr/>
        </p:nvPicPr>
        <p:blipFill>
          <a:blip r:embed="rId1"/>
          <a:stretch/>
        </p:blipFill>
        <p:spPr>
          <a:xfrm>
            <a:off x="1187280" y="1197000"/>
            <a:ext cx="6840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he Trench System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Front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Communication tre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upport tren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Barbed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Trench system"/>
          <p:cNvPicPr/>
          <p:nvPr/>
        </p:nvPicPr>
        <p:blipFill>
          <a:blip r:embed="rId1"/>
          <a:stretch/>
        </p:blipFill>
        <p:spPr>
          <a:xfrm>
            <a:off x="4716360" y="1268280"/>
            <a:ext cx="400068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renches"/>
          <p:cNvPicPr/>
          <p:nvPr/>
        </p:nvPicPr>
        <p:blipFill>
          <a:blip r:embed="rId2"/>
          <a:stretch/>
        </p:blipFill>
        <p:spPr>
          <a:xfrm>
            <a:off x="4716360" y="3860640"/>
            <a:ext cx="40719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Trench Warfa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Offensive attacks into No Man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Shell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Going over the t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enemy goes f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Going over the top"/>
          <p:cNvPicPr/>
          <p:nvPr/>
        </p:nvPicPr>
        <p:blipFill>
          <a:blip r:embed="rId1"/>
          <a:stretch/>
        </p:blipFill>
        <p:spPr>
          <a:xfrm>
            <a:off x="4716360" y="1557360"/>
            <a:ext cx="410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dfc08d"/>
                </a:solidFill>
                <a:latin typeface="Arial"/>
              </a:rPr>
              <a:t>Suggested Task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trench see p. 24 of textboo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Write a description how trench warfare work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Draw a picture of a soldier and what he would have had to take into batt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Resources: 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extbook p.22-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rench warfare p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3T11:06:16Z</dcterms:created>
  <dc:creator>Carol</dc:creator>
  <dc:description>Trench Warfare in WWI</dc:description>
  <cp:keywords>Trench Warfare in WWI</cp:keywords>
  <dc:language>en-US</dc:language>
  <cp:lastModifiedBy>RomaK</cp:lastModifiedBy>
  <dcterms:modified xsi:type="dcterms:W3CDTF">2015-09-04T09:34:50Z</dcterms:modified>
  <cp:revision>8</cp:revision>
  <dc:subject>Trench Warfare in WWI</dc:subject>
  <dc:title>Trench Warfare in WWI</dc:title>
</cp:coreProperties>
</file>