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D5EA-CCEB-4914-A213-55954CC2A08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4350C-E789-4A25-9F60-995FE9CDF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2C93B-33D4-4D85-80A0-040586EFB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11B2A-C5EB-4AFE-8E5C-611DE977E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97BE1-860E-4C66-8DE5-3CABF18F0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922A3-5E19-482D-BF93-C35EB2193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75751-76EC-4D99-BFD0-5E4423734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0995E-DA07-4155-889C-A50440930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E2217-2F15-4C4B-9CCC-01EA879BF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7C5BB-97F2-4E92-AA57-DD1FD901E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520BE-62DA-4935-9AFB-8DF10A6BB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7C351-4864-474F-B514-3DBE65B72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1699D-292A-42C8-BD0D-F32F5C110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A715-1F6D-4EC8-B3CE-2B7708606965}"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34:43Z</dcterms:modified>
  <cp:revision>20</cp:revision>
  <dc:subject/>
  <dc:title>PowerPoint Presentation</dc:title>
</cp:coreProperties>
</file>