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63A5F-23B7-4252-A434-0101E689C588}"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38D84-B07F-4EC4-AADB-D4BCF2563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EBFA9-FE4A-4130-BEE1-EB9551EFE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3E890-3C4B-4E3C-96EF-C9D980335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8F3BA-559D-409E-855B-6CF4C67D4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5E586-7681-41D5-BD1C-94533DAF9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DAE25-E9F8-4BB2-B4F6-56B7EF70A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F0F5-42B0-4F05-A5D5-DF3A05D37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D5A6D-F1AB-4656-91CF-8DA3479E2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65AF0-E781-49E3-82AD-2E9714B4A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797E-9B10-4527-BFE0-22F138EB0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91188-E781-4858-8750-9036A6669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8B60E-FA17-4113-BD53-9A7767D7C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8A69-8BAE-4612-B60A-7DC176099049}"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4T09:34:43Z</dcterms:modified>
  <cp:revision>20</cp:revision>
  <dc:subject/>
  <dc:title>PowerPoint Presentation</dc:title>
</cp:coreProperties>
</file>