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25FE-BBDE-4267-801D-356B3269D3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BBD-5DE0-4611-B6AE-BB5773D3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FF9-641A-42E7-830C-B09AB431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626-273F-4B3B-BE9B-82BECEDE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CF1-0169-4752-A0B6-D89ACD26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22DA-2B09-4C96-AE55-AED9944A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2942-696C-4DA4-A697-CD1E74E5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871F-7BE0-40E2-A3B0-691B2607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E9FA-E5EB-4AF1-B299-AFBB53B2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C05E-9ACB-4855-B384-17FB23E1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D043-9A8C-4DC2-BD5C-6820027E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8A7F-BC96-4B28-B5A9-B2DE8856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A2F-3204-4ADA-AF2E-A774C77F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8FF2-9C15-4302-AF54-C7ED098A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40E7-18E6-428A-B587-BE777F54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9577-6E29-4017-A8AE-8541638C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0AB7-BA1A-444B-9209-CF78F17A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5586-BDAF-4A1D-84F9-D5438720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653A9-0FB1-41B7-BE5E-3B5E1165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95A18-8FA6-42B9-9599-689CCFEF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47C7B-A451-4B4D-ABBA-C50C6F6F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04B17-31C0-4423-86B5-2AD8097E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7669-DB46-43DA-BE72-0D663009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136-40F1-4E77-857B-E67E2E29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A68C1-F062-449B-9EBA-825EAAD5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8041-2A19-472C-8B63-96F44418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B60A-38A1-4109-9486-BEA5B1A5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1CFBA-5AE0-44D5-B240-057E7ECA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EC065-E835-48E6-A666-65CB8011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6654F-786D-4699-9A33-65D8C160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E2EEF-9C5F-4A6B-A5F0-474D2498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420F1-903F-4785-83D4-69E14333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27F86-D9E6-4DAD-85B8-145B84C5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09BD5-F9DF-4D52-ADD6-4BEF498C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789-C0A5-4AD3-A4E8-2488C6DD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65742-3F87-4B9E-B2BC-4935196E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6E825-5C1F-4252-B671-BC7985DF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1921-E5B8-46E3-AA96-881E67CE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50543-982C-4A5C-8E43-2B847475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C9CC6-6E6A-43BC-85E0-73E0B554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327AC-BB2C-4BAA-8367-8EA9056B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178A2-5997-42CC-88F6-CF740139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45A77-6572-448C-A187-9F5886C9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E3517-DB9E-4297-902D-6938DD5E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85F-4420-45DE-B90B-4FD78651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BFA-3514-4455-9CB6-DF23038D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B51-ACA9-4B51-AF30-47990BCA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B47-3270-437D-90B2-15C8A706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8EA-0097-4F3E-9641-2D4AC267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Rectangle 3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1617-8AC2-417F-BB4C-D8B58B89F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4769-9E02-416B-9856-358E3C9E4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8CEC-3359-4AF2-8EB3-964C11A56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131" name="Rectangle 3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5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8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9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3166-9921-43DF-A838-CA14571D9450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ernhardMod BT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map 1812"/>
          <p:cNvPicPr/>
          <p:nvPr/>
        </p:nvPicPr>
        <p:blipFill>
          <a:blip r:embed="rId1"/>
          <a:stretch/>
        </p:blipFill>
        <p:spPr>
          <a:xfrm>
            <a:off x="762120" y="3240"/>
            <a:ext cx="7772400" cy="683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2" descr="123"/>
          <p:cNvPicPr/>
          <p:nvPr/>
        </p:nvPicPr>
        <p:blipFill>
          <a:blip r:embed="rId1"/>
          <a:stretch/>
        </p:blipFill>
        <p:spPr>
          <a:xfrm>
            <a:off x="304920" y="1143000"/>
            <a:ext cx="2617560" cy="3200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038120" y="1447560"/>
            <a:ext cx="4953240" cy="5257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on Land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for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invaded Washington, D.C. in 181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ish soldiers burned the Capitol, the White House, and other public build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fore the British burned the White House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olley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aved a famous painting of George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2" name="Picture 25" descr="Dolly Fire"/>
          <p:cNvPicPr/>
          <p:nvPr/>
        </p:nvPicPr>
        <p:blipFill>
          <a:blip r:embed="rId2"/>
          <a:stretch/>
        </p:blipFill>
        <p:spPr>
          <a:xfrm>
            <a:off x="1371600" y="388764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86200" y="1752480"/>
            <a:ext cx="510552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at Fort McHen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rancis Scott Ke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an American lawyer and prisoner of the Britis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w an American flag flying over Ft. McHenry after the batt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flag inspired Key to write “The Star-Spangled Banner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4" name="Picture 3" descr="FortMcHenry1814a"/>
          <p:cNvPicPr/>
          <p:nvPr/>
        </p:nvPicPr>
        <p:blipFill>
          <a:blip r:embed="rId1"/>
          <a:stretch/>
        </p:blipFill>
        <p:spPr>
          <a:xfrm>
            <a:off x="228600" y="1143000"/>
            <a:ext cx="2619360" cy="3429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flag"/>
          <p:cNvPicPr/>
          <p:nvPr/>
        </p:nvPicPr>
        <p:blipFill>
          <a:blip r:embed="rId2"/>
          <a:stretch/>
        </p:blipFill>
        <p:spPr>
          <a:xfrm>
            <a:off x="1542960" y="4324320"/>
            <a:ext cx="3181320" cy="23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5192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Battle of New Orleans (1815)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most famous/important battle of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lead to victory by General Andrew Jack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attle continued even after the war ended because word did not reach the Americans for several week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Picture 8" descr="bonorr"/>
          <p:cNvPicPr/>
          <p:nvPr/>
        </p:nvPicPr>
        <p:blipFill>
          <a:blip r:embed="rId1"/>
          <a:stretch/>
        </p:blipFill>
        <p:spPr>
          <a:xfrm>
            <a:off x="6019920" y="3733920"/>
            <a:ext cx="2933640" cy="294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ajackson"/>
          <p:cNvPicPr/>
          <p:nvPr/>
        </p:nvPicPr>
        <p:blipFill>
          <a:blip r:embed="rId2"/>
          <a:stretch/>
        </p:blipFill>
        <p:spPr>
          <a:xfrm>
            <a:off x="4672080" y="1219320"/>
            <a:ext cx="2185920" cy="283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6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Ghent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24544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Treaty of Ghent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December, 1815, British and Americans met in Ghent, Belgium to negotiate a peace trea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sults of the wa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American became better all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 gained respect from other count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4" descr="Treaty of Ghent"/>
          <p:cNvPicPr/>
          <p:nvPr/>
        </p:nvPicPr>
        <p:blipFill>
          <a:blip r:embed="rId2"/>
          <a:stretch/>
        </p:blipFill>
        <p:spPr>
          <a:xfrm>
            <a:off x="1447920" y="3886200"/>
            <a:ext cx="3504960" cy="245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dddddd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ernhardMod BT"/>
              </a:rPr>
              <a:t>End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1447920" y="10666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hapter 6, Sec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809880" y="1752120"/>
            <a:ext cx="51818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auses of the War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France were fighting a war in Europ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began capturing American sailors and “impressing” them, or forcing them to work on British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07, Britain had seized more than 1,000 American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1" name="Picture 11" descr="impressment2"/>
          <p:cNvPicPr/>
          <p:nvPr/>
        </p:nvPicPr>
        <p:blipFill>
          <a:blip r:embed="rId1"/>
          <a:stretch/>
        </p:blipFill>
        <p:spPr>
          <a:xfrm>
            <a:off x="152280" y="1143000"/>
            <a:ext cx="3505320" cy="3006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92" name="Picture 7" descr="1808_11ill"/>
          <p:cNvPicPr/>
          <p:nvPr/>
        </p:nvPicPr>
        <p:blipFill>
          <a:blip r:embed="rId2"/>
          <a:stretch/>
        </p:blipFill>
        <p:spPr>
          <a:xfrm>
            <a:off x="1676520" y="419112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9" descr="149-Embargo"/>
          <p:cNvPicPr/>
          <p:nvPr/>
        </p:nvPicPr>
        <p:blipFill>
          <a:blip r:embed="rId1"/>
          <a:stretch/>
        </p:blipFill>
        <p:spPr>
          <a:xfrm>
            <a:off x="76320" y="1523880"/>
            <a:ext cx="3902040" cy="2602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657240" y="1752120"/>
            <a:ext cx="5334120" cy="43434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Embargo Act of 180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sident Jefferson convinced Congress to declare an embarg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efferson believed the embargo would hurt Britain, but it really hurt Americ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1809, Congress ended the embargo with all countries except Britain and Fr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5" name="Picture 17" descr="no embargo"/>
          <p:cNvPicPr/>
          <p:nvPr/>
        </p:nvPicPr>
        <p:blipFill>
          <a:blip r:embed="rId2"/>
          <a:stretch/>
        </p:blipFill>
        <p:spPr>
          <a:xfrm>
            <a:off x="1371600" y="4137120"/>
            <a:ext cx="3433680" cy="241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46483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merica’s Desire for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saw that Canada was not well-defended by 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anted more land and believed that people in Canada would want to join the United St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7" name="Picture 11" descr="Map: British North America and the United States at the time of the War"/>
          <p:cNvPicPr/>
          <p:nvPr/>
        </p:nvPicPr>
        <p:blipFill>
          <a:blip r:embed="rId1"/>
          <a:stretch/>
        </p:blipFill>
        <p:spPr>
          <a:xfrm>
            <a:off x="4572000" y="1143000"/>
            <a:ext cx="451656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809880" y="1752480"/>
            <a:ext cx="5181840" cy="37339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Hawks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group of Republican Congressmen from the South and We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anted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d by Senato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ohn C. Calhou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South Carolina an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enry Cla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Kentuck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9" name="Picture 10" descr="john c calhoun"/>
          <p:cNvPicPr/>
          <p:nvPr/>
        </p:nvPicPr>
        <p:blipFill>
          <a:blip r:embed="rId1"/>
          <a:stretch/>
        </p:blipFill>
        <p:spPr>
          <a:xfrm>
            <a:off x="228600" y="1143000"/>
            <a:ext cx="27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henry clay"/>
          <p:cNvPicPr/>
          <p:nvPr/>
        </p:nvPicPr>
        <p:blipFill>
          <a:blip r:embed="rId2"/>
          <a:stretch/>
        </p:blipFill>
        <p:spPr>
          <a:xfrm>
            <a:off x="1371600" y="3657600"/>
            <a:ext cx="2808360" cy="315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28958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Election of 1808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ames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a Democratic-Republican, w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the Spring of 1812, Madison decided to go to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2" name="Picture 9" descr="war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4648320" y="3719520"/>
            <a:ext cx="4267080" cy="29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Madison"/>
          <p:cNvPicPr/>
          <p:nvPr/>
        </p:nvPicPr>
        <p:blipFill>
          <a:blip r:embed="rId2"/>
          <a:stretch/>
        </p:blipFill>
        <p:spPr>
          <a:xfrm>
            <a:off x="3386160" y="1403280"/>
            <a:ext cx="354816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in Canad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unprepared for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captured Detroit and the Americans failed to capture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y Native Americans helped the British because they wanted to stop Americans from taking more la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5" name="Picture 14" descr="war1812"/>
          <p:cNvPicPr/>
          <p:nvPr/>
        </p:nvPicPr>
        <p:blipFill>
          <a:blip r:embed="rId1"/>
          <a:stretch/>
        </p:blipFill>
        <p:spPr>
          <a:xfrm>
            <a:off x="152280" y="11430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invade canada"/>
          <p:cNvPicPr/>
          <p:nvPr/>
        </p:nvPicPr>
        <p:blipFill>
          <a:blip r:embed="rId2"/>
          <a:stretch/>
        </p:blipFill>
        <p:spPr>
          <a:xfrm>
            <a:off x="1676520" y="4334040"/>
            <a:ext cx="3714480" cy="26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95324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at Se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U.S. Navy was young and outnumber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November of 1812, the British blockaded the Chesapeake and Delaware Bay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lockade grew throughout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13, most American ships were unable to leave their po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8" name="Picture 15" descr="1812Jansonsinking"/>
          <p:cNvPicPr/>
          <p:nvPr/>
        </p:nvPicPr>
        <p:blipFill>
          <a:blip r:embed="rId1"/>
          <a:stretch/>
        </p:blipFill>
        <p:spPr>
          <a:xfrm>
            <a:off x="5159520" y="1752480"/>
            <a:ext cx="3832200" cy="495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18:11:47Z</dcterms:created>
  <dc:creator>Liz Koppany</dc:creator>
  <dc:description/>
  <dc:language>en-US</dc:language>
  <cp:lastModifiedBy>RomaK</cp:lastModifiedBy>
  <dcterms:modified xsi:type="dcterms:W3CDTF">2015-09-04T09:34:37Z</dcterms:modified>
  <cp:revision>77</cp:revision>
  <dc:subject/>
  <dc:title>Slide 1</dc:title>
</cp:coreProperties>
</file>