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36CA-0D5D-4648-95E6-A194321E7C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543D-805D-4FFE-BDED-2C119396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4F9-F160-4382-95F5-6C551D3B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29D-E079-4B74-9681-64327970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B40-A072-4C37-B5F3-AC4D9540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DD54-B852-455B-92B3-D60DF43F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EA62-920B-4DF0-9E3E-AB6937DF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235F-1B30-4AA8-BD27-80BA3652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90CA-5B57-455E-8723-BE4FD965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B062-10B4-417B-A157-F8DC4376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75EA-B3F1-4F78-8806-F2BE2536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F839-8706-4B91-A2D7-A225BEEE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825-BACE-49E2-8F51-B8196A74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BBBD-C168-43D4-A6B0-2CC79C97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28BD-272D-43D5-B541-0A8AA03C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78A6-D22E-4257-8937-A4542C80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AB13-C426-4145-98AA-C8535F6A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476B-C107-421B-BC07-B299BDD4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81CC3-7274-4A5F-A7B8-4FDF20A2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34C66-3185-4DD1-8F34-452BE516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9F067-CF89-4B14-8600-DD4F6687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80A0C-80A7-418B-AF80-2D96C6DC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E4E8C-8A84-4B57-BF5F-567148EB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5E0-3E1B-442C-A098-7EF1A3B7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44605-9827-467C-B0E7-7634E5E0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7865-A548-4367-BEB6-C5CA135C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FD416-1210-4508-A0EC-CEEAC726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0467C-2107-4FCE-9D74-5F2FFC5E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1D1C4-5663-4FF5-A505-46C86225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A8EC0-6365-46FB-91D6-0271FBFD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8CAF5-8127-4A17-833D-C0687612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AC367-91CF-4D94-BD90-5543BA4B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66515-4F0C-4C07-B2E7-D4BECF40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94CBF-537E-485B-9E3E-0CC2484B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8D9-9DA0-41D1-9E16-5B884BE1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0FBFF-3B13-4ABF-A42E-F6F2A51B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CC8F1-04E7-489E-97C4-6A8A2BD8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1F56A-116B-471F-9E45-4F032B3C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DF4BD-507B-440F-B448-4A647D6C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CF675-61DE-4361-B6DE-F53A965D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36A68-428C-4673-BAAD-4E87A5D1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CC738-BDEB-43FC-A851-8AB905F9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E32D8-CA4B-4585-99FE-3012B925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03C67-FDF1-42E9-8FF7-91A7C72E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B44-33B2-4A5D-B5D3-7EAC7F91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C4E-B636-4C86-9E33-BEAF6419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24D-2268-496E-A5EF-67001E40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7C3-7233-4E73-A83E-32877CF1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F5B3-49AE-4A2E-BB5C-87F470C4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Rectangle 3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F2DA-D0EC-4008-957B-29F051A8F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A88C-8F6C-411C-B418-D65AFE9EF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5669-39F7-4F5C-A51E-EB505E6E3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131" name="Rectangle 3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5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134" name="Freeform 6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8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9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B511-C34D-40A2-BACC-418424EE8CB9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ernhardMod BT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map 1812"/>
          <p:cNvPicPr/>
          <p:nvPr/>
        </p:nvPicPr>
        <p:blipFill>
          <a:blip r:embed="rId1"/>
          <a:stretch/>
        </p:blipFill>
        <p:spPr>
          <a:xfrm>
            <a:off x="762120" y="3240"/>
            <a:ext cx="7772400" cy="683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2" descr="123"/>
          <p:cNvPicPr/>
          <p:nvPr/>
        </p:nvPicPr>
        <p:blipFill>
          <a:blip r:embed="rId1"/>
          <a:stretch/>
        </p:blipFill>
        <p:spPr>
          <a:xfrm>
            <a:off x="304920" y="1143000"/>
            <a:ext cx="2617560" cy="3200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038120" y="1447560"/>
            <a:ext cx="4953240" cy="5257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on Land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for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invaded Washington, D.C. in 181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ish soldiers burned the Capitol, the White House, and other public building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fore the British burned the White House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olley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aved a famous painting of George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2" name="Picture 25" descr="Dolly Fire"/>
          <p:cNvPicPr/>
          <p:nvPr/>
        </p:nvPicPr>
        <p:blipFill>
          <a:blip r:embed="rId2"/>
          <a:stretch/>
        </p:blipFill>
        <p:spPr>
          <a:xfrm>
            <a:off x="1371600" y="3887640"/>
            <a:ext cx="4038480" cy="282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886200" y="1752480"/>
            <a:ext cx="510552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at Fort McHenr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rancis Scott Ke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an American lawyer and prisoner of the Britis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w an American flag flying over Ft. McHenry after the batt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flag inspired Key to write “The Star-Spangled Banner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4" name="Picture 3" descr="FortMcHenry1814a"/>
          <p:cNvPicPr/>
          <p:nvPr/>
        </p:nvPicPr>
        <p:blipFill>
          <a:blip r:embed="rId1"/>
          <a:stretch/>
        </p:blipFill>
        <p:spPr>
          <a:xfrm>
            <a:off x="228600" y="1143000"/>
            <a:ext cx="2619360" cy="3429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flag"/>
          <p:cNvPicPr/>
          <p:nvPr/>
        </p:nvPicPr>
        <p:blipFill>
          <a:blip r:embed="rId2"/>
          <a:stretch/>
        </p:blipFill>
        <p:spPr>
          <a:xfrm>
            <a:off x="1542960" y="4324320"/>
            <a:ext cx="3181320" cy="23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5192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Battle of New Orleans (1815)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most famous/important battle of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lead to victory by General Andrew Jack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attle continued even after the war ended because word did not reach the Americans for several week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Picture 8" descr="bonorr"/>
          <p:cNvPicPr/>
          <p:nvPr/>
        </p:nvPicPr>
        <p:blipFill>
          <a:blip r:embed="rId1"/>
          <a:stretch/>
        </p:blipFill>
        <p:spPr>
          <a:xfrm>
            <a:off x="6019920" y="3733920"/>
            <a:ext cx="2933640" cy="294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ajackson"/>
          <p:cNvPicPr/>
          <p:nvPr/>
        </p:nvPicPr>
        <p:blipFill>
          <a:blip r:embed="rId2"/>
          <a:stretch/>
        </p:blipFill>
        <p:spPr>
          <a:xfrm>
            <a:off x="4672080" y="1219320"/>
            <a:ext cx="2185920" cy="283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Ghent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24544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Treaty of Ghent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December, 1815, British and Americans met in Ghent, Belgium to negotiate a peace trea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esults of the wa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American became better all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 gained respect from other count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4" descr="Treaty of Ghent"/>
          <p:cNvPicPr/>
          <p:nvPr/>
        </p:nvPicPr>
        <p:blipFill>
          <a:blip r:embed="rId2"/>
          <a:stretch/>
        </p:blipFill>
        <p:spPr>
          <a:xfrm>
            <a:off x="1447920" y="3886200"/>
            <a:ext cx="3504960" cy="245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dddddd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ernhardMod BT"/>
              </a:rPr>
              <a:t>End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1447920" y="10666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hapter 6, Sec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809880" y="1752120"/>
            <a:ext cx="51818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auses of the War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France were fighting a war in Europ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began capturing American sailors and “impressing” them, or forcing them to work on British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07, Britain had seized more than 1,000 American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1" name="Picture 11" descr="impressment2"/>
          <p:cNvPicPr/>
          <p:nvPr/>
        </p:nvPicPr>
        <p:blipFill>
          <a:blip r:embed="rId1"/>
          <a:stretch/>
        </p:blipFill>
        <p:spPr>
          <a:xfrm>
            <a:off x="152280" y="1143000"/>
            <a:ext cx="3505320" cy="3006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92" name="Picture 7" descr="1808_11ill"/>
          <p:cNvPicPr/>
          <p:nvPr/>
        </p:nvPicPr>
        <p:blipFill>
          <a:blip r:embed="rId2"/>
          <a:stretch/>
        </p:blipFill>
        <p:spPr>
          <a:xfrm>
            <a:off x="1676520" y="4191120"/>
            <a:ext cx="3352680" cy="246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9" descr="149-Embargo"/>
          <p:cNvPicPr/>
          <p:nvPr/>
        </p:nvPicPr>
        <p:blipFill>
          <a:blip r:embed="rId1"/>
          <a:stretch/>
        </p:blipFill>
        <p:spPr>
          <a:xfrm>
            <a:off x="76320" y="1523880"/>
            <a:ext cx="3902040" cy="2602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657240" y="1752120"/>
            <a:ext cx="5334120" cy="43434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Embargo Act of 180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sident Jefferson convinced Congress to declare an embarg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efferson believed the embargo would hurt Britain, but it really hurt Americ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1809, Congress ended the embargo with all countries except Britain and Fr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5" name="Picture 17" descr="no embargo"/>
          <p:cNvPicPr/>
          <p:nvPr/>
        </p:nvPicPr>
        <p:blipFill>
          <a:blip r:embed="rId2"/>
          <a:stretch/>
        </p:blipFill>
        <p:spPr>
          <a:xfrm>
            <a:off x="1371600" y="4137120"/>
            <a:ext cx="3433680" cy="241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46483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merica’s Desire for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saw that Canada was not well-defended by 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anted more land and believed that people in Canada would want to join the United St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7" name="Picture 11" descr="Map: British North America and the United States at the time of the War"/>
          <p:cNvPicPr/>
          <p:nvPr/>
        </p:nvPicPr>
        <p:blipFill>
          <a:blip r:embed="rId1"/>
          <a:stretch/>
        </p:blipFill>
        <p:spPr>
          <a:xfrm>
            <a:off x="4572000" y="1143000"/>
            <a:ext cx="451656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809880" y="1752480"/>
            <a:ext cx="5181840" cy="37339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Hawks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group of Republican Congressmen from the South and We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anted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d by Senator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ohn C. Calhou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South Carolina and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enry Clar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Kentuck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9" name="Picture 10" descr="john c calhoun"/>
          <p:cNvPicPr/>
          <p:nvPr/>
        </p:nvPicPr>
        <p:blipFill>
          <a:blip r:embed="rId1"/>
          <a:stretch/>
        </p:blipFill>
        <p:spPr>
          <a:xfrm>
            <a:off x="228600" y="1143000"/>
            <a:ext cx="2765520" cy="3154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henry clay"/>
          <p:cNvPicPr/>
          <p:nvPr/>
        </p:nvPicPr>
        <p:blipFill>
          <a:blip r:embed="rId2"/>
          <a:stretch/>
        </p:blipFill>
        <p:spPr>
          <a:xfrm>
            <a:off x="1371600" y="3657600"/>
            <a:ext cx="2808360" cy="315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28958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Election of 1808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ames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a Democratic-Republican, w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the Spring of 1812, Madison decided to go to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2" name="Picture 9" descr="war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4648320" y="3719520"/>
            <a:ext cx="4267080" cy="29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Madison"/>
          <p:cNvPicPr/>
          <p:nvPr/>
        </p:nvPicPr>
        <p:blipFill>
          <a:blip r:embed="rId2"/>
          <a:stretch/>
        </p:blipFill>
        <p:spPr>
          <a:xfrm>
            <a:off x="3386160" y="1403280"/>
            <a:ext cx="3548160" cy="248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in Canad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unprepared for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captured Detroit and the Americans failed to capture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y Native Americans helped the British because they wanted to stop Americans from taking more la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5" name="Picture 14" descr="war1812"/>
          <p:cNvPicPr/>
          <p:nvPr/>
        </p:nvPicPr>
        <p:blipFill>
          <a:blip r:embed="rId1"/>
          <a:stretch/>
        </p:blipFill>
        <p:spPr>
          <a:xfrm>
            <a:off x="152280" y="11430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invade canada"/>
          <p:cNvPicPr/>
          <p:nvPr/>
        </p:nvPicPr>
        <p:blipFill>
          <a:blip r:embed="rId2"/>
          <a:stretch/>
        </p:blipFill>
        <p:spPr>
          <a:xfrm>
            <a:off x="1676520" y="4334040"/>
            <a:ext cx="3714480" cy="26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95324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at Se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U.S. Navy was young and outnumber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November of 1812, the British blockaded the Chesapeake and Delaware Bay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lockade grew throughout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13, most American ships were unable to leave their por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8" name="Picture 15" descr="1812Jansonsinking"/>
          <p:cNvPicPr/>
          <p:nvPr/>
        </p:nvPicPr>
        <p:blipFill>
          <a:blip r:embed="rId1"/>
          <a:stretch/>
        </p:blipFill>
        <p:spPr>
          <a:xfrm>
            <a:off x="5159520" y="1752480"/>
            <a:ext cx="3832200" cy="495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18:11:47Z</dcterms:created>
  <dc:creator>Liz Koppany</dc:creator>
  <dc:description/>
  <dc:language>en-US</dc:language>
  <cp:lastModifiedBy>RomaK</cp:lastModifiedBy>
  <dcterms:modified xsi:type="dcterms:W3CDTF">2015-09-04T09:34:37Z</dcterms:modified>
  <cp:revision>77</cp:revision>
  <dc:subject/>
  <dc:title>Slide 1</dc:title>
</cp:coreProperties>
</file>