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3035-A7B2-4D76-B3A6-E6FC93B799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15A-8428-4267-B7A4-59A6EA7C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BF2-D2A3-41A8-BB96-8027977F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766-E59C-4CBA-A697-B93BABE0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065C-ED9A-41FF-BF39-5E5D5730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6F0-A95E-409F-90FB-8980FA65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252E-8A48-4913-BB6A-F80E5164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A1D-825B-4688-9F0E-CE40CC80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7B4-B4B3-48CE-B833-D37A6EFF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8BE-FA23-42F6-9EBA-BF42C120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BC9-33D3-42F4-901E-2908BB09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99E-6E4A-47B9-B511-0AE77A6B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355-35A0-406C-A83E-9B4F511A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1B60-C783-48C6-92AD-CF546D59ECD6}" type="slidenum">
              <a:rPr b="0" lang="en-GB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Railroads</a:t>
            </a:r>
            <a:br>
              <a:rPr sz="4400"/>
            </a:br>
            <a:r>
              <a:rPr b="0" lang="en-GB" sz="3200" spc="-1" strike="noStrike">
                <a:solidFill>
                  <a:srgbClr val="ff66ff"/>
                </a:solidFill>
                <a:latin typeface="High Tower Text"/>
              </a:rPr>
              <a:t>The first transcontinental railroad</a:t>
            </a:r>
            <a:endParaRPr b="0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High Tower Text"/>
              </a:rPr>
              <a:t>The American W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Building of the Railroads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Built in 1860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Two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Central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Union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Met and joined railroad in Promontory, Uta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Date of completion 10 May 186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By 1893 there were 6 major railroad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Why did America need Railroads?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Communication from East to West was not very go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velling time from East to West took 6 months 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It would help fulfil ‘Manifest Destiny’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he U.S. needed to keep up with other count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de links with China and Jap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elp to bring law and order to the Wes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Quick and easy travel to the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Previous method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Wagon Tr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Foo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By bo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Pony Expres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The railroad turned a 6 month journey into a maximum of 8 day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" name="Picture 9" descr="wagon%20train"/>
          <p:cNvPicPr/>
          <p:nvPr/>
        </p:nvPicPr>
        <p:blipFill>
          <a:blip r:embed="rId1"/>
          <a:stretch/>
        </p:blipFill>
        <p:spPr>
          <a:xfrm>
            <a:off x="4500720" y="1989000"/>
            <a:ext cx="4392360" cy="31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Cheap land for people wanting to go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Once the Railroads were built the Railroad companies had no use for the excess la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Sold land off chea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Benefitted Homesteaders and Ranchers who came wes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Picture 6" descr="10772801"/>
          <p:cNvPicPr/>
          <p:nvPr/>
        </p:nvPicPr>
        <p:blipFill>
          <a:blip r:embed="rId1"/>
          <a:stretch/>
        </p:blipFill>
        <p:spPr>
          <a:xfrm>
            <a:off x="179280" y="2060640"/>
            <a:ext cx="453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Destruction of the Indians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used the Railroad to go west to hunt the buffal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were only interested in buffalo sk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75 sou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85 nor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Indians depended on the buffalo, but now they were gone! </a:t>
            </a:r>
            <a:r>
              <a:rPr b="0" lang="cy-GB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6" descr="buffalo-skulls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Helps develop the Cattle Industry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attle were transported by the railroads making it easier to move them from Texas to the Ea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ow Towns grew up around these railroad sto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8" descr="CattleMarket%20Engrave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66ff"/>
                </a:solidFill>
                <a:latin typeface="High Tower Text"/>
              </a:rPr>
              <a:t>Task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Essay Question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ow important were the railroad and railroad companies in opening up the wes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1:  Plann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2:  Writ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42:06Z</dcterms:created>
  <dc:creator>cjames</dc:creator>
  <dc:description>The Railroads The first transcontinental railroad</dc:description>
  <cp:keywords>The Railroads The first transcontinental railroad</cp:keywords>
  <dc:language>en-US</dc:language>
  <cp:lastModifiedBy>RomaK</cp:lastModifiedBy>
  <dcterms:modified xsi:type="dcterms:W3CDTF">2015-09-04T09:34:31Z</dcterms:modified>
  <cp:revision>8</cp:revision>
  <dc:subject>The Railroads The first transcontinental railroad</dc:subject>
  <dc:title>The Railroads The first transcontinental railroad</dc:title>
</cp:coreProperties>
</file>