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6B05-7287-4E3C-BAD5-4AC3E02ADC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Railroads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first transcontinental railroa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ilroa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ranscontinental railr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Building of the Railroad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uilt in 1860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wo compani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entral Pacific Railroad Compan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nion Pacific Railroad Compan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et and joined railroad in Promontory, Utah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Date of completion 10 May 1869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y 1893 there were 6 major railroad compani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ilding of the Railr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in 1860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ompa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Pacific Railroad 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on Pacific Railroad 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 and joined railroad in Promontory,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 of completion 10 May 18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93 there were 6 major railroad compa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hy did America need Railroads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ommunication from East to West was not very goo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ravelling time from East to West took 6 months +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t would help fulfil ‘Manifest Destiny’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U.S. needed to keep up with other countri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rade links with China and Japa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elp to bring law and order to the We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America need Railroa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from East to West was not very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ling time from East to West took 6 months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uld help fulfil ‘Manifest Destin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needed to keep up with other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 links with China and 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to bring law and order to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ffect of the Railroads: Quick and easy travel to the We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Previous method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agon Trai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oo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y boa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Pony Expres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railroad turned a 6 month journey into a maximum of 8 day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the Railroads: Quick and easy travel to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ous metho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gon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y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ilroad turned a 6 month journey into a maximum of 8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ffect of the Railroads: Cheap land for people wanting to go We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Once the Railroads were built the Railroad companies had no use for the excess lan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d land off cheap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nefitted Homesteaders and Ranchers who came west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the Railroads: Cheap land for people wanting to go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Railroads were built the Railroad companies had no use for the exces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 land off che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ted Homesteaders and Ranchers who came w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ffect of the Railroads: Destruction of the India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unters used the Railroad to go west to hunt the buffal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unters were only interested in buffalo ski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875 southern buffalo herds wiped ou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885 northern buffalo herds wiped ou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ndians depended on the buffalo, but now they were gone! 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the Railroads: Destruction of the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nters used the Railroad to go west to hunt the buffa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nters were only interested in buffalo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75 southern buffalo herds wiped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5 northern buffalo herds wiped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s depended on the buffalo, but now they were gone! 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ffect of the Railroads: Helps develop the Cattle Industr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attle were transported by the railroads making it easier to move them from Texas to the Ea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ow Towns grew up around these railroad stop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the Railroads: Helps develop the Cattle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tle were transported by the railroads making it easier to move them from Texas to th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 Towns grew up around these railroad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ssay Question: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ow important were the railroad and railroad companies in opening up the west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tep 1:  Planning your answ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tep 2:  Writing your answ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ay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mportant were the railroad and railroad companies in opening up the w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 Planning your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 Writing your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BDD6-1E55-40FD-BF83-92D237A80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A6EC-7034-489E-8E59-932FDB50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3F8D-FFB3-47A7-B370-47872D59A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07D9-E441-4773-84AF-DD1A186F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A8A6-EBC9-4BB3-8C0F-D5166935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31FB-5CCD-4947-9F10-A2DC89EE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E1ED-2BA7-47A8-BA9D-ED7FCF27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B959-B94F-43F9-BF70-DBF9FD72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E671-4EF0-4E3E-B510-FDED3491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CA7C-095D-4A8A-A7F2-26337996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5456-4C93-47E5-B2B0-D7914097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DF17-3F3E-4F13-BA6B-6B0AE257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86F3-C744-4BAA-B801-3E0D3CA8618B}" type="slidenum">
              <a:rPr b="0" lang="en-GB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6ff"/>
                </a:solidFill>
                <a:latin typeface="High Tower Text"/>
              </a:rPr>
              <a:t>The Railroads</a:t>
            </a:r>
            <a:br>
              <a:rPr sz="4400"/>
            </a:br>
            <a:r>
              <a:rPr b="0" lang="en-GB" sz="3200" spc="-1" strike="noStrike">
                <a:solidFill>
                  <a:srgbClr val="ff66ff"/>
                </a:solidFill>
                <a:latin typeface="High Tower Text"/>
              </a:rPr>
              <a:t>The first transcontinental railroad</a:t>
            </a:r>
            <a:endParaRPr b="0" lang="en-US" sz="32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High Tower Text"/>
              </a:rPr>
              <a:t>The American We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6ff"/>
                </a:solidFill>
                <a:latin typeface="High Tower Text"/>
              </a:rPr>
              <a:t>The Building of the Railroads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Built in 1860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Two compan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Central Pacific Railroad Compan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Union Pacific Railroad Compan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Met and joined railroad in Promontory, Uta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Date of completion 10 May 1869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By 1893 there were 6 major railroad compan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6ff"/>
                </a:solidFill>
                <a:latin typeface="High Tower Text"/>
              </a:rPr>
              <a:t>Why did America need Railroads?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Communication from East to West was not very goo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Travelling time from East to West took 6 months +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It would help fulfil ‘Manifest Destiny’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The U.S. needed to keep up with other countr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Trade links with China and Japa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Help to bring law and order to the Wes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ff"/>
                </a:solidFill>
                <a:latin typeface="High Tower Text"/>
              </a:rPr>
              <a:t>Effect of the Railroads: Quick and easy travel to the West</a:t>
            </a:r>
            <a:endParaRPr b="0" lang="en-US" sz="40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Previous methods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Wagon Trai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Foo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By bo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Pony Expres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The railroad turned a 6 month journey into a maximum of 8 day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6" name="Picture 9" descr="wagon%20train"/>
          <p:cNvPicPr/>
          <p:nvPr/>
        </p:nvPicPr>
        <p:blipFill>
          <a:blip r:embed="rId1"/>
          <a:stretch/>
        </p:blipFill>
        <p:spPr>
          <a:xfrm>
            <a:off x="4500720" y="1989000"/>
            <a:ext cx="4392360" cy="317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ff"/>
                </a:solidFill>
                <a:latin typeface="High Tower Text"/>
              </a:rPr>
              <a:t>Effect of the Railroads: Cheap land for people wanting to go West</a:t>
            </a:r>
            <a:endParaRPr b="0" lang="en-US" sz="40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Once the Railroads were built the Railroad companies had no use for the excess lan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Sold land off cheap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Benefitted Homesteaders and Ranchers who came west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9" name="Picture 6" descr="10772801"/>
          <p:cNvPicPr/>
          <p:nvPr/>
        </p:nvPicPr>
        <p:blipFill>
          <a:blip r:embed="rId1"/>
          <a:stretch/>
        </p:blipFill>
        <p:spPr>
          <a:xfrm>
            <a:off x="179280" y="2060640"/>
            <a:ext cx="4537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ff"/>
                </a:solidFill>
                <a:latin typeface="High Tower Text"/>
              </a:rPr>
              <a:t>Effect of the Railroads: Destruction of the Indians</a:t>
            </a:r>
            <a:endParaRPr b="0" lang="en-US" sz="40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Hunters used the Railroad to go west to hunt the buffal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Hunters were only interested in buffalo ski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1875 southern buffalo herds wiped o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1885 northern buffalo herds wiped o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Indians depended on the buffalo, but now they were gone! </a:t>
            </a:r>
            <a:r>
              <a:rPr b="0" lang="cy-GB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2" name="Picture 6" descr="buffalo-skulls"/>
          <p:cNvPicPr/>
          <p:nvPr/>
        </p:nvPicPr>
        <p:blipFill>
          <a:blip r:embed="rId1"/>
          <a:stretch/>
        </p:blipFill>
        <p:spPr>
          <a:xfrm>
            <a:off x="4648320" y="1773360"/>
            <a:ext cx="40384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ff"/>
                </a:solidFill>
                <a:latin typeface="High Tower Text"/>
              </a:rPr>
              <a:t>Effect of the Railroads: Helps develop the Cattle Industry</a:t>
            </a:r>
            <a:endParaRPr b="0" lang="en-US" sz="40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Cattle were transported by the railroads making it easier to move them from Texas to the Ea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Cow Towns grew up around these railroad stop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5" name="Picture 8" descr="CattleMarket%20Engrave"/>
          <p:cNvPicPr/>
          <p:nvPr/>
        </p:nvPicPr>
        <p:blipFill>
          <a:blip r:embed="rId1"/>
          <a:stretch/>
        </p:blipFill>
        <p:spPr>
          <a:xfrm>
            <a:off x="457200" y="1989000"/>
            <a:ext cx="403848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ff66ff"/>
                </a:solidFill>
                <a:latin typeface="High Tower Text"/>
              </a:rPr>
              <a:t>Task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Essay Question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How important were the railroad and railroad companies in opening up the west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Step 1:  Planning your answ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Step 2:  Writing your answ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5:42:06Z</dcterms:created>
  <dc:creator>cjames</dc:creator>
  <dc:description>The Railroads The first transcontinental railroad</dc:description>
  <cp:keywords>The Railroads The first transcontinental railroad</cp:keywords>
  <dc:language>en-US</dc:language>
  <cp:lastModifiedBy>RomaK</cp:lastModifiedBy>
  <dcterms:modified xsi:type="dcterms:W3CDTF">2015-09-04T09:34:31Z</dcterms:modified>
  <cp:revision>8</cp:revision>
  <dc:subject>The Railroads The first transcontinental railroad</dc:subject>
  <dc:title>The Railroads The first transcontinental railroad</dc:title>
</cp:coreProperties>
</file>