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FB13-13BA-45ED-B023-160C709172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D7A-AA35-4CF0-90FA-D194CB98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348-F876-4B6D-8578-7646E909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ED6-479A-4F46-9FC8-98746266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470-C045-4407-91F1-9D2D6A3B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4D7D-6388-436F-B770-C74A00A6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F693-19E3-402D-BA71-7D0AD025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6B56-984C-474C-A48F-EDA4CC26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1C1A-D648-48AE-BCDB-B01952CA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5D5D-24CE-4455-8875-F056ADF4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9829-D485-4638-88E9-1B6790B1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1475-01C4-419C-94CB-A46D375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667-BA82-4A0F-85C8-02E2EFF9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E3CB-08CD-4115-BB02-6B986257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6B61-C32B-4A34-A36B-383F46C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CDD5-986D-450D-9DC9-E2073B86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FF0A-A829-46D6-9613-AA844678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5AB2-BB86-44E5-924D-FDED59A7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C52-12F8-4FE2-8E66-74FD0778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4D6-81D3-41EF-B7C2-F770782F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8ED-75E3-420C-8D70-CD14E177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53A-0203-499F-A281-FF9CD36F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4DE-8690-4AED-BE18-E7A2A9E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4BC-C5A6-4F0F-A868-71655CF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28B-78FA-49C3-AE57-63993A4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51D7-8201-48C1-809B-D1D31069A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BDE1-4591-4C96-A966-2E4D25292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RomaK</cp:lastModifiedBy>
  <dcterms:modified xsi:type="dcterms:W3CDTF">2015-09-04T09:34:23Z</dcterms:modified>
  <cp:revision>9</cp:revision>
  <dc:subject/>
  <dc:title>The Persian Wars</dc:title>
</cp:coreProperties>
</file>