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9166-2128-44C3-88A3-37266DFCD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C3A-01A2-4E51-99A4-0B863465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48F-2B6B-4110-AF63-B05E7426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748-0E05-489C-B802-702A74B2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AC4-9823-48A2-B43A-04489599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68E6-15A4-4661-BB15-C2DCC2D8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DC04-9281-4D71-BB90-BB28B7C9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2397-7262-49C9-988F-E2740EB5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E016-9BC7-4516-9651-4B9EDB40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7BB3-783A-4E08-940D-D929F7CE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BB8B-CFC1-49EB-934E-9C3E39FE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D407-6A0F-4F87-8464-DE24AC6A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FFA-B1EC-4110-935A-85CE5582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2E25-7201-4E0A-B6BA-FC5B9F39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A9B8-14E8-4182-9A6C-57A17B0E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E975-1BCC-431B-A2BE-7FA381DC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F4B5-EDAB-4693-9453-EA6B77FE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13D9-74DF-40DE-8287-CD8877C1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0E9-405D-42F7-B838-8C5D5778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BC6-1E19-4900-816C-649FD6E6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5A0-6F44-4132-97AE-1D18A9C3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AD4-ACE6-422A-8E95-92A03DA3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C66-0147-403A-8AE7-746C430D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554-ABF1-41A8-B17C-76F31C4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D4E-238D-42DB-B092-DFBB4B3F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1EB6-D3EF-496D-BD21-220E76A40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6A79-EB11-4837-A76B-50ABCCEC7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RomaK</cp:lastModifiedBy>
  <dcterms:modified xsi:type="dcterms:W3CDTF">2015-09-04T09:34:23Z</dcterms:modified>
  <cp:revision>9</cp:revision>
  <dc:subject/>
  <dc:title>The Persian Wars</dc:title>
</cp:coreProperties>
</file>