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A649-4628-463D-B3A5-B9AEA2051B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5CB-A640-4AC9-B45E-5735E023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018-87FC-48FF-94A4-6981F6C8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E0F-FEC9-4749-B4A7-56A63F4B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848-46CB-451D-940A-3454E8C1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10A7-EAAE-4231-8E7E-F8BAAC7D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7164-AE37-492D-85C8-FDE393EC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6476-6E75-46CC-9C33-CF8F2330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9E91-F82C-4B95-8F74-C1E76C37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FF06-5BB1-4E60-B5C1-D4D9AD42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A650-CE07-462D-91FF-2E20707C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3B3E-5F3C-4E90-87C2-51511BE9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7E0-7336-43E1-8272-F22C0F61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DAEC-AE22-4EC6-91FA-586C00C8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5222-1EEF-46AF-A954-35440D42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A611-5BF6-4759-8CE6-F0CBA1FC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12E5-DE17-416A-BD87-0959C989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2059-13C2-4DC0-BBA7-339B5649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C62-A28D-45D4-A048-C5293E63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0EA-6E28-4103-9DBD-EE207630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2C8-B7C5-4FED-9DB7-AF0DE3D2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B50-C278-4577-972A-24471295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765-7C6F-4C0C-8086-2C836A54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577-2DC9-424E-BAE0-709B0DA4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F60-73F2-4EC5-B3F0-ABB5CB9B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52DE-DBC6-45B0-A5F7-8D37F05785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B0D8-A2C9-4EB3-8E05-15190F34E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RomaK</cp:lastModifiedBy>
  <dcterms:modified xsi:type="dcterms:W3CDTF">2015-09-04T09:34:23Z</dcterms:modified>
  <cp:revision>9</cp:revision>
  <dc:subject/>
  <dc:title>The Persian Wars</dc:title>
</cp:coreProperties>
</file>