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5EF3-0251-4D00-B4FB-3C80B3D41B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Unit Two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. The French Monarchy in Crisi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789 to 1815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Tw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 The French Monarchy in 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89 to 18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Unit Two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I. A Moderate Start to the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789 to 1815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Tw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. A Moderate Start to the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89 to 18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fi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Émigré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erson who flees his or her country for political reas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Limited monarch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overnment in which a monarch’s powers are limited, usually by a constitution and a legislative bod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public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ystem of government in which citizens who have the right to vote choose their lead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body of fundamental principles according to which a state is govern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adic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xtrem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odera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t extreme, mil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Liber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reedom, being fre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qua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dition of being equ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ratern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rotherly or like broth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ig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ule; the rule of a monarch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Émigr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who flees his or her country for political rea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monarc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in which a monarch’s powers are limited, usually by a constitution and a legislativ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of government in which citizens who have the right to vote choose their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dy of fundamental principles according to which a state is gover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xtreme, m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om, being 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 of being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ter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therly or like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; the rule of a monarc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tes:  II.  A Moderate Start to the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.  Reforms of the Assembly: 1789 Augus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uprisings forced action from the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ssembly made huge reform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bolished most feudal custom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nded serfdom; ended tax exempt privilege of nob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ll male citizens eligible for government/church posit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dopted Declaration of the Rights of Ma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democratic princip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quality for all citize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rotection of personal proper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fluenced by ideas of philosoph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ligious reforms: 1789-90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reedom of worship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ntrol of church given to the governm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itizens could elect bishops/pri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elling of church lan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nstitution: 179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rance a limited monarch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eparation of powers: executive, legislative, judiciar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ontesquieu’s three branch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untry divided into 83 reg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qual rights to all citize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.  Responses: 179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ny dissatisfied with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ome thought it went too far or not far enoug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fled France – émigré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oyal family tried to flee but fail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ept under guar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demands for end of monarchy and establishment of a Republic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ise of radical parties and their representativ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ximilian Robespierr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.  Estates General to National Assembly: 1789 May-Ju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ach estate elected deputi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3rd estate wanted all estates to meet together with equal votes for deputi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 the past, estates met separately; had one vote per esta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eant 1st and 2nd estates could outvote 3r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3rd estate hoped individual deputies from other estates would support the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ordered estates to meet separate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3rd estate declared themselves the National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laimed the right to write a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ennis Court Oat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3rd estate swore not to leave without a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gave in and estates met togeth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ny division between and within the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.  Popular Uprisings: 1789 Ju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and workers in Paris wanted quick action from the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till faced inflation, unemployment, food shorta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order troops to Paris; caused more unres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July 14: Paris crowd stormed the Bastill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in the countryside turned on landlor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aided storehouses, destroyed tax recor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nducting own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:  II.  A Moderate Start to the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Reforms of the Assembly: 1789 Aug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uprisings forced action from the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ssembly made huge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bolished most feudal cus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nded serfdom; ended tax exempt privilege of no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 male citizens eligible for government/church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dopted Declaration of the Rights of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mocratic princ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quality for all citiz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tection of personal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fluenced by ideas of philosop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ligious reforms: 1789-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reedom of wo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rol of church given to the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itizens could elect bishops/pri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lling of church 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stitution: 17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rance a limited monarc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paration of powers: executive, legislative, judici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ntesquieu’s three bra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untry divided into 83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qual rights to all citiz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Responses: 17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dissatisfied with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me thought it went too far or not far en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fled France – émigr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oyal family tried to flee but fai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ept under gu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mands for end of monarchy and establishment of a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se of radical parties and their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ximilian Robespier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Estates General to National Assembly: 1789 May-J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ach estate elected depu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rd estate wanted all estates to meet together with equal votes for depu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 the past, estates met separately; had one vote per e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eant 1st and 2nd estates could outvote 3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rd estate hoped individual deputies from other estates would support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ordered estates to meet sepa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rd estate declared themselves the National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laimed the right to write a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ennis Court O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rd estate swore not to leave without a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gave in and estates me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division between and within the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Popular Uprisings: 1789 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and workers in Paris wanted quick action from the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ill faced inflation, unemployment, food shor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order troops to Paris; caused more un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July 14: Paris crowd stormed the Bast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in the countryside turned on landl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aided storehouses, destroyed tax rec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ducting own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ection Review: page 30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. Identify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ennis Court Oath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legates of the Third Estate and some nobles and clergy swore an oath not to disband until they had a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ational Assembly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Third Estate declared itself this in order to write a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claration of the Rights of Man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dopted by the National Assembly – stated the democratic principles that would define the French governm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ivil Constitution of the Clergy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790, gave the government control of the church and allowed citizens to elect bishops and pri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3.  Why did the Third Estate want the Estates General to meet as a single body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o avoid being outvoted by the First and Second Estates.  If each delegate had a vote then the 3rd Estate, with help from sympathizers from the 1st and 2nd, could win a majority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Review: page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Identif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nis Court Oath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f the Third Estate and some nobles and clergy swore an oath not to disband until they had a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Assembl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rd Estate declared itself this in order to write a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ation of the Rights of Ma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opted by the National Assembly – stated the democratic principles that would define the French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vil Constitution of the Clerg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90, gave the government control of the church and allowed citizens to elect bishops and pri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y did the Third Estate want the Estates General to meet as a single bo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void being outvoted by the First and Second Estates.  If each delegate had a vote then the 3rd Estate, with help from sympathizers from the 1st and 2nd, could win a major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significance did the main events play during the course of the French Revolution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states General Summon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ird Estate declares itself the National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pular uprisings (Paris and peasant revolts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forms of the National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Constitution of 179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sponses to the Constitution of 179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rance at wa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ational Conven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ttacks on the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ign of Terro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ignificance did the main events play during the course of the French Rev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tes General Summ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Estate declares itself the National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 uprisings (Paris and peasant revol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orms of the National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itution of 17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s to the Constitution of 17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e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acks on the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ign of T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conom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is meant by a country’s economy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happens when a country’s economy is prospering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fine: Econom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production, distribution, and consumption of goo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eant by a country’s econom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a country’s economy is prosper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: 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ion, distribution, and consumption of g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conom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oo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roduc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istrib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sump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aking Someth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o receives the products and how much they receiv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kind of products are purchas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m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receives the products and how much they rece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products are purch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tes: Unit Two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.  The French Monarchy in Crisi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.  Overview of France: 1700’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ichest, most powerful nation in Europ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trong army and nav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hilosophers led the Enlightenm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fluential in fashions, art and cloth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ut was suffering a growing economic crises made difficult by the traditional political/social syste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.  The Old Regime (Anciem Regime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.  Structur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onarch has absolute pow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entralized power in royal ‘bureaucracy’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work to preserve royal authority and social structur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ople divided into three estates (classes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irst: clergy; second: nobility; third: common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. 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.  First Estate: Clergy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 and comm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igher clergy lived in luxury and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riticized by parish pri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an churches/school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ept birth/death recor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ared for the poo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llected the tithe (a tax on income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hurch owned huge amounts of land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d paid no tax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.  Second Estate: Nobi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ess than 2% of popula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great wealth and privile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xempt from most tax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ich or poor, most defended traditional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rivile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de peasants pay feudal tax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ought to strengthen political pow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.  Third Estate:  Common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98% of popula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cluded the bourgeoisie (middle class), peasants, city work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ourgeoisie resented the privileges of first/second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elieved in equality and social justic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alled for tax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better off than elsewhere but not by muc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 serfdom but still had old feudal du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ad to do unpaid service for landlords/monarc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eavy taxes, church tithe, re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ity work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uffered from inflation because food prices ro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sented privileges of first/second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: Unit Tw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  The French Monarchy in 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Overview of France: 170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chest, most powerful nation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rong army and na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hilosophers led the Enlighte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fluential in fashions, art and clo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ut was suffering a growing economic crises made difficult by the traditional political/soci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The Old Regime (Anciem Reg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narch has absolute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entralized power in royal ‘bureaucrac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ork to preserve royal authority and soci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ople divided into three estates (clas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: clergy; second: nobility; third: commo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First Estate: Cl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 and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igher clergy lived in luxury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ized by parish pri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an churches/sch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ept birth/death rec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red for th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llected the tithe (a tax on inco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hurch owned huge amounts of l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id no t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Second Estate: No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ess than 2% of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reat wealth and privile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empt from most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ch or poor, most defended tradition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vile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de peasants pay feudal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ught to strengthen political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Third Estate:  Commo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98% of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cluded the bourgeoisie (middle class), peasants, city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ourgeoisie resented the privileges of first/second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elieved in equality and social 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lled for tax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better off than elsewhere but not by m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 serfdom but still had old feudal d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ad to do unpaid service for landlords/mon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eavy taxes, church tithe, 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ity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ffered from inflation because food prices 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ented privileges of first/second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92929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ection Review: page 26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a. What groups made up each of the three estates in France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rst Estate: higher clergy, who were also nobles; parish priests, who were common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econd Estate: nobi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ird Estate: commoners – bourgeoisie (middle class), peasants, city work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b. What privileges did the First and Second Estates enjoy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Higher clergy:  lived in luxury – some in Versailles. Owned vast amount of land and paid no taxes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bility: many had great wealth; exempt from most taxes; collected feudal du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3.  List three factors that contributed to the French economic crisis of the 1770’s and 1780’s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oor harvests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rade regulations (tolls)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guild monopoli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uge debt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upport of American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orrowed money to support Versailles and fight wars in Europe and oversea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Review: page 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. What groups made up each of the three estates in Fr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state: higher clergy, who were also nobles; parish priests, who were commo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Estate: no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Estate: commoners – bourgeoisie (middle class), peasants, city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b. What privileges did the First and Second Estates enjo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clergy:  lived in luxury – some in Versailles. Owned vast amount of land and paid no tax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ility: many had great wealth; exempt from most taxes; collected feudal d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List three factors that contributed to the French economic crisis of the 1770’s and 178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oor harves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rade regulations (toll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uild monopo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uge deb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pport of American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orrowed money to support Versailles and fight wars in Europe and overs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.  The Growing Economic Cris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.  In General: 1700’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conomy prosper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opulation growth – 18 million to 25 mill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ood surpluses helped textile/mining industri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(mercantilism: export more than you import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.  Hardships: 1770’s/80’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oor harv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iddle Age regulat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axing on merchant trad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onopolies by guilds made it difficult for entrepreneu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* government debt high and increas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pay for wa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upport the Versailles Cour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merican Revolution doubled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b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XVI was not an able rul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tes: Unit Two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3.  Reform Attempts: 1774-1776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appointed Robert Turgot as finance minist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ntrolled government financial spend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duced court expens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moved internal customs taxes on foo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imited power of some guil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urgot attempted to tax nobles (a major reform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ittle succes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needed the parlements to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pprove this tax but they were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trolled by nob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of the Robe rejected the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dismissed Turgot in 1776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4.  The Writing on the Wall:  1776-1788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government secured new bank loa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elped only for a little whil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1786: bankers refused to lend more mone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1787 and 1788: had poor harv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read shortages upset peopl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went to Parlements for a new tax, his wishes were reject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called for the Estates General to mee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he Estates General represented all three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hoped to win support for reforms that would restore economic stabi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The Growing Economic Cr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n General: 170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conomy prosp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opulation growth – 18 million to 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ood surpluses helped textile/mining indus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rcantilism: export more than you impo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Hardships: 1770’s/8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oor harv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iddle Age reg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xing on merchant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nopolies by guilds made it difficult for entrepren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government debt high and in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pay for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pport the Versailles Cou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merican Revolution doub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XVI was not an able 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: Unit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Reform Attempts: 1774-17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appointed Robert Turgot as finance min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rolled government financial spe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duced court exp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moved internal customs taxes o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mited power of some gui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urgot attempted to tax nobles (a major refo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ttle su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needed the parlements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e this tax but they we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d by no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of the Robe rejected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dismissed Turgot in 17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The Writing on the Wall:  1776-17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overnment secured new bank lo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elped only for a little w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786: bankers refused to lend more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787 and 1788: had poor harv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read shortages upset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went to Parlements for a new tax, his wishes were rej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called for the Estates General to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 Estates General represented all three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hoped to win support for reforms that would restore economic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rievanc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mall to moderate political, economic, or social complai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risi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xtreme events or complaints which can threaten political, economic, or social stabi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form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mprovement by change which leaves old political and social system basically intac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sudden profound change which destroys the old political and social syste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iev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to moderate political, economic, or social compl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 events or complaints which can threaten political, economic, or social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 by change which leaves old political and social system basically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dden profound change which destroys the old political and soci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were the main causes of the French Revolution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onarch had absolute pow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irst and Second Estates had many privile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lergy collected tith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hurch owned much lan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ny nobles enjoyed great wealt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only nobles could become army offic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only nobles could hold high church offic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collected feudal dues from peasa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hird Estate paid most tax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had to perform unpaid servic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had to pay taxes, tithes, and re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were forbidden to kill animals that ate their crop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damaged crops by hunt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ity workers suffered from infla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 1770’s, economic activity slow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oor harv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gulations from Middle Ages hampered trade and manufactur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ny custom duties within Franc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ntrepreneurs could not set up business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uge government deb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ankers refused to lend more mone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read shorta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Louis didn’t back his ministers’ reform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didn’t allow themselves to be tax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felt only “lower classes” should be tax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dismissed Turgo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main causes of the French Rev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narch had absolute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and Second Estates had many privile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lergy collected ti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hurch owned much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nobles enjoyed great w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nly nobles could become army offi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nly nobles could hold high church off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collected feudal dues from pea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rd Estate paid most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had to perform unpaid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had to pay taxes, tithes, and 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were forbidden to kill animals that ate their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damaged crops by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ity workers suffered from inf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 1770’s, economic activity sl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oor harv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gulations from Middle Ages hampered trade and manufac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custom duties within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ntrepreneurs could not set up busin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uge government 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ankers refused to lend more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read shor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Louis didn’t back his ministers’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didn’t allow themselves to be tax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felt only “lower classes” should be tax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dismissed Turg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9B8B-AC70-43AF-A2CB-C0C0F53E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7CFF-978D-4D99-B8A7-77251BD3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A09B-6EB8-41B3-801D-1238F5D61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CF5A-3017-4143-819E-9C071FF2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48C3-FF92-44BF-8E0A-F99CCBAE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ECFF-56BC-4C11-97BB-BCCC8CE6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4AE6-C63F-4A86-878D-4447B021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7B11-1813-45A2-8D1E-EDF835E2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0237-3CEB-4947-9805-3A2397DF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C4C2-A1D8-4FD6-A1C6-55EEB2E1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83ED-B9AF-4C0F-91FC-EE8BF9CD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0D9C-EED3-4947-A19B-B25755E7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4337-1ACA-4CBA-9FC1-CF0F9B01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CFF8-E6E5-41ED-9AF8-CBA2163F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D9ED-5175-4EAF-AC1E-17928315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1A1E-6BE5-4509-AF87-CC32E0ACC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9C65-F322-46A0-9998-32643023D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693BF-A7D6-4ED1-AFDC-0D9AC342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70FB9-3747-43BE-9835-7A3300BB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D3393-58CA-45E3-905A-A1A0ADDE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D6D9D-EC44-4290-84F7-1742F144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19872-1B43-4A81-BE14-683B8717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F4CE-E184-4D57-9837-8897A117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090F7-E082-446A-AD84-643DDBE8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E8E7F-D9DB-4B8E-B883-8E725FF4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C16A3-6FD4-4A4D-B874-2A27B380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A6F39-62CF-47BC-BF3A-5348A2A4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93904-2871-4CCF-9EE4-66E411F1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DD76B-D08B-4F4D-88F6-9FA813CE5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A901D-58ED-4013-9106-9987DA861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DA36-4F44-4340-AB8C-29C3B0B1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90BE-B38C-4EB2-8E3E-2DABC6C5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9F85-11E7-4943-8A2C-96AD6739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E78C-7F42-40A6-A82C-A7AC073E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466F-E435-4D5F-9D96-77190280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FC89-CC8D-478F-91FB-66D6CD5D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6AF3-32F0-49C0-A331-26AC7B68F0D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252A-5738-42CB-848E-D32286163E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87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4E14-1B0A-4004-81C5-0CA8376CB336}" type="slidenum">
              <a:rPr b="0" lang="en-GB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Unit Tw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The French Revolution and Napole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987640" y="4797000"/>
            <a:ext cx="592776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I. The French Monarchy in Crisi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413760" y="2781360"/>
            <a:ext cx="20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1789 to 181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Unit Tw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The French Revolution and Napole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987640" y="4797000"/>
            <a:ext cx="592776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II. A Moderate Start to the Revolu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6413760" y="2781360"/>
            <a:ext cx="20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1789 to 181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Def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Émigré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erson who flees his or her country for political reason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imited monarch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Government in which a monarch’s powers are limited, usually by a constitution and a legislative bod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public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ystem of government in which citizens who have the right to vote choose their lead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stitu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 body of fundamental principles according to which a state is governe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971640" y="1989000"/>
            <a:ext cx="766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dica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xtrem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Moder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Not extreme, mil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iber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reedom, being fre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quali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ondition of being equ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raterni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Brotherly or like broth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ig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ule; the rule of a monarch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0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8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8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8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1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6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1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6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7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7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9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82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5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88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1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9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9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9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9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9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5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5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0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5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0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5" dur="5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0" dur="500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5"/>
          <p:cNvSpPr/>
          <p:nvPr/>
        </p:nvSpPr>
        <p:spPr>
          <a:xfrm>
            <a:off x="0" y="0"/>
            <a:ext cx="8697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tes:  II.  A Moderate Start to the Revolu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4284720" y="0"/>
            <a:ext cx="5040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C.  Reforms of the Assembly: 1789 August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uprisings forced action from the Assemb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Assembly made huge reform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abolished most feudal custom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ended serfdom; ended tax exempt privilege of nobl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all male citizens eligible for government/church positions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adopted Declaration of th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ights of Ma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democratic principl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equality for all citizen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protection of personal propert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influenced by ideas of philosoph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religious reforms: 1789-90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freedom of worship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ontrol of church given to the government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itizens could elect bishops/priest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selling of church land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onstitution: 1791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France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imited monarch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separation of powers: executive, legislative, judiciar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Montesquieu’s three branch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ountry divided into 83 region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equal rights to all citizen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D.  Responses: 1791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many dissatisfied with constitu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some thought it went too far or not far enough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nobles fled France –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émigré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Royal family tried to flee but failed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kept under guard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- demands for end of monarchy and establishment of a Republic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rise of radical parties and their representativ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ximilian Robespierr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0" y="476280"/>
            <a:ext cx="450072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A.  Estates General to National Assembly: 1789 May-Jun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each estate elected deputi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 wanted all estates to meet together with equal votes for deputi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in the past, estates met separately; had one vote per estat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meant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s could outvote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 hoped individual deputies from other estates would support them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ordered estates to meet separate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 declared themselves the National Assemb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laimed the right to write a constitu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Tennis Court Oath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 swore not to leave without a constitu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gave in and estates met together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many division between and within the estat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B.  Popular Uprisings: 1789 Ju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peasants and workers in Paris wanted quick action from the Assemb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still faced inflation, unemployment, food shortag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order troops to Paris; caused more unrest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July 14: Paris crowd stormed the Bastill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peasants in the countryside turned on landlord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raided storehouses, destroyed tax record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onducting own revolu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0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64960" y="274680"/>
            <a:ext cx="7521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Section Review: page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Identif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ennis Court Oath: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elegates of the Third Estate and some nobles and clergy swore an oath not to disband until they had a co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National Assembl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Third Estate declared itself this in order to write a co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eclaration of the Rights of Man: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dopted by the National Assembly – stated the democratic principles that would define the French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ivil Constitution of the Clergy: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1790, gave the government control of the church and allowed citizens to elect bishops and pri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Why did the Third Estate want the Estates General to meet as a single bo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o avoid being outvoted by the First and Second Estates.  If each delegate had a vote then the 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Garamond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Estate, with help from sympathizers from the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Garamond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and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Garamond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, could win a major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nodeType="clickEffect" fill="hold">
                      <p:stCondLst>
                        <p:cond delay="0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0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0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5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0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0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3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8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8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3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8" dur="500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76500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hat significance did the main events play during the course of the French Revo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Main Event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Significance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A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B.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C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D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E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F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G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H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I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J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Text Box 47"/>
          <p:cNvSpPr/>
          <p:nvPr/>
        </p:nvSpPr>
        <p:spPr>
          <a:xfrm>
            <a:off x="900000" y="62064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Estates General Summon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Text Box 48"/>
          <p:cNvSpPr/>
          <p:nvPr/>
        </p:nvSpPr>
        <p:spPr>
          <a:xfrm>
            <a:off x="900000" y="1268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Third Estate declares itself the National Assembl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Text Box 49"/>
          <p:cNvSpPr/>
          <p:nvPr/>
        </p:nvSpPr>
        <p:spPr>
          <a:xfrm>
            <a:off x="900000" y="184464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Popular uprisings (Paris and peasant revolts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Text Box 50"/>
          <p:cNvSpPr/>
          <p:nvPr/>
        </p:nvSpPr>
        <p:spPr>
          <a:xfrm>
            <a:off x="900000" y="2492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Reforms of the National Assembl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Text Box 51"/>
          <p:cNvSpPr/>
          <p:nvPr/>
        </p:nvSpPr>
        <p:spPr>
          <a:xfrm>
            <a:off x="900000" y="314172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The Constitution of 1791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Text Box 52"/>
          <p:cNvSpPr/>
          <p:nvPr/>
        </p:nvSpPr>
        <p:spPr>
          <a:xfrm>
            <a:off x="900000" y="3716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Responses to the Constitution of 1791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Text Box 53"/>
          <p:cNvSpPr/>
          <p:nvPr/>
        </p:nvSpPr>
        <p:spPr>
          <a:xfrm>
            <a:off x="900000" y="436572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France at wa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Text Box 54"/>
          <p:cNvSpPr/>
          <p:nvPr/>
        </p:nvSpPr>
        <p:spPr>
          <a:xfrm>
            <a:off x="900000" y="501336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National Conven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Text Box 55"/>
          <p:cNvSpPr/>
          <p:nvPr/>
        </p:nvSpPr>
        <p:spPr>
          <a:xfrm>
            <a:off x="900000" y="558972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Attacks on the Revolu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Text Box 56"/>
          <p:cNvSpPr/>
          <p:nvPr/>
        </p:nvSpPr>
        <p:spPr>
          <a:xfrm>
            <a:off x="900000" y="623736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Reign of Terro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2" name="Text Box 57"/>
          <p:cNvSpPr/>
          <p:nvPr/>
        </p:nvSpPr>
        <p:spPr>
          <a:xfrm>
            <a:off x="4572000" y="62064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Text Box 58"/>
          <p:cNvSpPr/>
          <p:nvPr/>
        </p:nvSpPr>
        <p:spPr>
          <a:xfrm>
            <a:off x="4572000" y="1268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Text Box 59"/>
          <p:cNvSpPr/>
          <p:nvPr/>
        </p:nvSpPr>
        <p:spPr>
          <a:xfrm>
            <a:off x="4572000" y="184464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Text Box 60"/>
          <p:cNvSpPr/>
          <p:nvPr/>
        </p:nvSpPr>
        <p:spPr>
          <a:xfrm>
            <a:off x="4572000" y="2492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Text Box 61"/>
          <p:cNvSpPr/>
          <p:nvPr/>
        </p:nvSpPr>
        <p:spPr>
          <a:xfrm>
            <a:off x="4572000" y="314172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Text Box 62"/>
          <p:cNvSpPr/>
          <p:nvPr/>
        </p:nvSpPr>
        <p:spPr>
          <a:xfrm>
            <a:off x="4572000" y="3716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Text Box 63"/>
          <p:cNvSpPr/>
          <p:nvPr/>
        </p:nvSpPr>
        <p:spPr>
          <a:xfrm>
            <a:off x="4572000" y="436572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9" name="Text Box 64"/>
          <p:cNvSpPr/>
          <p:nvPr/>
        </p:nvSpPr>
        <p:spPr>
          <a:xfrm>
            <a:off x="4572000" y="501336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Text Box 65"/>
          <p:cNvSpPr/>
          <p:nvPr/>
        </p:nvSpPr>
        <p:spPr>
          <a:xfrm>
            <a:off x="4572000" y="558972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Text Box 66"/>
          <p:cNvSpPr/>
          <p:nvPr/>
        </p:nvSpPr>
        <p:spPr>
          <a:xfrm>
            <a:off x="4572000" y="623736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Ec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Garamond"/>
              </a:rPr>
              <a:t>What is meant by a country’s economy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Garamond"/>
              </a:rPr>
              <a:t>What happens when a country’s economy is prospering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Garamond"/>
              </a:rPr>
              <a:t>Define: Econom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The production, distribution, and consumption of good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Ec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Good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Produc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Distribu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Consump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0840" indent="-420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Produc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Making Someth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Who receives the products and how much they receiv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What kind of products are purchas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tes: Unit Tw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French Revolution and Napol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1025280"/>
            <a:ext cx="4211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.  The French Monarchy in Cr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.  Overview of France: 1700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hest, most powerful nation in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trong army and nav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hilosophers led the Enlighte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fluential in fashions, art and clot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but was suffering a growing economic crises made difficult by the traditional political/social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B.  The Old Regime (Anciem Regi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 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Monarch has absolute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centralized power in royal ‘bureaucracy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work to preserve royal authority and soci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people divided into three estates (cla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first: clergy; second: nobility; third: commo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84720" y="980640"/>
            <a:ext cx="48592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 Est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.  First Estate: Clerg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ble and comm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higher clergy lived in luxury 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iticized by parish pri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an churches/sch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kept birth/death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ared for the 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llected the tithe (a tax on inco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urch owned huge amounts of l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paid no t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.  Second Estate: No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ess than 2% of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great wealth and privile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xempt from most t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h or poor, most defended traditiona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ile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de peasants pay feudal t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ought to strengthen political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0" y="1025640"/>
            <a:ext cx="421164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.  Third Estate:  Commone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98% of popula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included the bourgeoisie (middle class), peasants, city worke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bourgeoisie resented the privileges of first/second estat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believed in equality and social justic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called for tax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peasants better off than elsewhere but not by much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no serfdom but still had old feudal du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had to do unpaid service for landlords/monarch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heavy taxes, church tithe, rent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city worke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suffered from inflation because food prices ros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resented privileges of first/second estat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2" name="Picture 9" descr="Third Estate"/>
          <p:cNvPicPr/>
          <p:nvPr/>
        </p:nvPicPr>
        <p:blipFill>
          <a:blip r:embed="rId1"/>
          <a:stretch/>
        </p:blipFill>
        <p:spPr>
          <a:xfrm>
            <a:off x="4643280" y="1125360"/>
            <a:ext cx="40449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6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9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2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5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8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4" dur="5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7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0" dur="50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3" dur="500"/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6" dur="500"/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9" dur="500"/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4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7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0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3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6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9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2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5" dur="5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8" dur="500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1" dur="5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4" dur="500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7" dur="500"/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0" dur="500"/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Illumination Medieval - cleric, knight, workman"/>
          <p:cNvPicPr/>
          <p:nvPr/>
        </p:nvPicPr>
        <p:blipFill>
          <a:blip r:embed="rId1"/>
          <a:stretch/>
        </p:blipFill>
        <p:spPr>
          <a:xfrm>
            <a:off x="5364000" y="404640"/>
            <a:ext cx="3522960" cy="3600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First Estate"/>
          <p:cNvPicPr/>
          <p:nvPr/>
        </p:nvPicPr>
        <p:blipFill>
          <a:blip r:embed="rId2"/>
          <a:stretch/>
        </p:blipFill>
        <p:spPr>
          <a:xfrm>
            <a:off x="1403280" y="2492280"/>
            <a:ext cx="2862360" cy="3838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Louis XVI Sun King"/>
          <p:cNvPicPr/>
          <p:nvPr/>
        </p:nvPicPr>
        <p:blipFill>
          <a:blip r:embed="rId3"/>
          <a:stretch/>
        </p:blipFill>
        <p:spPr>
          <a:xfrm>
            <a:off x="250920" y="1484280"/>
            <a:ext cx="322416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7280" y="96480"/>
            <a:ext cx="6542280" cy="124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Section Review: page 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Garamond"/>
              </a:rPr>
              <a:t>2a</a:t>
            </a:r>
            <a:r>
              <a:rPr b="0" lang="en-US" sz="2000" spc="-1" strike="noStrike">
                <a:solidFill>
                  <a:srgbClr val="292929"/>
                </a:solidFill>
                <a:latin typeface="Garamond"/>
              </a:rPr>
              <a:t>. What groups made up each of the three estates in France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First Estate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higher clergy, who were also nobles; parish priests, who were common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Second Estate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nobilit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Third Estate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commoners – bourgeoisie (middle class), peasants, city work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Garamond"/>
              </a:rPr>
              <a:t>2b.</a:t>
            </a:r>
            <a:r>
              <a:rPr b="0" lang="en-US" sz="2000" spc="-1" strike="noStrike">
                <a:solidFill>
                  <a:srgbClr val="292929"/>
                </a:solidFill>
                <a:latin typeface="Garamond"/>
              </a:rPr>
              <a:t> What privileges did the First and Second Estates enjoy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Higher clergy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 lived in luxury – some in Versailles. Owned vast amount of land and paid no taxe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Nobility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many had great wealth; exempt from most taxes; collected feudal du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Garamond"/>
              </a:rPr>
              <a:t>3.</a:t>
            </a:r>
            <a:r>
              <a:rPr b="0" lang="en-US" sz="2000" spc="-1" strike="noStrike">
                <a:solidFill>
                  <a:srgbClr val="292929"/>
                </a:solidFill>
                <a:latin typeface="Garamond"/>
              </a:rPr>
              <a:t>  List three factors that contributed to the French economic crisis of the 1770’s and 1780’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poor harvests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trade regulations (tolls)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guild monopoli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huge debt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support of American Revolu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borrowed money to support Versailles and fight wars in Europe and oversea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4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850"/>
                            </p:stCondLst>
                            <p:childTnLst>
                              <p:par>
                                <p:cTn id="4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5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0" y="620640"/>
            <a:ext cx="421164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C.  The Growing Economic Cris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  In General: 1700’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economy prosper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population growth – 18 million to 25 mill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food surpluses helped textile/mining industri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mercantilism: export more than you import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  Hardships: 1770’s/80’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poor harvest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Middle Age regulation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taxing on merchant trad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monopolies by guilds made it difficult for entrepreneu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* government debt high and increasing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to pay for wa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support the Versailles Cour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American Revolution double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b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XVI was not an able rule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68360" y="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tes: Unit Tw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211640" y="476280"/>
            <a:ext cx="464328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3.  Reform Attempts: 1774-1776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appointed Robert Turgot as finance minister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controlled government financial spending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reduced court expense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removed internal customs taxes on food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imited power of some guild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Turgot attempted to tax nobles (a major reform)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ittle succes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needed the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arlement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to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approve this tax but they were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led by noble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obles of the Rob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rejected the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idea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dismissed Turgot in 1776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4.  The Writing on the Wall:  1776-1788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government secured new bank loan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helped only for a little while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1786: bankers refused to lend more money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1787 and 1788: had poor harvest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bread shortages upset people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went to Parlements for a new tax, his wishes were rejected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called for the Estates General to meet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The Estates General represented all three estate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hoped to win support for reforms that would restore economic stability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rievanc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mall to moderate political, economic, or social complaint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risi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xtreme events or complaints which can threaten political, economic, or social stabilit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form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mprovement by change which leaves old political and social system basically intac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volu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 sudden profound change which destroys the old political and social syste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0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5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5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0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468360" y="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aramond"/>
              </a:rPr>
              <a:t>What were the main causes of the French Revolution?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522360"/>
          <a:ext cx="9144000" cy="6335640"/>
        </p:xfrm>
        <a:graphic>
          <a:graphicData uri="http://schemas.openxmlformats.org/drawingml/2006/table">
            <a:tbl>
              <a:tblPr/>
              <a:tblGrid>
                <a:gridCol w="3635280"/>
                <a:gridCol w="2808360"/>
                <a:gridCol w="2700360"/>
              </a:tblGrid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Grievances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Crisis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Failed Reforms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Text Box 27"/>
          <p:cNvSpPr/>
          <p:nvPr/>
        </p:nvSpPr>
        <p:spPr>
          <a:xfrm>
            <a:off x="0" y="1052640"/>
            <a:ext cx="3635280" cy="53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monarch had absolute power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First and Second Estates had many privileg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clergy collected tith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church owned much land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many nobles enjoyed great wealth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only nobles could become army officer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only nobles could hold high church offic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nobles collected feudal dues from peasant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Third Estate paid most tax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peasants had to perform unpaid servic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peasants had to pay taxes, tithes, and rent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peasants were forbidden to kill animals that ate their crop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nobles damaged crops by hunting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city workers suffered from infla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3708360" y="1052640"/>
            <a:ext cx="266400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in 1770’s, economic activity slow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poor harvest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regulations from Middle Ages hampered trade and manufacturing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many custom duties within Franc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entrepreneurs could not set up business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huge government deb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bankers refused to lend more mone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bread shortag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Text Box 29"/>
          <p:cNvSpPr/>
          <p:nvPr/>
        </p:nvSpPr>
        <p:spPr>
          <a:xfrm>
            <a:off x="6516720" y="1052640"/>
            <a:ext cx="26272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King Louis didn’t back his ministers’ reform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nobles didn’t allow themselves to be tax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nobles felt only “lower classes” should be tax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King dismissed Turgo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3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3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8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8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3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8" dur="5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5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3" dur="500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8" dur="50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3" dur="500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3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3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8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3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8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3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3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02:19:57Z</dcterms:created>
  <dc:creator>DELI</dc:creator>
  <dc:description/>
  <dc:language>en-US</dc:language>
  <cp:lastModifiedBy>RomaK</cp:lastModifiedBy>
  <dcterms:modified xsi:type="dcterms:W3CDTF">2015-09-04T09:34:08Z</dcterms:modified>
  <cp:revision>50</cp:revision>
  <dc:subject/>
  <dc:title>Unit Two The French Revolution and Napoleon</dc:title>
</cp:coreProperties>
</file>