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A741-116C-42E6-9F02-9000F6F9DB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.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 to 18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Émigr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who flees his or her country for political r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of fundamental principles according to which a state is gove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xtreme, m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being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 of being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t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therly or like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; the rule of a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 II.  A Moderate Start to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Reforms of the Assembly: 1789 Aug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risings forced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ssembly made huge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bolished most feudal cus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ded serfdom; ended tax exempt privilege of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male citizens eligible for government/church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dopted Declaration of the Rights of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ocratic princ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ity for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tection of personal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ced by ideas of philosop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ligious reforms: 1789-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eedom of wo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 of church given to th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izens could elect bishops/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ling of church 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stitution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rance a limited monarc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paration of powers: executive, legislative, judici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tesquieu’s three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untry divided into 83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qual rights to all 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Responses: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ssatisfied with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me thought it went too far or not far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led France – émigr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oyal family tried to flee but fai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under gu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mands for end of monarchy and establishment of a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se of radical parties and their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ximilian Robespie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Estates General to National Assembly: 1789 May-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estate elected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wanted all estates to meet together with equal votes for depu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the past, estates met separately; had one vote per e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eant 1st and 2nd estates could outvote 3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hoped individual deputies from other estates would suppor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ed estates to meet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declared themselves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aimed the right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nnis Court 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rd estate swore not to leave without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gave in and estates me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division between and within th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Popular Uprisings: 1789 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and workers in Paris wanted quick action from the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ill faced inflation, unemployment, foo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order troops to Paris; caused more un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July 14: Paris crowd stormed the Basti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in the countryside turned on landl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ided storehouses, destroyed tax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ducting ow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nis Court Oa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f the Third Estate and some nobles and clergy swore an oath not to disband until they had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Assembl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rd Estate declared itself this in order to write a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on of the Rights of M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pted by the National Assembly – stated the democratic principles that would define the French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vil Constitution of the Clerg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90, gave the government control of the church and allowed citizens to elect bishops and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did the Third Estate want the Estates General to meet as a single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being outvoted by the First and Second Estates.  If each delegate had a vote then the 3rd Estate, with help from sympathizers from the 1st and 2nd, could win a majo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gnificance did the main events play during the course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tes General Summ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 declares itsel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uprisings (Paris and peasant revol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 of the National Assem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 to the Constitution of 17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s on the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gn of T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gain support for economic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eant by a country’s ec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a country’s economy is prosper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: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ion, distribution, and consumption of 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receives the products and how much they re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kind of products are purch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nch Revolution and Napo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.  The French Monarchy in 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Overview of France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The Old Regime (Anciem Reg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s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entralized power in royal ‘bureaucrac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ork to preserve royal authority and soci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ople divided into three estates (clas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: clergy; second: nobility; third: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First Estate: Cl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ird Estate: 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98% of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cluded the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urgeoisie resented the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elieved in equality and 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lled for tax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better off than elsewhere but not by m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 serfdom but still had ol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ad to do unpaid service for landlords/mon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avy taxes, church tithe,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ffered from inflation because food prices r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sented privileges of first/second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292929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Review: page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. What groups made up each of the three estates in Fr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state: higher clergy, who were also nobles; parish priests, who were commo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Estate: no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Estate: commoners – bourgeoisie (middle class), peasants, city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b. What privileges did the First and Second Estates enjo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clergy:  lived in luxury – some in Versailles. Owned vast amount of land and paid no tax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bility: many had great wealth; exempt from most taxes; collected feudal d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List three factors that contributed to the French economic crisis of the 1770’s and 178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ade regulations (toll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uild monopo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deb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of Amer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rrowed money to support Versailles and fight wars in Europe and overs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The Growing Economic C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n General: 170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conomy prosp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pulation growth – 18 million to 25 m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od surpluses helped textile/mining indus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rcantilism: export more than you impo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rdships: 1770’s/80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ddle Age reg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xing on merchant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opolies by guilds made it difficult for entrepren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government debt high and in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pay for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 the Versailles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erican Revolution doub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XVI was not an able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: Unit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Reform Attempts: 1774-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appointed Robert Turgot as finance min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trolled government financial spe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uced court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moved internal customs taxes o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mited power of some gui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urgot attempted to tax nobles (a major refo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ttle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needed the parlements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e this tax but they we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d by no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of the Robe rejected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 in 17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The Writing on the Wall:  1776-17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overnment secured new bank 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elped only for a little w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6: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87 and 1788: had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 upse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went to Parlements for a new tax, his wishes were rej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called for the Estates General to m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 Estates General represented all three e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uis hoped to win support for reforms that would restore economic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iev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to moderate political, economic, or social compl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dden profound change which destroys the old political and soci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main causes of the French Rev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onarch had absolute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irst and Second Estates had many privi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ergy collected tit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hurch owned much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nobles enjoyed great w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become army offi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y nobles could hold high church off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collected feudal dues from peas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rd Estate paid mos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erform unpaid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had to pay taxes, tithes, and 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easants were forbidden to kill animals that ate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amaged crops by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ity workers suffered from inf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 1770’s, economic activity s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oor har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gulations from Middle Ages hampered trade and manufac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custom duties withi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ntrepreneurs could not set up busin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uge government 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ankers refused to lend more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read shor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Louis didn’t back his ministers’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didn’t allow themselves to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bles felt only “lower classes” should be tax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King dismissed Turg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BE4A-4057-473D-A51C-6F182026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057-5A28-4489-B435-E6040B1C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DCFE-876E-4B98-8A9B-BABE17F7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F6F-A51E-47E4-B7A7-BD88EB4C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9DD5-E3F4-4B36-9CB9-60B5C8C6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7DCB-8458-4895-A349-82F2C570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DDE4-2C77-483F-9C5E-92637E6A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0CBB-D952-44D1-B427-3ACB86EE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1972-4819-473D-B069-74E5F32B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D35A3-0BF1-4113-92D5-F9C10A0E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12C7-9981-4B4D-B7FE-8F735692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311-EC28-45AE-A91E-AF1C6ECD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1288-F24D-497D-9C08-BBBDC8CD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EBB1-90E0-4661-8DDD-64541EC8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DC98-4BE6-4F7B-A126-96DB201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77CE-F08B-42B4-A1C0-55BD278A8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EB5C-4125-4CD1-AAD6-9ACCAF218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6FC9A-0247-43E2-BCC8-781B6859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ECE10-E291-4732-914B-324F8E6B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7F638-FC91-4695-9DBD-65D74793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F5955-B53A-4C7F-B400-AC0DD793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404B3-C609-4721-BDE3-AC5808E3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079-713A-4FEA-B7AF-47AF213F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E621-14EE-443C-B6F8-D7EF3E54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E601-A53C-49FC-968C-CA764220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8C75-30ED-4AE5-8E68-14A4EC38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DCB08-2B02-4794-BC20-6134AC6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6D174-F41F-4458-8613-7D767301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A9FDD-98EE-4395-B15F-8D985702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4564-E3D5-42B2-97F3-B39497926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CCC-5EC2-456E-9051-8C19A341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B0D-E2BE-4534-B706-2EBBBB75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990-42CF-44F8-998F-9BEC670B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DC9B-ED8B-4655-B8E4-D38D76AA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50BD-311E-4A41-8CEE-94401C7F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7E3A-2A5B-48A7-A6D6-CF681AC8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515C-7898-4217-812B-97F959F9B23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6CA0-DDE2-4250-BD16-F753B2BBEB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8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F56F-5B19-4E64-BB8E-462F702F66A1}" type="slidenum">
              <a:rPr b="0" lang="en-GB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. The French Monarchy in Crisi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Unit Tw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987640" y="4797000"/>
            <a:ext cx="592776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2929"/>
                </a:solidFill>
                <a:latin typeface="Garamond"/>
              </a:rPr>
              <a:t>II. A Moderate Start to the Rev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413760" y="278136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Garamond"/>
              </a:rPr>
              <a:t>1789 to 181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Émigr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erson who flees his or her country for political reas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mited monarch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Government in which a monarch’s powers are limited, usually by a constitution and a legislative bod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public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ystem of government in which citizens who have the right to vote choose their lead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onstit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body of fundamental principles according to which a state is govern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71640" y="1989000"/>
            <a:ext cx="766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adic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Moder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ot extreme, mil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iber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reedom, being fre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qual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ondition of being equ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raternit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otherly or like broth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ig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Rule; the rule of a monarch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0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82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8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8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1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1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6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7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88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9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9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5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0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5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0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5" dur="5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5"/>
          <p:cNvSpPr/>
          <p:nvPr/>
        </p:nvSpPr>
        <p:spPr>
          <a:xfrm>
            <a:off x="0" y="0"/>
            <a:ext cx="8697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 II.  A Moderate Start to the Rev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284720" y="0"/>
            <a:ext cx="504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C.  Reforms of the Assembly: 1789 Augu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uprisings forced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ssembly made huge refor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bolished most feudal custom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nded serfdom; ended tax exempt privilege of nob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le citizens eligible for government/church positions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adopted Declaration of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ights of Ma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cratic principl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ity for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rotection of personal propert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fluenced by ideas of philosop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eligious reforms: 1789-90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eedom of worship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 of church given to the govern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itizens could elect bishops/pries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lling of church lan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stitution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Franc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limited monarch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eparation of powers: executive, legislative, judiciar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ontesquieu’s three branc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untry divided into 83 regio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qual rights to all citizen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D.  Responses: 1791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ssatisfied with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ome thought it went too far or not far enoug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nobles fled France –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émigré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oyal family tried to flee but faile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ept under gua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- demands for end of monarchy and establishment of a Republic</a:t>
            </a:r>
            <a:endParaRPr b="0" lang="en-US" sz="13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ise of radical parties and their representativ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ximilian Robespierr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476280"/>
            <a:ext cx="450072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A.  Estates General to National Assembly: 1789 May-Jun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each estate elected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wanted all estates to meet together with equal votes for deputi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in the past, estates met separately; had one vote per estat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eant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s could outvote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hoped individual deputies from other estates would support them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ed estates to meet separate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declared themselves the National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laimed the right to write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Tennis Court Oa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state swore not to leave without a constit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gave in and estates met togeth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many division between and within the estat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B.  Popular Uprisings: 1789 Ju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and workers in Paris wanted quick action from the Assembly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still faced inflation, unemployment, food shorta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order troops to Paris; caused more unres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July 14: Paris crowd stormed the Bastil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in the countryside turned on landl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raided storehouses, destroyed tax record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conducting own revolu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64960" y="274680"/>
            <a:ext cx="752148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ection Review: page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. Ident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nnis Court Oath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egates of the Third Estate and some nobles and clergy swore an oath not to disband until they had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ational Assemb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hird Estate declared itself this in order to write a consti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eclaration of the Rights of Man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dopted by the National Assembly – stated the democratic principles that would define the French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ivil Constitution of the Clergy: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1790, gave the government control of the church and allowed citizens to elect bishops and pri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Why did the Third Estate want the Estates General to meet as a single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o avoid being outvoted by the First and Second Estates.  If each delegate had a vote then the 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r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Estate, with help from sympathizers from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and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, could win a major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nodeType="clickEffect" fill="hold">
                      <p:stCondLst>
                        <p:cond delay="0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0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0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0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8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3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8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76500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hat significance did the main events play during the course of the French Rev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Main Event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Significance</a:t>
                      </a: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A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B.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C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D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E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F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G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H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I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Garamond"/>
                        </a:rPr>
                        <a:t>J.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 Box 47"/>
          <p:cNvSpPr/>
          <p:nvPr/>
        </p:nvSpPr>
        <p:spPr>
          <a:xfrm>
            <a:off x="900000" y="62064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Estates General Summon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Text Box 48"/>
          <p:cNvSpPr/>
          <p:nvPr/>
        </p:nvSpPr>
        <p:spPr>
          <a:xfrm>
            <a:off x="900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ird Estate declares itsel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900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Popular uprisings (Paris and peasant revolts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Text Box 50"/>
          <p:cNvSpPr/>
          <p:nvPr/>
        </p:nvSpPr>
        <p:spPr>
          <a:xfrm>
            <a:off x="900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forms of the National Assemb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Text Box 51"/>
          <p:cNvSpPr/>
          <p:nvPr/>
        </p:nvSpPr>
        <p:spPr>
          <a:xfrm>
            <a:off x="900000" y="3141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Text Box 52"/>
          <p:cNvSpPr/>
          <p:nvPr/>
        </p:nvSpPr>
        <p:spPr>
          <a:xfrm>
            <a:off x="900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sponses to the Constitution of 179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Text Box 53"/>
          <p:cNvSpPr/>
          <p:nvPr/>
        </p:nvSpPr>
        <p:spPr>
          <a:xfrm>
            <a:off x="900000" y="4365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France at w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Text Box 54"/>
          <p:cNvSpPr/>
          <p:nvPr/>
        </p:nvSpPr>
        <p:spPr>
          <a:xfrm>
            <a:off x="900000" y="5013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National Conven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Text Box 55"/>
          <p:cNvSpPr/>
          <p:nvPr/>
        </p:nvSpPr>
        <p:spPr>
          <a:xfrm>
            <a:off x="900000" y="558972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Attacks on the Revolu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Text Box 56"/>
          <p:cNvSpPr/>
          <p:nvPr/>
        </p:nvSpPr>
        <p:spPr>
          <a:xfrm>
            <a:off x="900000" y="6237360"/>
            <a:ext cx="36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Garamond"/>
              </a:rPr>
              <a:t>Reign of Terro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Text Box 57"/>
          <p:cNvSpPr/>
          <p:nvPr/>
        </p:nvSpPr>
        <p:spPr>
          <a:xfrm>
            <a:off x="4572000" y="620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Text Box 58"/>
          <p:cNvSpPr/>
          <p:nvPr/>
        </p:nvSpPr>
        <p:spPr>
          <a:xfrm>
            <a:off x="4572000" y="1268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Text Box 59"/>
          <p:cNvSpPr/>
          <p:nvPr/>
        </p:nvSpPr>
        <p:spPr>
          <a:xfrm>
            <a:off x="4572000" y="184464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Text Box 60"/>
          <p:cNvSpPr/>
          <p:nvPr/>
        </p:nvSpPr>
        <p:spPr>
          <a:xfrm>
            <a:off x="4572000" y="2492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Text Box 61"/>
          <p:cNvSpPr/>
          <p:nvPr/>
        </p:nvSpPr>
        <p:spPr>
          <a:xfrm>
            <a:off x="4572000" y="3141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Text Box 62"/>
          <p:cNvSpPr/>
          <p:nvPr/>
        </p:nvSpPr>
        <p:spPr>
          <a:xfrm>
            <a:off x="4572000" y="37162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Text Box 63"/>
          <p:cNvSpPr/>
          <p:nvPr/>
        </p:nvSpPr>
        <p:spPr>
          <a:xfrm>
            <a:off x="4572000" y="4365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Text Box 64"/>
          <p:cNvSpPr/>
          <p:nvPr/>
        </p:nvSpPr>
        <p:spPr>
          <a:xfrm>
            <a:off x="4572000" y="5013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Text Box 65"/>
          <p:cNvSpPr/>
          <p:nvPr/>
        </p:nvSpPr>
        <p:spPr>
          <a:xfrm>
            <a:off x="4572000" y="558972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Text Box 66"/>
          <p:cNvSpPr/>
          <p:nvPr/>
        </p:nvSpPr>
        <p:spPr>
          <a:xfrm>
            <a:off x="4572000" y="623736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Garamond"/>
              </a:rPr>
              <a:t>- to gain support for economic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is meant by a country’s economy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What happens when a country’s economy is prospering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Garamond"/>
              </a:rPr>
              <a:t>Define: Econom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The production, distribution, and consumption of 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Ec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Goo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Distrib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Consump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Produ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Making Something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o receives the products and how much they rece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Garamond"/>
              </a:rPr>
              <a:t>What kind of products are purchase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rench Revolution and Napo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60" y="1025280"/>
            <a:ext cx="421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.  The French Monarchy in Cr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.  Overview of France: 170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est, most powerful nation i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trong army and nav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hilosophers led the Enlighte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fluential in fashions, art and clot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but was suffering a growing economic crises made difficult by the traditional political/social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B.  The Old Regime (Anciem Reg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arch has absolut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entralized power in royal ‘bureaucra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work to preserve royal authority and soci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ople divided into three estates (cla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irst: clergy; second: nobility; third: commo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84720" y="980640"/>
            <a:ext cx="4859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E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 First Estate: Cler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oble and comm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higher clergy lived in luxury 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iticized by parish pri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an churches/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kept birth/death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ared for the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ollected the tithe (a tax on inco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church owned huge amounts of l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paid no t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.  Second Estate: No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less than 2% of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reat wealth and 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exempt from most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rich or poor, most defended tradition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ile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ade peasants pay feudal ta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ought to strengthen political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0" y="1025640"/>
            <a:ext cx="421164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.  Third Estate:  Common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98% of populat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cluded the bourgeoisie (middle class), peasants,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ourgeoisie resented the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believed in equality and social justi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alled for tax reform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easants better off than elsewhere but not by mu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no serfdom but still had old feudal du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ad to do unpaid service for landlords/monarch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heavy taxes, church tithe, ren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ity work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ffered from inflation because food prices r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sented privileges of first/second estat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Picture 9" descr="Third Estate"/>
          <p:cNvPicPr/>
          <p:nvPr/>
        </p:nvPicPr>
        <p:blipFill>
          <a:blip r:embed="rId1"/>
          <a:stretch/>
        </p:blipFill>
        <p:spPr>
          <a:xfrm>
            <a:off x="4643280" y="1125360"/>
            <a:ext cx="404496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9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4" dur="500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7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3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9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2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5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8" dur="500"/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1" dur="5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4" dur="5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7" dur="5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0" dur="500"/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Illumination Medieval - cleric, knight, workman"/>
          <p:cNvPicPr/>
          <p:nvPr/>
        </p:nvPicPr>
        <p:blipFill>
          <a:blip r:embed="rId1"/>
          <a:stretch/>
        </p:blipFill>
        <p:spPr>
          <a:xfrm>
            <a:off x="5364000" y="404640"/>
            <a:ext cx="3522960" cy="360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First Estate"/>
          <p:cNvPicPr/>
          <p:nvPr/>
        </p:nvPicPr>
        <p:blipFill>
          <a:blip r:embed="rId2"/>
          <a:stretch/>
        </p:blipFill>
        <p:spPr>
          <a:xfrm>
            <a:off x="1403280" y="2492280"/>
            <a:ext cx="2862360" cy="3838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Louis XVI Sun King"/>
          <p:cNvPicPr/>
          <p:nvPr/>
        </p:nvPicPr>
        <p:blipFill>
          <a:blip r:embed="rId3"/>
          <a:stretch/>
        </p:blipFill>
        <p:spPr>
          <a:xfrm>
            <a:off x="250920" y="1484280"/>
            <a:ext cx="32241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7280" y="96480"/>
            <a:ext cx="6542280" cy="124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Section Review: page 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7661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a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. What groups made up each of the three estates in France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First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higher clergy, who were also nobles; parish priests, who were common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Secon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no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Third Estate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commoners – bourgeoisie (middle class), peasants, city worker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2b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What privileges did the First and Second Estates enjoy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Higher clerg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 lived in luxury – some in Versailles. Owned vast amount of land and paid no tax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1" lang="en-US" sz="1800" spc="-1" strike="noStrike">
                <a:solidFill>
                  <a:srgbClr val="292929"/>
                </a:solidFill>
                <a:latin typeface="Garamond"/>
              </a:rPr>
              <a:t>Nobility: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 many had great wealth; exempt from most taxes; collected feudal du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92929"/>
                </a:solidFill>
                <a:latin typeface="Garamond"/>
              </a:rPr>
              <a:t>3.</a:t>
            </a:r>
            <a:r>
              <a:rPr b="0" lang="en-US" sz="2000" spc="-1" strike="noStrike">
                <a:solidFill>
                  <a:srgbClr val="292929"/>
                </a:solidFill>
                <a:latin typeface="Garamond"/>
              </a:rPr>
              <a:t>  List three factors that contributed to the French economic crisis of the 1770’s and 1780’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poor harvests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trade regulations (tolls)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guild monopoli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huge debt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support of American Revolu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292929"/>
                </a:solidFill>
                <a:latin typeface="Garamond"/>
              </a:rPr>
              <a:t>- borrowed money to support Versailles and fight wars in Europe and oversea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4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0" y="620640"/>
            <a:ext cx="4211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C.  The Growing Economic Cri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 In General: 170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y prosper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pulation growth – 18 million to 25 millio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od surpluses helped textile/mining industri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mercantilism: export more than you impor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Hardships: 1770’s/80’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iddle Age regulation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axing on merchant tra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monopolies by guilds made it difficult for entrepreneu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* government debt high and increas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to pay for wa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support the Versailles Cour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American Revolution double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XVI was not an able rul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tes: Unit Tw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211640" y="476280"/>
            <a:ext cx="464328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3.  Reform Attempts: 1774-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appointed Robert Turgot as finance minister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controlled government financial spending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duced court expens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removed internal customs taxes on foo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mited power of some guild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urgot attempted to tax nobles (a major reform)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ittle succes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needed the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arlemen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to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pprove this tax but they wer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led by nobl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bles of the Rob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rejected the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idea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King dismissed Turgot in 1776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4.  The Writing on the Wall:  1776-1788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government secured new bank loan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helped only for a little whi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6: bankers refused to lend more mone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1787 and 1788: had poor harvest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bread shortages upset people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went to Parlements for a new tax, his wishes were rejected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called for the Estates General to meet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The Estates General represented all three estates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- Louis hoped to win support for reforms that would restore economic stability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4" dur="500"/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evanc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mall to moderate political, economic, or social complai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risi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xtreme events or complaints which can threaten political, economic, or social stabil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form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mprovement by change which leaves old political and social system basically intac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Revolu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 sudden profound change which destroys the old political and social system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0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5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0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68360" y="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Garamond"/>
              </a:rPr>
              <a:t>What were the main causes of the French Revolution?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0" y="522360"/>
          <a:ext cx="9144000" cy="6335640"/>
        </p:xfrm>
        <a:graphic>
          <a:graphicData uri="http://schemas.openxmlformats.org/drawingml/2006/table">
            <a:tbl>
              <a:tblPr/>
              <a:tblGrid>
                <a:gridCol w="3635280"/>
                <a:gridCol w="2808360"/>
                <a:gridCol w="270036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Grievance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Crisi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92929"/>
                          </a:solidFill>
                          <a:latin typeface="Arial"/>
                        </a:rPr>
                        <a:t>Failed Reforms</a:t>
                      </a:r>
                      <a:endParaRPr b="0" lang="en-US" sz="20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7"/>
          <p:cNvSpPr/>
          <p:nvPr/>
        </p:nvSpPr>
        <p:spPr>
          <a:xfrm>
            <a:off x="0" y="1052640"/>
            <a:ext cx="363528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onarch had absolute power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First and Second Estates had many privileg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lergy collected tith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hurch owned much land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many nobles enjoyed great wealth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become army officer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only nobles could hold high church off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collected feudal dues from peasa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Third Estate paid most tax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erform unpaid service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had to pay taxes, tithes, and r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peasants were forbidden to kill animals that ate their crop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nobles damaged crops by hunting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- city workers suffered from infl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708360" y="1052640"/>
            <a:ext cx="266400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in 1770’s, economic activity slow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poor harve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regulations from Middle Ages hampered trade and manufacturing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many custom duties within Franc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entrepreneurs could not set up business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huge government deb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ankers refused to lend more mone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bread shortage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6516720" y="1052640"/>
            <a:ext cx="2627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Louis didn’t back his ministers’ reform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didn’t allow themselves to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nobles felt only “lower classes” should be taxed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- King dismissed Turgo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0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3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8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3" dur="500"/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3" dur="500"/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02:19:57Z</dcterms:created>
  <dc:creator>DELI</dc:creator>
  <dc:description/>
  <dc:language>en-US</dc:language>
  <cp:lastModifiedBy>RomaK</cp:lastModifiedBy>
  <dcterms:modified xsi:type="dcterms:W3CDTF">2015-09-04T09:34:08Z</dcterms:modified>
  <cp:revision>50</cp:revision>
  <dc:subject/>
  <dc:title>Unit Two The French Revolution and Napoleon</dc:title>
</cp:coreProperties>
</file>