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06FD-5AE0-418F-8117-2213818E5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4D1-BECE-471D-8D99-E065E3CA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968-F101-480D-9F66-A78EA614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1C0-C867-450B-B069-AF6E78FA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B6B-35B0-4A9A-88D1-0D11405F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C3A-412A-40BE-8B1C-D64B61CD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71C-ECEA-4279-B9F7-D0DF5C4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A17-001C-45DD-A07A-CFCCC2C8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9BF-14B6-41F5-AF0F-D1BBBEFF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031-3A5E-453A-AB9D-308C125D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F21-9278-4C7F-815B-A515DA5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A8E-ECBD-440F-83F1-6985AEE2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89C-1E2C-4AD4-B449-3740194B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960B-89B3-456C-92EB-98CF47469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RomaK</cp:lastModifiedBy>
  <dcterms:modified xsi:type="dcterms:W3CDTF">2015-09-04T09:33:55Z</dcterms:modified>
  <cp:revision>22</cp:revision>
  <dc:subject/>
  <dc:title>The French and Indian War</dc:title>
</cp:coreProperties>
</file>