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4774-3C16-49BB-86E9-536D10FBF6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92F-BD0D-4C2C-94F5-C0B3FDFC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104C-1F69-446C-A4D6-21A85485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8A63-39FF-4816-BE49-D6BB78C7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9B8-0932-4358-AE73-B11CF5B0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72EB-4B5B-4F5E-8BBA-4ABA67DD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D0AA-9F48-411F-A88C-8355EF11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0808-9BCC-4A30-8543-37FFEE29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F7D5-3787-4DAF-B2FD-16E544B0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571-6DC2-44C0-9103-CCCE51B0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F03-DFA0-4359-937B-75353622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A2D-D84D-42C3-A317-DF1AD642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8FC-E535-436C-8459-92FAD951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D3DC-4EFA-4644-92CE-41D0B1289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RomaK</cp:lastModifiedBy>
  <dcterms:modified xsi:type="dcterms:W3CDTF">2015-09-04T09:33:55Z</dcterms:modified>
  <cp:revision>22</cp:revision>
  <dc:subject/>
  <dc:title>The French and Indian War</dc:title>
</cp:coreProperties>
</file>