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2.jpeg" ContentType="image/jpeg"/>
  <Override PartName="/ppt/media/image17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18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925AA-4FBE-4EED-A25E-0810ADFB067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rench and Indian W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and the French are like two edges of a pair of shears, and we are the cloth that is cut to pieces between them.”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tive American to an English m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r Begins and Sprea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keep British out of the valley, they destroy a British trading post (Pickawillan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rench then built forts to protect the region linking their Canadian and Louisiana settle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rginia Reac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nd major George Washington to ask the French to lea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glish build a fort close to present day Pittsbu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ench seize the fort before they were done and name it Fort Duques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told me the Country belogn’d to them, that no English Man had a right to trade upon them Waters; &amp; that he had Orders to make every Person Prisoner that attempted it on the Ohio or the Waters on it.” – G.W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t Necess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shington was on his way to Fort Duquesne when he heard of its surren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stead, he built a small fort but was attacked and forced to surrender (July 3, 175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Albany Plan of Un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le the fighting was beginning, representatives were trying to get the Iroquois to fight with the colonists (English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Ben Franklin was trying to get the colonists to join together for defensive purpo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uncil that could collect taxes, make treaties, raise an army, and make new settlemen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addock’s Defe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uly 9, 1755: Marched on Fort Duquesne with 2 regiments and Washingt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were ambushed and destroy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00 English men were killed or wound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nglish new it would take more to defeat the Fren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British Take Quebec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lliam Pitt – Sec. of St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w Philosophy on the w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nt more troops, nations top generals and more money to win the w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urning Poi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ebec – cliff 300 feet above the St. Lawrence River loaded with cannons and troop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2 months sailed around looking for a way to capture it – eventually found an unguarded path up the clif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uring Poi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night fall 4,000 British snuck up the cliff and wait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rprised the French in the morn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ntreal falls within the ye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Why do you think Battle of Quebec is a turning point  in the war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Treaty of Paris*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itain received all land east of the Mississipp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ain received all land west of the Mississippi and New Orleans for its hel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Britain got Florida from Spain in exchange for Cuba and the Philippin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Treaty ended the war as well as French power in North Americ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ance Claims Western La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ench exploring interior of Americ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te 1600’s – France had claimed the Ohio River Valley, the Mississippi River Valley, and the great lake reg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uisiana (La Salle) stretched from the Appalachian Mountains to the Rocky Mountain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GE 132 and 13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ntiac’s Rebell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Proclamation of 1763 – forbid colonists to settle west of Appalachian Mounta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/C new they couldn’t protect them against Natives or Fren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lonists are not happy about this; feel it is their right to settle the la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ench Main Settle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ebec and Montre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cated along the St. Lawrence Riv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w Orleans – Mississippi Riv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Why are these settlements so importan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ench Popul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760 – NEW FRANCE had about 80,000 people (England had over 1 million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Why is their such a difference in populatio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ench were mostly fur trappers who traded with the Native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rs, guns, knives, iron pots, etc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tive American Allian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English competed with the French for fu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Native American groups competed to supply Europeans with fu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tive American Allian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The fur trade created economic and military rivalries and alliances between the Native Americans and the European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alliances between the Natives and Europeans led to their involvement in the war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gonquin and Huron sided with the French while the Iroquois became divid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Conflict in the Ohio River Valle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eds of war planted by when British fur traders moved into the Ohio River Valley in the 1750’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itish land companies were also planning to settle colonists ther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2B409-17C5-4D8B-87B2-CFF849007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197B9-5E56-460E-8EDA-5BDFC2D3F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AB9AC-8DED-4104-951A-F8929EE9A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0BA81-E125-44F3-922E-982FD09F1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80F41-FBBE-43C6-8AFB-7F4403669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EB263-FE2A-4FC4-94B1-6E94EFB68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6FE9B-057B-4CF5-9079-A30BBF85D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A2644-19E2-4E8D-A0E2-C26D17BF1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34D2F-202A-4DE9-BF8D-E5A392ECC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BEB50-4FD9-454C-86D7-2823AF77D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B7D84-93F0-4D2C-BB40-D5BEBDD06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58A0A-61DE-4CA3-BDC2-B9F3D00C8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8B19D-0A64-44E9-BB3E-BAED881FDA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7772400" cy="46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French and Indian W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http://www.lordnelsons.com/gallery/frontier/wright/images/Shawnee.jpg"/>
          <p:cNvPicPr/>
          <p:nvPr/>
        </p:nvPicPr>
        <p:blipFill>
          <a:blip r:embed="rId1"/>
          <a:stretch/>
        </p:blipFill>
        <p:spPr>
          <a:xfrm>
            <a:off x="0" y="4068720"/>
            <a:ext cx="2057400" cy="2789280"/>
          </a:xfrm>
          <a:prstGeom prst="rect">
            <a:avLst/>
          </a:prstGeom>
          <a:ln w="0">
            <a:noFill/>
          </a:ln>
        </p:spPr>
      </p:pic>
      <p:sp>
        <p:nvSpPr>
          <p:cNvPr id="50" name="Text Box 5"/>
          <p:cNvSpPr/>
          <p:nvPr/>
        </p:nvSpPr>
        <p:spPr>
          <a:xfrm>
            <a:off x="1600200" y="2209680"/>
            <a:ext cx="70866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and the French are like two edges of a pair of shears, and we are the cloth that is cut to pieces between them.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tive American to an English m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england indian france"/>
          <p:cNvPicPr/>
          <p:nvPr/>
        </p:nvPicPr>
        <p:blipFill>
          <a:blip r:embed="rId2"/>
          <a:stretch/>
        </p:blipFill>
        <p:spPr>
          <a:xfrm>
            <a:off x="5867280" y="3936960"/>
            <a:ext cx="327672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r Begins and Sprea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keep British out of the valley, they destroy a British trading post (Pickawillan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rench then built forts to protect the region linking their Canadian and Louisiana settl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irginia Reac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0" y="609120"/>
            <a:ext cx="91440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nd major George Washington to ask the French to le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glish build a fort close to present day Pittsbur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ench seize the fort before they were done and name it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Fort Duques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5" descr="duquesne_diorama"/>
          <p:cNvPicPr/>
          <p:nvPr/>
        </p:nvPicPr>
        <p:blipFill>
          <a:blip r:embed="rId1"/>
          <a:stretch/>
        </p:blipFill>
        <p:spPr>
          <a:xfrm>
            <a:off x="4238640" y="3927600"/>
            <a:ext cx="4905360" cy="2930400"/>
          </a:xfrm>
          <a:prstGeom prst="rect">
            <a:avLst/>
          </a:prstGeom>
          <a:ln w="0">
            <a:noFill/>
          </a:ln>
        </p:spPr>
      </p:pic>
      <p:sp>
        <p:nvSpPr>
          <p:cNvPr id="77" name="Text Box 6"/>
          <p:cNvSpPr/>
          <p:nvPr/>
        </p:nvSpPr>
        <p:spPr>
          <a:xfrm>
            <a:off x="457200" y="4267080"/>
            <a:ext cx="2971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 told me the Country belogn’d to them, that no English Man had a right to trade upon them Waters; &amp; that he had Orders to make every Person Prisoner that attempted it on the Ohio or the Waters on it.” – G.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t Necess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shington was on his way to Fort Duquesne when he heard of its surren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ead, he built a small fort but was attacked and forced to surrender (July 3, 175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5" descr="858"/>
          <p:cNvPicPr/>
          <p:nvPr/>
        </p:nvPicPr>
        <p:blipFill>
          <a:blip r:embed="rId1"/>
          <a:stretch/>
        </p:blipFill>
        <p:spPr>
          <a:xfrm>
            <a:off x="4314960" y="4667400"/>
            <a:ext cx="4829040" cy="21906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7" descr="FtNecessity"/>
          <p:cNvPicPr/>
          <p:nvPr/>
        </p:nvPicPr>
        <p:blipFill>
          <a:blip r:embed="rId2"/>
          <a:stretch/>
        </p:blipFill>
        <p:spPr>
          <a:xfrm>
            <a:off x="0" y="3581280"/>
            <a:ext cx="4876920" cy="265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*Albany Plan of Un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le the fighting was beginning, representatives were trying to get the Iroquois to fight with the colonists (Englis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en Frankli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s trying to get the colonists to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join together for defensive purpo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ncil that could collect taxes, make treaties, raise an army, and make new settlem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5" descr="http://www.benfranklin300.org/exhibition/_html/5_1/_images/a457.jpg"/>
          <p:cNvPicPr/>
          <p:nvPr/>
        </p:nvPicPr>
        <p:blipFill>
          <a:blip r:embed="rId1"/>
          <a:stretch/>
        </p:blipFill>
        <p:spPr>
          <a:xfrm>
            <a:off x="990720" y="4343400"/>
            <a:ext cx="3124080" cy="22082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7" descr="http://www.ben1776.com/images/Ben_ok2_sharp.jpg"/>
          <p:cNvPicPr/>
          <p:nvPr/>
        </p:nvPicPr>
        <p:blipFill>
          <a:blip r:embed="rId2"/>
          <a:stretch/>
        </p:blipFill>
        <p:spPr>
          <a:xfrm>
            <a:off x="6726240" y="4114800"/>
            <a:ext cx="241776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raddock’s Defe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91440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ly 9, 1755: Marched on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Fort Duquesn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ith 2 regiments and Washingt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were ambushed and destroy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00 English men were killed or woun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nglish new it would take more to defeat the Fre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" descr="Image, Source: digital file from b&amp;w film copy neg."/>
          <p:cNvPicPr/>
          <p:nvPr/>
        </p:nvPicPr>
        <p:blipFill>
          <a:blip r:embed="rId1"/>
          <a:stretch/>
        </p:blipFill>
        <p:spPr>
          <a:xfrm>
            <a:off x="5486400" y="4132440"/>
            <a:ext cx="3657600" cy="27255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5" descr="duquesne_diorama"/>
          <p:cNvPicPr/>
          <p:nvPr/>
        </p:nvPicPr>
        <p:blipFill>
          <a:blip r:embed="rId2"/>
          <a:stretch/>
        </p:blipFill>
        <p:spPr>
          <a:xfrm>
            <a:off x="0" y="4719600"/>
            <a:ext cx="3581280" cy="21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British Take Quebec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lliam Pitt – Sec. of St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Philosophy on the w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nt more troops, nations top generals and more money to win the 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5" descr="WilliamPittLg"/>
          <p:cNvPicPr/>
          <p:nvPr/>
        </p:nvPicPr>
        <p:blipFill>
          <a:blip r:embed="rId1"/>
          <a:stretch/>
        </p:blipFill>
        <p:spPr>
          <a:xfrm>
            <a:off x="0" y="3352680"/>
            <a:ext cx="267336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urning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880" y="76212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bec – cliff 300 feet above the St. Lawrence River loaded with cannons and troo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2 months sailed around looking for a way to capture it – eventually found an unguarded path up the clif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1600Map"/>
          <p:cNvPicPr/>
          <p:nvPr/>
        </p:nvPicPr>
        <p:blipFill>
          <a:blip r:embed="rId1"/>
          <a:stretch/>
        </p:blipFill>
        <p:spPr>
          <a:xfrm>
            <a:off x="5181480" y="3768840"/>
            <a:ext cx="3962520" cy="30891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5" descr="flower+156"/>
          <p:cNvPicPr/>
          <p:nvPr/>
        </p:nvPicPr>
        <p:blipFill>
          <a:blip r:embed="rId2"/>
          <a:stretch/>
        </p:blipFill>
        <p:spPr>
          <a:xfrm>
            <a:off x="0" y="3862440"/>
            <a:ext cx="4495680" cy="29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uring Poi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night fall 4,000 British snuck up the cliff and wai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rprised the French in the mo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treal falls within the y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Why do you think Battle of Quebec is a turning point  in the wa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5" descr="post-1374-1184537522"/>
          <p:cNvPicPr/>
          <p:nvPr/>
        </p:nvPicPr>
        <p:blipFill>
          <a:blip r:embed="rId1"/>
          <a:stretch/>
        </p:blipFill>
        <p:spPr>
          <a:xfrm>
            <a:off x="4419720" y="3959280"/>
            <a:ext cx="4724280" cy="28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5" descr="c000355k"/>
          <p:cNvPicPr/>
          <p:nvPr/>
        </p:nvPicPr>
        <p:blipFill>
          <a:blip r:embed="rId1"/>
          <a:stretch/>
        </p:blipFill>
        <p:spPr>
          <a:xfrm>
            <a:off x="838080" y="733320"/>
            <a:ext cx="7620120" cy="528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Treaty of Paris*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6094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ritai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eceived all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land east of the Mississipp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pai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eceived all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land west of the Mississippi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New Orleans for its hel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Britain got Florida from Spain in exchange for Cuba and the Philippin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Treaty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nded the wa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 well a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French powe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North Ame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" descr="http://www.american.edu/TED/ice/images4/kckbritish-era-1763-75.png"/>
          <p:cNvPicPr/>
          <p:nvPr/>
        </p:nvPicPr>
        <p:blipFill>
          <a:blip r:embed="rId1"/>
          <a:stretch/>
        </p:blipFill>
        <p:spPr>
          <a:xfrm>
            <a:off x="5562720" y="3797280"/>
            <a:ext cx="3581280" cy="30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ance Claims Western La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ench exploring interior of Amer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te 1600’s – France had claimed the Ohio River Valley, the Mississippi River Valley, and the great lake reg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uisiana (La Salle) stretched from the Appalachian Mountains to the Rocky Mountai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GE 132 and 13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ntiac’s Rebell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68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Proclamation of 1763 – forbid colonists to settle west of Appalachian Mounta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/C new they couldn’t protect them against Natives or Fre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nists are not happy about this; feel it is their right to settle the l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5" descr="map-british-north-america1775"/>
          <p:cNvPicPr/>
          <p:nvPr/>
        </p:nvPicPr>
        <p:blipFill>
          <a:blip r:embed="rId1"/>
          <a:stretch/>
        </p:blipFill>
        <p:spPr>
          <a:xfrm>
            <a:off x="5638680" y="3276720"/>
            <a:ext cx="350532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5" descr="1600Map"/>
          <p:cNvPicPr/>
          <p:nvPr/>
        </p:nvPicPr>
        <p:blipFill>
          <a:blip r:embed="rId1"/>
          <a:stretch/>
        </p:blipFill>
        <p:spPr>
          <a:xfrm>
            <a:off x="990720" y="0"/>
            <a:ext cx="7543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ench Main Settl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bec and Montre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cated along the St. Lawrence Ri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Orleans – Mississippi Ri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Why are these settlements so importa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ench Pop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760 – NEW FRANCE had about 80,000 people (England had over 1 mill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Why is their such a difference in popula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rench were mostly fur trappers who traded with the Native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91440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rs, guns, knives, iron pots, etc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picture"/>
          <p:cNvPicPr/>
          <p:nvPr/>
        </p:nvPicPr>
        <p:blipFill>
          <a:blip r:embed="rId1"/>
          <a:stretch/>
        </p:blipFill>
        <p:spPr>
          <a:xfrm>
            <a:off x="0" y="2514600"/>
            <a:ext cx="4724280" cy="43434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7" descr="hal_mhc_mhm_birchbark_canoe_sm_93335_7"/>
          <p:cNvPicPr/>
          <p:nvPr/>
        </p:nvPicPr>
        <p:blipFill>
          <a:blip r:embed="rId2"/>
          <a:stretch/>
        </p:blipFill>
        <p:spPr>
          <a:xfrm>
            <a:off x="4876920" y="2438280"/>
            <a:ext cx="426708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tive American Allia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English competed with the French for f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Native American groups competed to supply Europeans with f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5" descr="marquette"/>
          <p:cNvPicPr/>
          <p:nvPr/>
        </p:nvPicPr>
        <p:blipFill>
          <a:blip r:embed="rId1"/>
          <a:stretch/>
        </p:blipFill>
        <p:spPr>
          <a:xfrm>
            <a:off x="1371600" y="3352680"/>
            <a:ext cx="6477120" cy="33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tive American Allia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Th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fur trad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reate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conomic and military rivalries and allianc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etween the Native Americans and the European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alliances between the Natives and Europeans led to their involvement in the wa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gonquin and Huron sided with the French while the Iroquois became divi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*Conflict in the Ohio River Valle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762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eds of war planted by when British fur traders moved into the Ohio River Valley in the 1750’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itish land companies were also planning to settle colonists ther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6da20ecd-5b25-47ae-8a51-7030ade4b170"/>
          <p:cNvPicPr/>
          <p:nvPr/>
        </p:nvPicPr>
        <p:blipFill>
          <a:blip r:embed="rId1"/>
          <a:stretch/>
        </p:blipFill>
        <p:spPr>
          <a:xfrm>
            <a:off x="0" y="3362400"/>
            <a:ext cx="3809880" cy="34956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1600Map"/>
          <p:cNvPicPr/>
          <p:nvPr/>
        </p:nvPicPr>
        <p:blipFill>
          <a:blip r:embed="rId2"/>
          <a:stretch/>
        </p:blipFill>
        <p:spPr>
          <a:xfrm>
            <a:off x="4648320" y="3352680"/>
            <a:ext cx="449568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5T13:50:12Z</dcterms:created>
  <dc:creator>M. Dexheimer</dc:creator>
  <dc:description/>
  <dc:language>en-US</dc:language>
  <cp:lastModifiedBy>RomaK</cp:lastModifiedBy>
  <dcterms:modified xsi:type="dcterms:W3CDTF">2015-09-04T09:33:55Z</dcterms:modified>
  <cp:revision>22</cp:revision>
  <dc:subject/>
  <dc:title>The French and Indian War</dc:title>
</cp:coreProperties>
</file>