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528C-768D-4091-9A4F-C1D3A0C5624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le’s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yle’s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way of plotting the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ved lines are hard to recognise, so we plot the volume against the reciprocal of pressure (ie. 1/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ime the points lie close to a straight line through the orig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s volume is directly proportional to 1/pressure 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is inversely proportional to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way of plotting th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ved lines are hard to recognise, so we plot the volume against the reciprocal of pressure (ie. 1/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ime the points lie close to a straight line through the orig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volume is directly proportional to 1/pressure 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is inversely proportional to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leads us back to Boyle’s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le’s Law: for a fixed mass of gas kept at constant temperature the volume of the gas is inversely proportional to its press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eads us back to Boyle’s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yle’s Law: for a fixed mass of gas kept at constant temperature the volume of the gas is inversely proportional to its press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eep sea diver is working at a depth where the pressure is 3.0 atmospheres. He is breathing out air bubbles. The volume of each air bubble is 2 cm2. At the surface the pressure is 1 atmosphere. What is the volume of each bubble when it reaches the surfa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ep sea diver is working at a depth where the pressure is 3.0 atmospheres. He is breathing out air bubbles. The volume of each air bubble is 2 cm2. At the surface the pressure is 1 atmosphere. What is the volume of each bubble when it reaches the surf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e work this ou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ssume that the temperature is constant, so Boyle’s Law appli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ula first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1 x V1 = P2 x 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numbers:= 1.0 x 2 = 3.0 x 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rearrange the numbers so that you have V2 on one side, and the rest of the numbers on the other side of the ‘equals’ symb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work this 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sume that the temperature is constant, so Boyle’s Law appl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 first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1 x V1 = P2 x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numbers:= 1.0 x 2 = 3.0 x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rearrange the numbers so that you have V2 on one side, and the rest of the numbers on the other side of the ‘equals’ symb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’s what you should have calcul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2 = 3.0 x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fore volume of bubbles = 6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that P1 and P2 have the same unit, as will V1 and 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you should have calc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2 = 3.0 x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 volume of bubbles = 6 c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P1 and P2 have the same unit, as will V1 and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Boyle’s Law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le’s Law is one of the laws in physics that concern the behaviour of g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gas is under pressure it takes up less spa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igher the pressure, the smaller the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les Law tells us about the relationship between the volume of a gas and its pressure at a constant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w states that pressure is inversely proportional to the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oyle’s Law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yle’s Law is one of the laws in physics that concern the behaviour of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gas is under pressure it takes up less spa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gher the pressure, the smaller the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yles Law tells us about the relationship between the volume of a gas and its pressure at a constant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w states that pressure is inversely proportional to the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write Boyle’s Law as a formul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is inversely proportional to the volume and can be written a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a  1/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=pressure in N/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=volume in dm3 (litr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=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more usually written a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=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V=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1V1=P2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write Boyle’s Law as a formul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is inversely proportional to the volume and can be written 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a  1/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=pressure in N/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=volume in dm3 (litr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=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more usually written 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=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V=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1V1=P2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investigate Boyle’s La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investigating Boyles law a given volume of gas is sucked into a cylinder and the end is sea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mperature of the gas is kept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several equal weights we can apply increasing pressure to the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calculate the pressure by dividing the force applied by the area of the top of the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olume will be shown on the scale on the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investigate Boyle’s La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investigating Boyles law a given volume of gas is sucked into a cylinder and the end is sea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of the gas is kept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several equal weights we can apply increasing pressure to the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calculate the pressure by dividing the force applied by the area of the top of the cyl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olume will be shown on the scale on the cyl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le’s Law appar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yle’s Law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ow are some results of an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pV (pressure x volume) for each set of results. What do you noti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ow are some results of an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pV (pressure x volume) for each set of results. What do you noti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se experimental results sh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essure x volume for each set of results remains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called Boyle’s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fixed mass of gas, at constant temperature, pV = constant 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1 x V1 =  P2 x 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us look at the results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se experimental results s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sure x volume for each set of results remains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Boyle’s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fixed mass of gas, at constant temperature, pV = constant 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1 x V1 =  P2 x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us look at the results a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are the results of the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you notice that if p is doubled, V is halv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p increases to 3 times as much, V decreases to a 1/3rd . This mea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is inversely proportional to pressure,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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the results of th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you notice that if p is doubled, V is halv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p increases to 3 times as much, V decreases to a 1/3rd . This mea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is inversely proportional to pressure,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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ort of graphs would this data g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plot volume directly against pressure we would get a downwards curve showing that volume gets smaller as the pressure gets larger, and vice vers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ort of graphs would this data g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plot volume directly against pressure we would get a downwards curve showing that volume gets smaller as the pressure gets larger, and vice ver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C1E0-A18A-454E-B811-B303BABB2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B3C6-0751-4EB9-8F23-C17F27E8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AD89-645F-4F80-BCA1-66ED95584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BE71-C6C9-48A2-80B5-8CD2D822B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9AA7-F2E9-4DE3-AB37-C87DD4CD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6E1E-6E79-4A1E-A53F-6359EA00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C895-8BED-4AEB-8A81-7D509557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3159-1607-4E2F-A077-6EE3F0CC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BEB1-D4E8-4749-9EB4-796EB19A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BD57-8F6B-413A-BBA6-98F35C9D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1DDA-56B4-4440-8010-8FB31190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8CCE-61C4-478B-B14D-008C2E92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F154-2A05-47E2-9A8A-46AA8768E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66"/>
                </a:solidFill>
                <a:latin typeface="Andy"/>
              </a:rPr>
              <a:t>Boyle’s Law</a:t>
            </a:r>
            <a:endParaRPr b="0" lang="en-US" sz="9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Another way of plotting the data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urved lines are hard to recognise, so we plot the volume against the reciprocal of pressure (ie. 1/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time the points lie close to a straight line through the orig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means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volume is directly proportional to 1/pressur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volume is inversely proportional to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leads us back to Boyle’s Law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Boyle’s Law: for a fixed mass of gas kept at constant temperature the volume of the gas is inversely proportional to its pressu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Problem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deep sea diver is working at a depth where the pressure is 3.0 atmospheres. He is breathing out air bubbles. The volume of each air bubble is 2 c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At the surface the pressure is 1 atmosphere. What is the volume of each bubble when it reaches the surfa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Object 6"/>
          <p:cNvGraphicFramePr/>
          <p:nvPr/>
        </p:nvGraphicFramePr>
        <p:xfrm>
          <a:off x="4799160" y="1981080"/>
          <a:ext cx="35067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9160" y="1981080"/>
                    <a:ext cx="3506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How we work this out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 assume that the temperature is constant, so Boyle’s Law appl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Formula first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x V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= P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x V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Then numbers:=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.0 x 2 = 3.0 x V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Times New Roman"/>
              </a:rPr>
              <a:t>Now rearrange the numbers so that you have V2 on one side, and the rest of the numbers on the other side of the ‘equals’ symb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Here’s what you should have calculate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V2 =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3.0 x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refore volume of bubbles = 6 cm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e that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ave the same unit, as will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Arial"/>
              </a:rPr>
              <a:t>What is Boyle’s Law?</a:t>
            </a:r>
            <a:r>
              <a:rPr b="1" lang="en-GB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yle’s Law is one of the laws in physics that concern the behaviour of g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a gas is under pressure it takes up less spa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higher the pressure, the smaller the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yles Law tells us about the relationship between the volume of a gas and its pressure at a constant temp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law states that </a:t>
            </a: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pressure is inversely proportional to the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How can we write Boyle’s Law as a formula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essure is inversely proportional to the volume and can be written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ressure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1/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P=pressure in N/m</a:t>
            </a:r>
            <a:r>
              <a:rPr b="0" lang="en-GB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V=volume in dm</a:t>
            </a:r>
            <a:r>
              <a:rPr b="0" lang="en-GB" sz="28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 (lit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Bradley Hand ITC"/>
              </a:rPr>
              <a:t>k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=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is more usually written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ressure =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V=</a:t>
            </a:r>
            <a:r>
              <a:rPr b="1" lang="en-GB" sz="3200" spc="-1" strike="noStrike">
                <a:solidFill>
                  <a:srgbClr val="000000"/>
                </a:solidFill>
                <a:latin typeface="Bradley Hand ITC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P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00cc"/>
                </a:solidFill>
                <a:latin typeface="Times New Roman"/>
              </a:rPr>
              <a:t>How can we investigate Boyle’s Law</a:t>
            </a:r>
            <a:r>
              <a:rPr b="0" lang="en-GB" sz="4400" spc="-1" strike="noStrike">
                <a:solidFill>
                  <a:srgbClr val="9900cc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en investigating Boyles law a given volume of gas is sucked into a cylinder and the end is sea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temperature of the gas is kept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sing several equal weights we can apply increasing pressure to the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e can calculate the pressure by dividing the force applied by the area of the top of the cyl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volume will be shown on the scale on the cyl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Boyle’s Law apparatu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57" name="Object 8"/>
          <p:cNvGraphicFramePr/>
          <p:nvPr/>
        </p:nvGraphicFramePr>
        <p:xfrm>
          <a:off x="762120" y="1549440"/>
          <a:ext cx="746748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49440"/>
                    <a:ext cx="74674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elow are some results of an experimen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lculat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pressure x volume) for each set of results. What do you not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Group 112"/>
          <p:cNvGrpSpPr/>
          <p:nvPr/>
        </p:nvGrpSpPr>
        <p:grpSpPr>
          <a:xfrm>
            <a:off x="1676520" y="1066680"/>
            <a:ext cx="5829120" cy="3733920"/>
            <a:chOff x="1676520" y="1066680"/>
            <a:chExt cx="5829120" cy="3733920"/>
          </a:xfrm>
        </p:grpSpPr>
        <p:grpSp>
          <p:nvGrpSpPr>
            <p:cNvPr id="62" name="Group 110"/>
            <p:cNvGrpSpPr/>
            <p:nvPr/>
          </p:nvGrpSpPr>
          <p:grpSpPr>
            <a:xfrm>
              <a:off x="1681200" y="1071000"/>
              <a:ext cx="5819760" cy="3724200"/>
              <a:chOff x="1681200" y="1071000"/>
              <a:chExt cx="5819760" cy="3724200"/>
            </a:xfrm>
          </p:grpSpPr>
          <p:grpSp>
            <p:nvGrpSpPr>
              <p:cNvPr id="63" name="Group 77"/>
              <p:cNvGrpSpPr/>
              <p:nvPr/>
            </p:nvGrpSpPr>
            <p:grpSpPr>
              <a:xfrm>
                <a:off x="1681200" y="1071000"/>
                <a:ext cx="1940040" cy="780480"/>
                <a:chOff x="1681200" y="1071000"/>
                <a:chExt cx="1940040" cy="780480"/>
              </a:xfrm>
            </p:grpSpPr>
            <p:sp>
              <p:nvSpPr>
                <p:cNvPr id="64" name="Rectangle 76"/>
                <p:cNvSpPr/>
                <p:nvPr/>
              </p:nvSpPr>
              <p:spPr>
                <a:xfrm>
                  <a:off x="1681200" y="1071000"/>
                  <a:ext cx="1940040" cy="780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" name="Group 75"/>
                <p:cNvGrpSpPr/>
                <p:nvPr/>
              </p:nvGrpSpPr>
              <p:grpSpPr>
                <a:xfrm>
                  <a:off x="1681200" y="1071000"/>
                  <a:ext cx="1940040" cy="780480"/>
                  <a:chOff x="1681200" y="1071000"/>
                  <a:chExt cx="1940040" cy="780480"/>
                </a:xfrm>
              </p:grpSpPr>
              <p:sp>
                <p:nvSpPr>
                  <p:cNvPr id="66" name="Rectangle 59"/>
                  <p:cNvSpPr/>
                  <p:nvPr/>
                </p:nvSpPr>
                <p:spPr>
                  <a:xfrm>
                    <a:off x="1749600" y="1071000"/>
                    <a:ext cx="1803240" cy="780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Pressure 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Rectangle 74"/>
                  <p:cNvSpPr/>
                  <p:nvPr/>
                </p:nvSpPr>
                <p:spPr>
                  <a:xfrm>
                    <a:off x="1681200" y="1071000"/>
                    <a:ext cx="1940040" cy="780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8" name="Group 81"/>
              <p:cNvGrpSpPr/>
              <p:nvPr/>
            </p:nvGrpSpPr>
            <p:grpSpPr>
              <a:xfrm>
                <a:off x="3621240" y="1071000"/>
                <a:ext cx="1939680" cy="780480"/>
                <a:chOff x="3621240" y="1071000"/>
                <a:chExt cx="1939680" cy="780480"/>
              </a:xfrm>
            </p:grpSpPr>
            <p:sp>
              <p:nvSpPr>
                <p:cNvPr id="69" name="Rectangle 80"/>
                <p:cNvSpPr/>
                <p:nvPr/>
              </p:nvSpPr>
              <p:spPr>
                <a:xfrm>
                  <a:off x="3621240" y="1071000"/>
                  <a:ext cx="1939680" cy="780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" name="Group 79"/>
                <p:cNvGrpSpPr/>
                <p:nvPr/>
              </p:nvGrpSpPr>
              <p:grpSpPr>
                <a:xfrm>
                  <a:off x="3621240" y="1071000"/>
                  <a:ext cx="1939680" cy="780480"/>
                  <a:chOff x="3621240" y="1071000"/>
                  <a:chExt cx="1939680" cy="780480"/>
                </a:xfrm>
              </p:grpSpPr>
              <p:sp>
                <p:nvSpPr>
                  <p:cNvPr id="71" name="Rectangle 60"/>
                  <p:cNvSpPr/>
                  <p:nvPr/>
                </p:nvSpPr>
                <p:spPr>
                  <a:xfrm>
                    <a:off x="3689280" y="1071000"/>
                    <a:ext cx="1803600" cy="780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Arial"/>
                      </a:rPr>
                      <a:t>Volume V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Rectangle 78"/>
                  <p:cNvSpPr/>
                  <p:nvPr/>
                </p:nvSpPr>
                <p:spPr>
                  <a:xfrm>
                    <a:off x="3621240" y="1071000"/>
                    <a:ext cx="1939680" cy="780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3" name="Group 85"/>
              <p:cNvGrpSpPr/>
              <p:nvPr/>
            </p:nvGrpSpPr>
            <p:grpSpPr>
              <a:xfrm>
                <a:off x="5560920" y="1071000"/>
                <a:ext cx="1940040" cy="780480"/>
                <a:chOff x="5560920" y="1071000"/>
                <a:chExt cx="1940040" cy="780480"/>
              </a:xfrm>
            </p:grpSpPr>
            <p:sp>
              <p:nvSpPr>
                <p:cNvPr id="74" name="Rectangle 84"/>
                <p:cNvSpPr/>
                <p:nvPr/>
              </p:nvSpPr>
              <p:spPr>
                <a:xfrm>
                  <a:off x="5560920" y="1071000"/>
                  <a:ext cx="1940040" cy="780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5" name="Group 83"/>
                <p:cNvGrpSpPr/>
                <p:nvPr/>
              </p:nvGrpSpPr>
              <p:grpSpPr>
                <a:xfrm>
                  <a:off x="5560920" y="1071000"/>
                  <a:ext cx="1940040" cy="780480"/>
                  <a:chOff x="5560920" y="1071000"/>
                  <a:chExt cx="1940040" cy="780480"/>
                </a:xfrm>
              </p:grpSpPr>
              <p:sp>
                <p:nvSpPr>
                  <p:cNvPr id="76" name="Rectangle 61"/>
                  <p:cNvSpPr/>
                  <p:nvPr/>
                </p:nvSpPr>
                <p:spPr>
                  <a:xfrm>
                    <a:off x="5629320" y="1071000"/>
                    <a:ext cx="1803240" cy="780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P x V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Rectangle 82"/>
                  <p:cNvSpPr/>
                  <p:nvPr/>
                </p:nvSpPr>
                <p:spPr>
                  <a:xfrm>
                    <a:off x="5560920" y="1071000"/>
                    <a:ext cx="1940040" cy="780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8" name="Group 87"/>
              <p:cNvGrpSpPr/>
              <p:nvPr/>
            </p:nvGrpSpPr>
            <p:grpSpPr>
              <a:xfrm>
                <a:off x="1681200" y="1851480"/>
                <a:ext cx="1940040" cy="735480"/>
                <a:chOff x="1681200" y="1851480"/>
                <a:chExt cx="1940040" cy="735480"/>
              </a:xfrm>
            </p:grpSpPr>
            <p:sp>
              <p:nvSpPr>
                <p:cNvPr id="79" name="Rectangle 62"/>
                <p:cNvSpPr/>
                <p:nvPr/>
              </p:nvSpPr>
              <p:spPr>
                <a:xfrm>
                  <a:off x="1749600" y="1851480"/>
                  <a:ext cx="180324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.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Rectangle 86"/>
                <p:cNvSpPr/>
                <p:nvPr/>
              </p:nvSpPr>
              <p:spPr>
                <a:xfrm>
                  <a:off x="1681200" y="1851480"/>
                  <a:ext cx="194004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Group 89"/>
              <p:cNvGrpSpPr/>
              <p:nvPr/>
            </p:nvGrpSpPr>
            <p:grpSpPr>
              <a:xfrm>
                <a:off x="3621240" y="1851480"/>
                <a:ext cx="1939680" cy="735480"/>
                <a:chOff x="3621240" y="1851480"/>
                <a:chExt cx="1939680" cy="735480"/>
              </a:xfrm>
            </p:grpSpPr>
            <p:sp>
              <p:nvSpPr>
                <p:cNvPr id="82" name="Rectangle 63"/>
                <p:cNvSpPr/>
                <p:nvPr/>
              </p:nvSpPr>
              <p:spPr>
                <a:xfrm>
                  <a:off x="3689280" y="1851480"/>
                  <a:ext cx="180360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Rectangle 88"/>
                <p:cNvSpPr/>
                <p:nvPr/>
              </p:nvSpPr>
              <p:spPr>
                <a:xfrm>
                  <a:off x="3621240" y="1851480"/>
                  <a:ext cx="193968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Group 91"/>
              <p:cNvGrpSpPr/>
              <p:nvPr/>
            </p:nvGrpSpPr>
            <p:grpSpPr>
              <a:xfrm>
                <a:off x="5560920" y="1851480"/>
                <a:ext cx="1940040" cy="735480"/>
                <a:chOff x="5560920" y="1851480"/>
                <a:chExt cx="1940040" cy="735480"/>
              </a:xfrm>
            </p:grpSpPr>
            <p:sp>
              <p:nvSpPr>
                <p:cNvPr id="85" name="Rectangle 64"/>
                <p:cNvSpPr/>
                <p:nvPr/>
              </p:nvSpPr>
              <p:spPr>
                <a:xfrm>
                  <a:off x="5629320" y="1851480"/>
                  <a:ext cx="180324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4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Rectangle 90"/>
                <p:cNvSpPr/>
                <p:nvPr/>
              </p:nvSpPr>
              <p:spPr>
                <a:xfrm>
                  <a:off x="5560920" y="1851480"/>
                  <a:ext cx="194004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Group 93"/>
              <p:cNvGrpSpPr/>
              <p:nvPr/>
            </p:nvGrpSpPr>
            <p:grpSpPr>
              <a:xfrm>
                <a:off x="1681200" y="2587320"/>
                <a:ext cx="1940040" cy="735840"/>
                <a:chOff x="1681200" y="2587320"/>
                <a:chExt cx="1940040" cy="735840"/>
              </a:xfrm>
            </p:grpSpPr>
            <p:sp>
              <p:nvSpPr>
                <p:cNvPr id="88" name="Rectangle 65"/>
                <p:cNvSpPr/>
                <p:nvPr/>
              </p:nvSpPr>
              <p:spPr>
                <a:xfrm>
                  <a:off x="1749600" y="2587320"/>
                  <a:ext cx="180324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.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Rectangle 92"/>
                <p:cNvSpPr/>
                <p:nvPr/>
              </p:nvSpPr>
              <p:spPr>
                <a:xfrm>
                  <a:off x="1681200" y="2587320"/>
                  <a:ext cx="194004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Group 95"/>
              <p:cNvGrpSpPr/>
              <p:nvPr/>
            </p:nvGrpSpPr>
            <p:grpSpPr>
              <a:xfrm>
                <a:off x="3621240" y="2587320"/>
                <a:ext cx="1939680" cy="735840"/>
                <a:chOff x="3621240" y="2587320"/>
                <a:chExt cx="1939680" cy="735840"/>
              </a:xfrm>
            </p:grpSpPr>
            <p:sp>
              <p:nvSpPr>
                <p:cNvPr id="91" name="Rectangle 66"/>
                <p:cNvSpPr/>
                <p:nvPr/>
              </p:nvSpPr>
              <p:spPr>
                <a:xfrm>
                  <a:off x="3689280" y="2587320"/>
                  <a:ext cx="180360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Rectangle 94"/>
                <p:cNvSpPr/>
                <p:nvPr/>
              </p:nvSpPr>
              <p:spPr>
                <a:xfrm>
                  <a:off x="3621240" y="2587320"/>
                  <a:ext cx="193968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Group 97"/>
              <p:cNvGrpSpPr/>
              <p:nvPr/>
            </p:nvGrpSpPr>
            <p:grpSpPr>
              <a:xfrm>
                <a:off x="5560920" y="2587320"/>
                <a:ext cx="1940040" cy="735840"/>
                <a:chOff x="5560920" y="2587320"/>
                <a:chExt cx="1940040" cy="735840"/>
              </a:xfrm>
            </p:grpSpPr>
            <p:sp>
              <p:nvSpPr>
                <p:cNvPr id="94" name="Rectangle 67"/>
                <p:cNvSpPr/>
                <p:nvPr/>
              </p:nvSpPr>
              <p:spPr>
                <a:xfrm>
                  <a:off x="5629320" y="2587320"/>
                  <a:ext cx="180324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Rectangle 96"/>
                <p:cNvSpPr/>
                <p:nvPr/>
              </p:nvSpPr>
              <p:spPr>
                <a:xfrm>
                  <a:off x="5560920" y="2587320"/>
                  <a:ext cx="194004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Group 99"/>
              <p:cNvGrpSpPr/>
              <p:nvPr/>
            </p:nvGrpSpPr>
            <p:grpSpPr>
              <a:xfrm>
                <a:off x="1681200" y="3323520"/>
                <a:ext cx="1940040" cy="735840"/>
                <a:chOff x="1681200" y="3323520"/>
                <a:chExt cx="1940040" cy="735840"/>
              </a:xfrm>
            </p:grpSpPr>
            <p:sp>
              <p:nvSpPr>
                <p:cNvPr id="97" name="Rectangle 68"/>
                <p:cNvSpPr/>
                <p:nvPr/>
              </p:nvSpPr>
              <p:spPr>
                <a:xfrm>
                  <a:off x="1749600" y="3323520"/>
                  <a:ext cx="180324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.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Rectangle 98"/>
                <p:cNvSpPr/>
                <p:nvPr/>
              </p:nvSpPr>
              <p:spPr>
                <a:xfrm>
                  <a:off x="1681200" y="3323520"/>
                  <a:ext cx="194004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Group 101"/>
              <p:cNvGrpSpPr/>
              <p:nvPr/>
            </p:nvGrpSpPr>
            <p:grpSpPr>
              <a:xfrm>
                <a:off x="3621240" y="3323520"/>
                <a:ext cx="1939680" cy="735840"/>
                <a:chOff x="3621240" y="3323520"/>
                <a:chExt cx="1939680" cy="735840"/>
              </a:xfrm>
            </p:grpSpPr>
            <p:sp>
              <p:nvSpPr>
                <p:cNvPr id="100" name="Rectangle 69"/>
                <p:cNvSpPr/>
                <p:nvPr/>
              </p:nvSpPr>
              <p:spPr>
                <a:xfrm>
                  <a:off x="3689280" y="3323520"/>
                  <a:ext cx="180360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Rectangle 100"/>
                <p:cNvSpPr/>
                <p:nvPr/>
              </p:nvSpPr>
              <p:spPr>
                <a:xfrm>
                  <a:off x="3621240" y="3323520"/>
                  <a:ext cx="193968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Group 103"/>
              <p:cNvGrpSpPr/>
              <p:nvPr/>
            </p:nvGrpSpPr>
            <p:grpSpPr>
              <a:xfrm>
                <a:off x="5560920" y="3323520"/>
                <a:ext cx="1940040" cy="735840"/>
                <a:chOff x="5560920" y="3323520"/>
                <a:chExt cx="1940040" cy="735840"/>
              </a:xfrm>
            </p:grpSpPr>
            <p:sp>
              <p:nvSpPr>
                <p:cNvPr id="103" name="Rectangle 70"/>
                <p:cNvSpPr/>
                <p:nvPr/>
              </p:nvSpPr>
              <p:spPr>
                <a:xfrm>
                  <a:off x="5629320" y="3323520"/>
                  <a:ext cx="180324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Rectangle 102"/>
                <p:cNvSpPr/>
                <p:nvPr/>
              </p:nvSpPr>
              <p:spPr>
                <a:xfrm>
                  <a:off x="5560920" y="3323520"/>
                  <a:ext cx="194004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Group 105"/>
              <p:cNvGrpSpPr/>
              <p:nvPr/>
            </p:nvGrpSpPr>
            <p:grpSpPr>
              <a:xfrm>
                <a:off x="1681200" y="4059720"/>
                <a:ext cx="1940040" cy="735480"/>
                <a:chOff x="1681200" y="4059720"/>
                <a:chExt cx="1940040" cy="735480"/>
              </a:xfrm>
            </p:grpSpPr>
            <p:sp>
              <p:nvSpPr>
                <p:cNvPr id="106" name="Rectangle 71"/>
                <p:cNvSpPr/>
                <p:nvPr/>
              </p:nvSpPr>
              <p:spPr>
                <a:xfrm>
                  <a:off x="1749600" y="4059720"/>
                  <a:ext cx="180324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.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Rectangle 104"/>
                <p:cNvSpPr/>
                <p:nvPr/>
              </p:nvSpPr>
              <p:spPr>
                <a:xfrm>
                  <a:off x="1681200" y="4059720"/>
                  <a:ext cx="194004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Group 107"/>
              <p:cNvGrpSpPr/>
              <p:nvPr/>
            </p:nvGrpSpPr>
            <p:grpSpPr>
              <a:xfrm>
                <a:off x="3621240" y="4059720"/>
                <a:ext cx="1939680" cy="735480"/>
                <a:chOff x="3621240" y="4059720"/>
                <a:chExt cx="1939680" cy="735480"/>
              </a:xfrm>
            </p:grpSpPr>
            <p:sp>
              <p:nvSpPr>
                <p:cNvPr id="109" name="Rectangle 72"/>
                <p:cNvSpPr/>
                <p:nvPr/>
              </p:nvSpPr>
              <p:spPr>
                <a:xfrm>
                  <a:off x="3689280" y="4059720"/>
                  <a:ext cx="180360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Rectangle 106"/>
                <p:cNvSpPr/>
                <p:nvPr/>
              </p:nvSpPr>
              <p:spPr>
                <a:xfrm>
                  <a:off x="3621240" y="4059720"/>
                  <a:ext cx="193968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Group 109"/>
              <p:cNvGrpSpPr/>
              <p:nvPr/>
            </p:nvGrpSpPr>
            <p:grpSpPr>
              <a:xfrm>
                <a:off x="5560920" y="4059720"/>
                <a:ext cx="1940040" cy="735480"/>
                <a:chOff x="5560920" y="4059720"/>
                <a:chExt cx="1940040" cy="735480"/>
              </a:xfrm>
            </p:grpSpPr>
            <p:sp>
              <p:nvSpPr>
                <p:cNvPr id="112" name="Rectangle 73"/>
                <p:cNvSpPr/>
                <p:nvPr/>
              </p:nvSpPr>
              <p:spPr>
                <a:xfrm>
                  <a:off x="5629320" y="4059720"/>
                  <a:ext cx="180324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Rectangle 108"/>
                <p:cNvSpPr/>
                <p:nvPr/>
              </p:nvSpPr>
              <p:spPr>
                <a:xfrm>
                  <a:off x="5560920" y="4059720"/>
                  <a:ext cx="194004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" name="Rectangle 111"/>
            <p:cNvSpPr/>
            <p:nvPr/>
          </p:nvSpPr>
          <p:spPr>
            <a:xfrm>
              <a:off x="1676520" y="1066680"/>
              <a:ext cx="5829120" cy="3733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9933"/>
                </a:solidFill>
                <a:latin typeface="Times New Roman"/>
              </a:rPr>
              <a:t>What these experimental results show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pressur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volume for each set of results remains cons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called Boyle’s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a fixed mass of gas, at constant temperature,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V = constant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x V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=  P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x V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t us look at the results ag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ere are the results of the experimen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39625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d you notice that if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doubled,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halv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p increases to 3 times as much, V decreases to a 1/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. This mea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olume is inversely proportional to pressure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111"/>
          <p:cNvGrpSpPr/>
          <p:nvPr/>
        </p:nvGrpSpPr>
        <p:grpSpPr>
          <a:xfrm>
            <a:off x="1676520" y="1066680"/>
            <a:ext cx="5829120" cy="2743200"/>
            <a:chOff x="1676520" y="1066680"/>
            <a:chExt cx="5829120" cy="2743200"/>
          </a:xfrm>
        </p:grpSpPr>
        <p:grpSp>
          <p:nvGrpSpPr>
            <p:cNvPr id="120" name="Group 109"/>
            <p:cNvGrpSpPr/>
            <p:nvPr/>
          </p:nvGrpSpPr>
          <p:grpSpPr>
            <a:xfrm>
              <a:off x="1681200" y="1069920"/>
              <a:ext cx="5819760" cy="2736000"/>
              <a:chOff x="1681200" y="1069920"/>
              <a:chExt cx="5819760" cy="2736000"/>
            </a:xfrm>
          </p:grpSpPr>
          <p:grpSp>
            <p:nvGrpSpPr>
              <p:cNvPr id="121" name="Group 76"/>
              <p:cNvGrpSpPr/>
              <p:nvPr/>
            </p:nvGrpSpPr>
            <p:grpSpPr>
              <a:xfrm>
                <a:off x="1681200" y="1069920"/>
                <a:ext cx="1940040" cy="573480"/>
                <a:chOff x="1681200" y="1069920"/>
                <a:chExt cx="1940040" cy="573480"/>
              </a:xfrm>
            </p:grpSpPr>
            <p:sp>
              <p:nvSpPr>
                <p:cNvPr id="122" name="Rectangle 75"/>
                <p:cNvSpPr/>
                <p:nvPr/>
              </p:nvSpPr>
              <p:spPr>
                <a:xfrm>
                  <a:off x="1681200" y="1069920"/>
                  <a:ext cx="1940040" cy="573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3" name="Group 74"/>
                <p:cNvGrpSpPr/>
                <p:nvPr/>
              </p:nvGrpSpPr>
              <p:grpSpPr>
                <a:xfrm>
                  <a:off x="1681200" y="1069920"/>
                  <a:ext cx="1940040" cy="573480"/>
                  <a:chOff x="1681200" y="1069920"/>
                  <a:chExt cx="1940040" cy="573480"/>
                </a:xfrm>
              </p:grpSpPr>
              <p:sp>
                <p:nvSpPr>
                  <p:cNvPr id="124" name="Rectangle 58"/>
                  <p:cNvSpPr/>
                  <p:nvPr/>
                </p:nvSpPr>
                <p:spPr>
                  <a:xfrm>
                    <a:off x="1749600" y="1069920"/>
                    <a:ext cx="1803240" cy="573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Pressure 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Rectangle 73"/>
                  <p:cNvSpPr/>
                  <p:nvPr/>
                </p:nvSpPr>
                <p:spPr>
                  <a:xfrm>
                    <a:off x="1681200" y="1069920"/>
                    <a:ext cx="1940040" cy="573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6" name="Group 80"/>
              <p:cNvGrpSpPr/>
              <p:nvPr/>
            </p:nvGrpSpPr>
            <p:grpSpPr>
              <a:xfrm>
                <a:off x="3621240" y="1069920"/>
                <a:ext cx="1939680" cy="573480"/>
                <a:chOff x="3621240" y="1069920"/>
                <a:chExt cx="1939680" cy="573480"/>
              </a:xfrm>
            </p:grpSpPr>
            <p:sp>
              <p:nvSpPr>
                <p:cNvPr id="127" name="Rectangle 79"/>
                <p:cNvSpPr/>
                <p:nvPr/>
              </p:nvSpPr>
              <p:spPr>
                <a:xfrm>
                  <a:off x="3621240" y="1069920"/>
                  <a:ext cx="1939680" cy="573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8" name="Group 78"/>
                <p:cNvGrpSpPr/>
                <p:nvPr/>
              </p:nvGrpSpPr>
              <p:grpSpPr>
                <a:xfrm>
                  <a:off x="3621240" y="1069920"/>
                  <a:ext cx="1939680" cy="573480"/>
                  <a:chOff x="3621240" y="1069920"/>
                  <a:chExt cx="1939680" cy="573480"/>
                </a:xfrm>
              </p:grpSpPr>
              <p:sp>
                <p:nvSpPr>
                  <p:cNvPr id="129" name="Rectangle 59"/>
                  <p:cNvSpPr/>
                  <p:nvPr/>
                </p:nvSpPr>
                <p:spPr>
                  <a:xfrm>
                    <a:off x="3689280" y="1069920"/>
                    <a:ext cx="1803600" cy="573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Volume V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Rectangle 77"/>
                  <p:cNvSpPr/>
                  <p:nvPr/>
                </p:nvSpPr>
                <p:spPr>
                  <a:xfrm>
                    <a:off x="3621240" y="1069920"/>
                    <a:ext cx="1939680" cy="573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1" name="Group 84"/>
              <p:cNvGrpSpPr/>
              <p:nvPr/>
            </p:nvGrpSpPr>
            <p:grpSpPr>
              <a:xfrm>
                <a:off x="5560920" y="1069920"/>
                <a:ext cx="1940040" cy="573480"/>
                <a:chOff x="5560920" y="1069920"/>
                <a:chExt cx="1940040" cy="573480"/>
              </a:xfrm>
            </p:grpSpPr>
            <p:sp>
              <p:nvSpPr>
                <p:cNvPr id="132" name="Rectangle 83"/>
                <p:cNvSpPr/>
                <p:nvPr/>
              </p:nvSpPr>
              <p:spPr>
                <a:xfrm>
                  <a:off x="5560920" y="1069920"/>
                  <a:ext cx="1940040" cy="573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3" name="Group 82"/>
                <p:cNvGrpSpPr/>
                <p:nvPr/>
              </p:nvGrpSpPr>
              <p:grpSpPr>
                <a:xfrm>
                  <a:off x="5560920" y="1069920"/>
                  <a:ext cx="1940040" cy="573480"/>
                  <a:chOff x="5560920" y="1069920"/>
                  <a:chExt cx="1940040" cy="573480"/>
                </a:xfrm>
              </p:grpSpPr>
              <p:sp>
                <p:nvSpPr>
                  <p:cNvPr id="134" name="Rectangle 60"/>
                  <p:cNvSpPr/>
                  <p:nvPr/>
                </p:nvSpPr>
                <p:spPr>
                  <a:xfrm>
                    <a:off x="5629320" y="1069920"/>
                    <a:ext cx="1803240" cy="573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P x V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Rectangle 81"/>
                  <p:cNvSpPr/>
                  <p:nvPr/>
                </p:nvSpPr>
                <p:spPr>
                  <a:xfrm>
                    <a:off x="5560920" y="1069920"/>
                    <a:ext cx="1940040" cy="573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6" name="Group 86"/>
              <p:cNvGrpSpPr/>
              <p:nvPr/>
            </p:nvGrpSpPr>
            <p:grpSpPr>
              <a:xfrm>
                <a:off x="1681200" y="1643400"/>
                <a:ext cx="1940040" cy="540360"/>
                <a:chOff x="1681200" y="1643400"/>
                <a:chExt cx="1940040" cy="540360"/>
              </a:xfrm>
            </p:grpSpPr>
            <p:sp>
              <p:nvSpPr>
                <p:cNvPr id="137" name="Rectangle 61"/>
                <p:cNvSpPr/>
                <p:nvPr/>
              </p:nvSpPr>
              <p:spPr>
                <a:xfrm>
                  <a:off x="1749600" y="1643400"/>
                  <a:ext cx="180324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.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Rectangle 85"/>
                <p:cNvSpPr/>
                <p:nvPr/>
              </p:nvSpPr>
              <p:spPr>
                <a:xfrm>
                  <a:off x="1681200" y="1643400"/>
                  <a:ext cx="194004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Group 88"/>
              <p:cNvGrpSpPr/>
              <p:nvPr/>
            </p:nvGrpSpPr>
            <p:grpSpPr>
              <a:xfrm>
                <a:off x="3621240" y="1643400"/>
                <a:ext cx="1939680" cy="540360"/>
                <a:chOff x="3621240" y="1643400"/>
                <a:chExt cx="1939680" cy="540360"/>
              </a:xfrm>
            </p:grpSpPr>
            <p:sp>
              <p:nvSpPr>
                <p:cNvPr id="140" name="Rectangle 62"/>
                <p:cNvSpPr/>
                <p:nvPr/>
              </p:nvSpPr>
              <p:spPr>
                <a:xfrm>
                  <a:off x="3689280" y="1643400"/>
                  <a:ext cx="180360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Rectangle 87"/>
                <p:cNvSpPr/>
                <p:nvPr/>
              </p:nvSpPr>
              <p:spPr>
                <a:xfrm>
                  <a:off x="3621240" y="1643400"/>
                  <a:ext cx="193968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Group 90"/>
              <p:cNvGrpSpPr/>
              <p:nvPr/>
            </p:nvGrpSpPr>
            <p:grpSpPr>
              <a:xfrm>
                <a:off x="5560920" y="1643400"/>
                <a:ext cx="1940040" cy="540360"/>
                <a:chOff x="5560920" y="1643400"/>
                <a:chExt cx="1940040" cy="540360"/>
              </a:xfrm>
            </p:grpSpPr>
            <p:sp>
              <p:nvSpPr>
                <p:cNvPr id="143" name="Rectangle 63"/>
                <p:cNvSpPr/>
                <p:nvPr/>
              </p:nvSpPr>
              <p:spPr>
                <a:xfrm>
                  <a:off x="5629320" y="1643400"/>
                  <a:ext cx="180324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Rectangle 89"/>
                <p:cNvSpPr/>
                <p:nvPr/>
              </p:nvSpPr>
              <p:spPr>
                <a:xfrm>
                  <a:off x="5560920" y="1643400"/>
                  <a:ext cx="194004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Group 92"/>
              <p:cNvGrpSpPr/>
              <p:nvPr/>
            </p:nvGrpSpPr>
            <p:grpSpPr>
              <a:xfrm>
                <a:off x="1681200" y="2183760"/>
                <a:ext cx="1940040" cy="540720"/>
                <a:chOff x="1681200" y="2183760"/>
                <a:chExt cx="1940040" cy="540720"/>
              </a:xfrm>
            </p:grpSpPr>
            <p:sp>
              <p:nvSpPr>
                <p:cNvPr id="146" name="Rectangle 64"/>
                <p:cNvSpPr/>
                <p:nvPr/>
              </p:nvSpPr>
              <p:spPr>
                <a:xfrm>
                  <a:off x="1749600" y="2183760"/>
                  <a:ext cx="180324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.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Rectangle 91"/>
                <p:cNvSpPr/>
                <p:nvPr/>
              </p:nvSpPr>
              <p:spPr>
                <a:xfrm>
                  <a:off x="1681200" y="2183760"/>
                  <a:ext cx="194004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Group 94"/>
              <p:cNvGrpSpPr/>
              <p:nvPr/>
            </p:nvGrpSpPr>
            <p:grpSpPr>
              <a:xfrm>
                <a:off x="3621240" y="2183760"/>
                <a:ext cx="1939680" cy="540720"/>
                <a:chOff x="3621240" y="2183760"/>
                <a:chExt cx="1939680" cy="540720"/>
              </a:xfrm>
            </p:grpSpPr>
            <p:sp>
              <p:nvSpPr>
                <p:cNvPr id="149" name="Rectangle 65"/>
                <p:cNvSpPr/>
                <p:nvPr/>
              </p:nvSpPr>
              <p:spPr>
                <a:xfrm>
                  <a:off x="3689280" y="2183760"/>
                  <a:ext cx="180360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Rectangle 93"/>
                <p:cNvSpPr/>
                <p:nvPr/>
              </p:nvSpPr>
              <p:spPr>
                <a:xfrm>
                  <a:off x="3621240" y="2183760"/>
                  <a:ext cx="193968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Group 96"/>
              <p:cNvGrpSpPr/>
              <p:nvPr/>
            </p:nvGrpSpPr>
            <p:grpSpPr>
              <a:xfrm>
                <a:off x="5560920" y="2183760"/>
                <a:ext cx="1940040" cy="540720"/>
                <a:chOff x="5560920" y="2183760"/>
                <a:chExt cx="1940040" cy="540720"/>
              </a:xfrm>
            </p:grpSpPr>
            <p:sp>
              <p:nvSpPr>
                <p:cNvPr id="152" name="Rectangle 66"/>
                <p:cNvSpPr/>
                <p:nvPr/>
              </p:nvSpPr>
              <p:spPr>
                <a:xfrm>
                  <a:off x="5629320" y="2183760"/>
                  <a:ext cx="180324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Rectangle 95"/>
                <p:cNvSpPr/>
                <p:nvPr/>
              </p:nvSpPr>
              <p:spPr>
                <a:xfrm>
                  <a:off x="5560920" y="2183760"/>
                  <a:ext cx="194004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Group 98"/>
              <p:cNvGrpSpPr/>
              <p:nvPr/>
            </p:nvGrpSpPr>
            <p:grpSpPr>
              <a:xfrm>
                <a:off x="1681200" y="2724840"/>
                <a:ext cx="1940040" cy="540720"/>
                <a:chOff x="1681200" y="2724840"/>
                <a:chExt cx="1940040" cy="540720"/>
              </a:xfrm>
            </p:grpSpPr>
            <p:sp>
              <p:nvSpPr>
                <p:cNvPr id="155" name="Rectangle 67"/>
                <p:cNvSpPr/>
                <p:nvPr/>
              </p:nvSpPr>
              <p:spPr>
                <a:xfrm>
                  <a:off x="1749600" y="2724840"/>
                  <a:ext cx="180324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.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Rectangle 97"/>
                <p:cNvSpPr/>
                <p:nvPr/>
              </p:nvSpPr>
              <p:spPr>
                <a:xfrm>
                  <a:off x="1681200" y="2724840"/>
                  <a:ext cx="194004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Group 100"/>
              <p:cNvGrpSpPr/>
              <p:nvPr/>
            </p:nvGrpSpPr>
            <p:grpSpPr>
              <a:xfrm>
                <a:off x="3621240" y="2724840"/>
                <a:ext cx="1939680" cy="540720"/>
                <a:chOff x="3621240" y="2724840"/>
                <a:chExt cx="1939680" cy="540720"/>
              </a:xfrm>
            </p:grpSpPr>
            <p:sp>
              <p:nvSpPr>
                <p:cNvPr id="158" name="Rectangle 68"/>
                <p:cNvSpPr/>
                <p:nvPr/>
              </p:nvSpPr>
              <p:spPr>
                <a:xfrm>
                  <a:off x="3689280" y="2724840"/>
                  <a:ext cx="180360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Rectangle 99"/>
                <p:cNvSpPr/>
                <p:nvPr/>
              </p:nvSpPr>
              <p:spPr>
                <a:xfrm>
                  <a:off x="3621240" y="2724840"/>
                  <a:ext cx="193968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Group 102"/>
              <p:cNvGrpSpPr/>
              <p:nvPr/>
            </p:nvGrpSpPr>
            <p:grpSpPr>
              <a:xfrm>
                <a:off x="5560920" y="2724840"/>
                <a:ext cx="1940040" cy="540720"/>
                <a:chOff x="5560920" y="2724840"/>
                <a:chExt cx="1940040" cy="540720"/>
              </a:xfrm>
            </p:grpSpPr>
            <p:sp>
              <p:nvSpPr>
                <p:cNvPr id="161" name="Rectangle 69"/>
                <p:cNvSpPr/>
                <p:nvPr/>
              </p:nvSpPr>
              <p:spPr>
                <a:xfrm>
                  <a:off x="5629320" y="2724840"/>
                  <a:ext cx="180324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Rectangle 101"/>
                <p:cNvSpPr/>
                <p:nvPr/>
              </p:nvSpPr>
              <p:spPr>
                <a:xfrm>
                  <a:off x="5560920" y="2724840"/>
                  <a:ext cx="194004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Group 104"/>
              <p:cNvGrpSpPr/>
              <p:nvPr/>
            </p:nvGrpSpPr>
            <p:grpSpPr>
              <a:xfrm>
                <a:off x="1681200" y="3265560"/>
                <a:ext cx="1940040" cy="540360"/>
                <a:chOff x="1681200" y="3265560"/>
                <a:chExt cx="1940040" cy="540360"/>
              </a:xfrm>
            </p:grpSpPr>
            <p:sp>
              <p:nvSpPr>
                <p:cNvPr id="164" name="Rectangle 70"/>
                <p:cNvSpPr/>
                <p:nvPr/>
              </p:nvSpPr>
              <p:spPr>
                <a:xfrm>
                  <a:off x="1749600" y="3265560"/>
                  <a:ext cx="180324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.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Rectangle 103"/>
                <p:cNvSpPr/>
                <p:nvPr/>
              </p:nvSpPr>
              <p:spPr>
                <a:xfrm>
                  <a:off x="1681200" y="3265560"/>
                  <a:ext cx="194004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Group 106"/>
              <p:cNvGrpSpPr/>
              <p:nvPr/>
            </p:nvGrpSpPr>
            <p:grpSpPr>
              <a:xfrm>
                <a:off x="3621240" y="3265560"/>
                <a:ext cx="1939680" cy="540360"/>
                <a:chOff x="3621240" y="3265560"/>
                <a:chExt cx="1939680" cy="540360"/>
              </a:xfrm>
            </p:grpSpPr>
            <p:sp>
              <p:nvSpPr>
                <p:cNvPr id="167" name="Rectangle 71"/>
                <p:cNvSpPr/>
                <p:nvPr/>
              </p:nvSpPr>
              <p:spPr>
                <a:xfrm>
                  <a:off x="3689280" y="3265560"/>
                  <a:ext cx="180360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Rectangle 105"/>
                <p:cNvSpPr/>
                <p:nvPr/>
              </p:nvSpPr>
              <p:spPr>
                <a:xfrm>
                  <a:off x="3621240" y="3265560"/>
                  <a:ext cx="193968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Group 108"/>
              <p:cNvGrpSpPr/>
              <p:nvPr/>
            </p:nvGrpSpPr>
            <p:grpSpPr>
              <a:xfrm>
                <a:off x="5560920" y="3265560"/>
                <a:ext cx="1940040" cy="540360"/>
                <a:chOff x="5560920" y="3265560"/>
                <a:chExt cx="1940040" cy="540360"/>
              </a:xfrm>
            </p:grpSpPr>
            <p:sp>
              <p:nvSpPr>
                <p:cNvPr id="170" name="Rectangle 72"/>
                <p:cNvSpPr/>
                <p:nvPr/>
              </p:nvSpPr>
              <p:spPr>
                <a:xfrm>
                  <a:off x="5629320" y="3265560"/>
                  <a:ext cx="180324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Rectangle 107"/>
                <p:cNvSpPr/>
                <p:nvPr/>
              </p:nvSpPr>
              <p:spPr>
                <a:xfrm>
                  <a:off x="5560920" y="3265560"/>
                  <a:ext cx="194004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2" name="Rectangle 110"/>
            <p:cNvSpPr/>
            <p:nvPr/>
          </p:nvSpPr>
          <p:spPr>
            <a:xfrm>
              <a:off x="1676520" y="1066680"/>
              <a:ext cx="5829120" cy="2743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sort of graphs would this data give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we plot volume directly against pressure we would get a downwards curve showing that volume gets smaller as the pressure gets larger, and vice ver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Object 5"/>
          <p:cNvGraphicFramePr/>
          <p:nvPr/>
        </p:nvGraphicFramePr>
        <p:xfrm>
          <a:off x="2743200" y="4038480"/>
          <a:ext cx="3657600" cy="23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4038480"/>
                    <a:ext cx="3657600" cy="23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3T21:04:49Z</dcterms:created>
  <dc:creator>LEGION</dc:creator>
  <dc:description/>
  <dc:language>en-US</dc:language>
  <cp:lastModifiedBy>LEGION</cp:lastModifiedBy>
  <dcterms:modified xsi:type="dcterms:W3CDTF">2015-09-04T10:13:20Z</dcterms:modified>
  <cp:revision>10</cp:revision>
  <dc:subject/>
  <dc:title>Boyle’s Law</dc:title>
</cp:coreProperties>
</file>