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7E32-71B3-48CD-A2CF-B76304DE7F2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way of plotting the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d lines are hard to recognise, so we plot the volume against the reciprocal of pressure (ie. 1/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 the points lie close to a straight line through the orig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volume is directly proportional to 1/pressure 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is inversely proportional to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way of plotting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lines are hard to recognise, so we plot the volume against the reciprocal of pressure (ie. 1/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 the points lie close to a straight line through the orig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volume is directly proportional to 1/pressure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is inversely proportional to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ads us back to 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: for a fixed mass of gas kept at constant temperature the volume of the gas is inversely proportional to its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ads us back to 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: for a fixed mass of gas kept at constant temperature the volume of the gas is inversely proportional to its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ep sea diver is working at a depth where the pressure is 3.0 atmospheres. He is breathing out air bubbles. The volume of each air bubble is 2 cm2. At the surface the pressure is 1 atmosphere. What is the volume of each bubble when it reaches the sur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 sea diver is working at a depth where the pressure is 3.0 atmospheres. He is breathing out air bubbles. The volume of each air bubble is 2 cm2. At the surface the pressure is 1 atmosphere. What is the volume of each bubble when it reaches the surf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work this 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ssume that the temperature is constant, so Boyle’s Law appl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ula first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 x V1 = P2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numbers:= 1.0 x 2 = 3.0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rearrange the numbers so that you have V2 on one side, and the rest of the numbers on the other side of the ‘equals’ symb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work this 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sume that the temperature is constant, so Boyle’s Law appl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first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 x V1 = P2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numbers:= 1.0 x 2 = 3.0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rearrange the numbers so that you have V2 on one side, and the rest of the numbers on the other side of the ‘equals’ symb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what you should have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2 = 3.0 x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volume of bubbles = 6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hat P1 and P2 have the same unit, as will V1 and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you should have calc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 = 3.0 x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volume of bubbles = 6 c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P1 and P2 have the same unit, as will V1 and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oyle’s Law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 is one of the laws in physics that concern the behaviour of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gas is under pressure it takes up less 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gher the pressure, the smaller the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s Law tells us about the relationship between the volume of a gas and its pressure at a constant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states that pressure is inversely proportional to the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oyle’s Law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 is one of the laws in physics that concern the behaviour of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gas is under pressure it takes up less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r the pressure, the smaller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s Law tells us about the relationship between the volume of a gas and its pressure at a constant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states that pressure is inversely proportional to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write Boyle’s Law as a formul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is inversely proportional to the volume and can be written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a  1/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pressure in N/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volume in dm3 (lit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=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more usually written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=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V=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V1=P2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write Boyle’s Law as a form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is inversely proportional to the volume and can be written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a  1/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=pressure in N/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=volume in dm3 (lit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usually written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=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V=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V1=P2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investigate Boyle’s La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nvestigating Boyles law a given volume of gas is sucked into a cylinder and the end is sea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mperature of the gas is kept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several equal weights we can apply increasing pressure to the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alculate the pressure by dividing the force applied by the area of the top of the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olume will be shown on the scale on the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investigate Boyle’s La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nvestigating Boyles law a given volume of gas is sucked into a cylinder and the end is sea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gas is kept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everal equal weights we can apply increasing pressure to the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alculate the pressure by dividing the force applied by the area of the top of the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lume will be shown on the scale on the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are some results of an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pV (pressure x volume) for each set of results. What do you noti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 are some results of an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pV (pressure x volume) for each set of results. What do you noti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se experimental results sh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sure x volume for each set of results remain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fixed mass of gas, at constant temperature, pV = constant 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 x V1 =  P2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us look at the results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se experimental results 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x volume for each set of results remains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fixed mass of gas, at constant temperature, pV = constant 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 x V1 =  P2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us look at the results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the results of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notice that if p is doubled, V is halv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p increases to 3 times as much, V decreases to a 1/3rd . This mea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is inversely proportional to pressure,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results of th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notice that if p is doubled, V is hal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p increases to 3 times as much, V decreases to a 1/3rd . This me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is inversely proportional to pressure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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ort of graphs would this data g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plot volume directly against pressure we would get a downwards curve showing that volume gets smaller as the pressure gets larger, and vice ver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 of graphs would this data g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ot volume directly against pressure we would get a downwards curve showing that volume gets smaller as the pressure gets larger, and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5991-C4D9-491E-B9CA-9764F8C1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85B-537B-4329-B009-B9C814B1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D1A-A3BB-4B90-9412-C3B8DD04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30A-57A2-469E-B348-0A092108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A8F-73E5-4BD1-9EA3-5A8BBD8D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25AC-2B35-4B2B-960C-41F3DD7A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A7F-2794-4644-B06F-3D26DFAB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C7D7-D641-4350-91D7-6C880945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371-236C-4C7A-A271-F5513EB9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561-76BF-44D2-A31D-36CA85C6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75AC-13B2-4DAD-8192-C5FA6E89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269E-473D-4C97-968A-2DC6A71D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AC4F-3559-43FA-ACCA-B27949CCB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66"/>
                </a:solidFill>
                <a:latin typeface="Andy"/>
              </a:rPr>
              <a:t>Boyle’s Law</a:t>
            </a:r>
            <a:endParaRPr b="0" lang="en-US" sz="9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nother way of plotting the data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rved lines are hard to recognise, so we plot the volume against the reciprocal of pressure (ie. 1/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time the points lie close to a straight line through the ori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means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volume is directly proportional to 1/pressur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volume is inversely proportional to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leads us back to Boyle’s Law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Boyle’s Law: for a fixed mass of gas kept at constant temperature the volume of the gas is inversely proportional to its press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Problem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eep sea diver is working at a depth where the pressure is 3.0 atmospheres. He is breathing out air bubbles. The volume of each air bubble is 2 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At the surface the pressure is 1 atmosphere. What is the volume of each bubble when it reaches the sur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6"/>
          <p:cNvGraphicFramePr/>
          <p:nvPr/>
        </p:nvGraphicFramePr>
        <p:xfrm>
          <a:off x="4799160" y="1981080"/>
          <a:ext cx="3506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1981080"/>
                    <a:ext cx="3506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How we work this out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assume that the temperature is constant, so Boyle’s Law app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Formula first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Then numbers: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 x 2 = 3.0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Times New Roman"/>
              </a:rPr>
              <a:t>Now rearrange the numbers so that you have V2 on one side, and the rest of the numbers on the other side of the ‘equals’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Here’s what you should have calculat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2 =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0 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fore volume of bubbles = 6 c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e that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ave the same unit, as will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What is Boyle’s Law?</a:t>
            </a: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yle’s Law is one of the laws in physics that concern the behaviour of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gas is under pressure it takes up less sp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igher the pressure, the smaller th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yles Law tells us about the relationship between the volume of a gas and its pressure at a constant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aw states that 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pressure is inversely proportional to th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How can we write Boyle’s Law as a formula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sure is inversely proportional to the volume and can be written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ssure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1/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=pressure in N/m</a:t>
            </a:r>
            <a:r>
              <a:rPr b="0" lang="en-GB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=volume in dm</a:t>
            </a:r>
            <a:r>
              <a:rPr b="0" lang="en-GB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(lit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radley Hand ITC"/>
              </a:rPr>
              <a:t>k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=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more usually written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ssure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V=</a:t>
            </a:r>
            <a:r>
              <a:rPr b="1" lang="en-GB" sz="3200" spc="-1" strike="noStrike">
                <a:solidFill>
                  <a:srgbClr val="000000"/>
                </a:solidFill>
                <a:latin typeface="Bradley Hand ITC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cc"/>
                </a:solidFill>
                <a:latin typeface="Times New Roman"/>
              </a:rPr>
              <a:t>How can we investigate Boyle’s Law</a:t>
            </a:r>
            <a:r>
              <a:rPr b="0" lang="en-GB" sz="4400" spc="-1" strike="noStrike">
                <a:solidFill>
                  <a:srgbClr val="9900c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investigating Boyles law a given volume of gas is sucked into a cylinder and the end is sea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temperature of the gas is kept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sing several equal weights we can apply increasing pressure to the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 can calculate the pressure by dividing the force applied by the area of the top of the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volume will be shown on the scale on the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Boyle’s Law apparatu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762120" y="1549440"/>
          <a:ext cx="74674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49440"/>
                    <a:ext cx="74674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low are some results of an experi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pressure x volume) for each set of results. What do you not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112"/>
          <p:cNvGrpSpPr/>
          <p:nvPr/>
        </p:nvGrpSpPr>
        <p:grpSpPr>
          <a:xfrm>
            <a:off x="1676520" y="1066680"/>
            <a:ext cx="5829120" cy="3733920"/>
            <a:chOff x="1676520" y="1066680"/>
            <a:chExt cx="5829120" cy="3733920"/>
          </a:xfrm>
        </p:grpSpPr>
        <p:grpSp>
          <p:nvGrpSpPr>
            <p:cNvPr id="62" name="Group 110"/>
            <p:cNvGrpSpPr/>
            <p:nvPr/>
          </p:nvGrpSpPr>
          <p:grpSpPr>
            <a:xfrm>
              <a:off x="1681200" y="1071000"/>
              <a:ext cx="5819760" cy="3724200"/>
              <a:chOff x="1681200" y="1071000"/>
              <a:chExt cx="5819760" cy="3724200"/>
            </a:xfrm>
          </p:grpSpPr>
          <p:grpSp>
            <p:nvGrpSpPr>
              <p:cNvPr id="63" name="Group 77"/>
              <p:cNvGrpSpPr/>
              <p:nvPr/>
            </p:nvGrpSpPr>
            <p:grpSpPr>
              <a:xfrm>
                <a:off x="1681200" y="1071000"/>
                <a:ext cx="1940040" cy="780480"/>
                <a:chOff x="1681200" y="1071000"/>
                <a:chExt cx="1940040" cy="780480"/>
              </a:xfrm>
            </p:grpSpPr>
            <p:sp>
              <p:nvSpPr>
                <p:cNvPr id="64" name="Rectangle 76"/>
                <p:cNvSpPr/>
                <p:nvPr/>
              </p:nvSpPr>
              <p:spPr>
                <a:xfrm>
                  <a:off x="1681200" y="1071000"/>
                  <a:ext cx="194004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Group 75"/>
                <p:cNvGrpSpPr/>
                <p:nvPr/>
              </p:nvGrpSpPr>
              <p:grpSpPr>
                <a:xfrm>
                  <a:off x="1681200" y="1071000"/>
                  <a:ext cx="1940040" cy="780480"/>
                  <a:chOff x="1681200" y="1071000"/>
                  <a:chExt cx="1940040" cy="780480"/>
                </a:xfrm>
              </p:grpSpPr>
              <p:sp>
                <p:nvSpPr>
                  <p:cNvPr id="66" name="Rectangle 59"/>
                  <p:cNvSpPr/>
                  <p:nvPr/>
                </p:nvSpPr>
                <p:spPr>
                  <a:xfrm>
                    <a:off x="1749600" y="1071000"/>
                    <a:ext cx="180324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ressure 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Rectangle 74"/>
                  <p:cNvSpPr/>
                  <p:nvPr/>
                </p:nvSpPr>
                <p:spPr>
                  <a:xfrm>
                    <a:off x="1681200" y="1071000"/>
                    <a:ext cx="194004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" name="Group 81"/>
              <p:cNvGrpSpPr/>
              <p:nvPr/>
            </p:nvGrpSpPr>
            <p:grpSpPr>
              <a:xfrm>
                <a:off x="3621240" y="1071000"/>
                <a:ext cx="1939680" cy="780480"/>
                <a:chOff x="3621240" y="1071000"/>
                <a:chExt cx="1939680" cy="780480"/>
              </a:xfrm>
            </p:grpSpPr>
            <p:sp>
              <p:nvSpPr>
                <p:cNvPr id="69" name="Rectangle 80"/>
                <p:cNvSpPr/>
                <p:nvPr/>
              </p:nvSpPr>
              <p:spPr>
                <a:xfrm>
                  <a:off x="3621240" y="1071000"/>
                  <a:ext cx="193968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Group 79"/>
                <p:cNvGrpSpPr/>
                <p:nvPr/>
              </p:nvGrpSpPr>
              <p:grpSpPr>
                <a:xfrm>
                  <a:off x="3621240" y="1071000"/>
                  <a:ext cx="1939680" cy="780480"/>
                  <a:chOff x="3621240" y="1071000"/>
                  <a:chExt cx="1939680" cy="780480"/>
                </a:xfrm>
              </p:grpSpPr>
              <p:sp>
                <p:nvSpPr>
                  <p:cNvPr id="71" name="Rectangle 60"/>
                  <p:cNvSpPr/>
                  <p:nvPr/>
                </p:nvSpPr>
                <p:spPr>
                  <a:xfrm>
                    <a:off x="3689280" y="1071000"/>
                    <a:ext cx="180360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"/>
                      </a:rPr>
                      <a:t>Volume V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Rectangle 78"/>
                  <p:cNvSpPr/>
                  <p:nvPr/>
                </p:nvSpPr>
                <p:spPr>
                  <a:xfrm>
                    <a:off x="3621240" y="1071000"/>
                    <a:ext cx="193968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" name="Group 85"/>
              <p:cNvGrpSpPr/>
              <p:nvPr/>
            </p:nvGrpSpPr>
            <p:grpSpPr>
              <a:xfrm>
                <a:off x="5560920" y="1071000"/>
                <a:ext cx="1940040" cy="780480"/>
                <a:chOff x="5560920" y="1071000"/>
                <a:chExt cx="1940040" cy="780480"/>
              </a:xfrm>
            </p:grpSpPr>
            <p:sp>
              <p:nvSpPr>
                <p:cNvPr id="74" name="Rectangle 84"/>
                <p:cNvSpPr/>
                <p:nvPr/>
              </p:nvSpPr>
              <p:spPr>
                <a:xfrm>
                  <a:off x="5560920" y="1071000"/>
                  <a:ext cx="194004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" name="Group 83"/>
                <p:cNvGrpSpPr/>
                <p:nvPr/>
              </p:nvGrpSpPr>
              <p:grpSpPr>
                <a:xfrm>
                  <a:off x="5560920" y="1071000"/>
                  <a:ext cx="1940040" cy="780480"/>
                  <a:chOff x="5560920" y="1071000"/>
                  <a:chExt cx="1940040" cy="780480"/>
                </a:xfrm>
              </p:grpSpPr>
              <p:sp>
                <p:nvSpPr>
                  <p:cNvPr id="76" name="Rectangle 61"/>
                  <p:cNvSpPr/>
                  <p:nvPr/>
                </p:nvSpPr>
                <p:spPr>
                  <a:xfrm>
                    <a:off x="5629320" y="1071000"/>
                    <a:ext cx="180324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 x 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Rectangle 82"/>
                  <p:cNvSpPr/>
                  <p:nvPr/>
                </p:nvSpPr>
                <p:spPr>
                  <a:xfrm>
                    <a:off x="5560920" y="1071000"/>
                    <a:ext cx="194004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" name="Group 87"/>
              <p:cNvGrpSpPr/>
              <p:nvPr/>
            </p:nvGrpSpPr>
            <p:grpSpPr>
              <a:xfrm>
                <a:off x="1681200" y="1851480"/>
                <a:ext cx="1940040" cy="735480"/>
                <a:chOff x="1681200" y="1851480"/>
                <a:chExt cx="1940040" cy="735480"/>
              </a:xfrm>
            </p:grpSpPr>
            <p:sp>
              <p:nvSpPr>
                <p:cNvPr id="79" name="Rectangle 62"/>
                <p:cNvSpPr/>
                <p:nvPr/>
              </p:nvSpPr>
              <p:spPr>
                <a:xfrm>
                  <a:off x="1749600" y="185148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Rectangle 86"/>
                <p:cNvSpPr/>
                <p:nvPr/>
              </p:nvSpPr>
              <p:spPr>
                <a:xfrm>
                  <a:off x="1681200" y="185148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Group 89"/>
              <p:cNvGrpSpPr/>
              <p:nvPr/>
            </p:nvGrpSpPr>
            <p:grpSpPr>
              <a:xfrm>
                <a:off x="3621240" y="1851480"/>
                <a:ext cx="1939680" cy="735480"/>
                <a:chOff x="3621240" y="1851480"/>
                <a:chExt cx="1939680" cy="735480"/>
              </a:xfrm>
            </p:grpSpPr>
            <p:sp>
              <p:nvSpPr>
                <p:cNvPr id="82" name="Rectangle 63"/>
                <p:cNvSpPr/>
                <p:nvPr/>
              </p:nvSpPr>
              <p:spPr>
                <a:xfrm>
                  <a:off x="3689280" y="1851480"/>
                  <a:ext cx="180360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Rectangle 88"/>
                <p:cNvSpPr/>
                <p:nvPr/>
              </p:nvSpPr>
              <p:spPr>
                <a:xfrm>
                  <a:off x="3621240" y="1851480"/>
                  <a:ext cx="193968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Group 91"/>
              <p:cNvGrpSpPr/>
              <p:nvPr/>
            </p:nvGrpSpPr>
            <p:grpSpPr>
              <a:xfrm>
                <a:off x="5560920" y="1851480"/>
                <a:ext cx="1940040" cy="735480"/>
                <a:chOff x="5560920" y="1851480"/>
                <a:chExt cx="1940040" cy="735480"/>
              </a:xfrm>
            </p:grpSpPr>
            <p:sp>
              <p:nvSpPr>
                <p:cNvPr id="85" name="Rectangle 64"/>
                <p:cNvSpPr/>
                <p:nvPr/>
              </p:nvSpPr>
              <p:spPr>
                <a:xfrm>
                  <a:off x="5629320" y="185148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Rectangle 90"/>
                <p:cNvSpPr/>
                <p:nvPr/>
              </p:nvSpPr>
              <p:spPr>
                <a:xfrm>
                  <a:off x="5560920" y="185148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93"/>
              <p:cNvGrpSpPr/>
              <p:nvPr/>
            </p:nvGrpSpPr>
            <p:grpSpPr>
              <a:xfrm>
                <a:off x="1681200" y="2587320"/>
                <a:ext cx="1940040" cy="735840"/>
                <a:chOff x="1681200" y="2587320"/>
                <a:chExt cx="1940040" cy="735840"/>
              </a:xfrm>
            </p:grpSpPr>
            <p:sp>
              <p:nvSpPr>
                <p:cNvPr id="88" name="Rectangle 65"/>
                <p:cNvSpPr/>
                <p:nvPr/>
              </p:nvSpPr>
              <p:spPr>
                <a:xfrm>
                  <a:off x="1749600" y="25873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92"/>
                <p:cNvSpPr/>
                <p:nvPr/>
              </p:nvSpPr>
              <p:spPr>
                <a:xfrm>
                  <a:off x="1681200" y="25873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Group 95"/>
              <p:cNvGrpSpPr/>
              <p:nvPr/>
            </p:nvGrpSpPr>
            <p:grpSpPr>
              <a:xfrm>
                <a:off x="3621240" y="2587320"/>
                <a:ext cx="1939680" cy="735840"/>
                <a:chOff x="3621240" y="2587320"/>
                <a:chExt cx="1939680" cy="735840"/>
              </a:xfrm>
            </p:grpSpPr>
            <p:sp>
              <p:nvSpPr>
                <p:cNvPr id="91" name="Rectangle 66"/>
                <p:cNvSpPr/>
                <p:nvPr/>
              </p:nvSpPr>
              <p:spPr>
                <a:xfrm>
                  <a:off x="3689280" y="2587320"/>
                  <a:ext cx="180360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94"/>
                <p:cNvSpPr/>
                <p:nvPr/>
              </p:nvSpPr>
              <p:spPr>
                <a:xfrm>
                  <a:off x="3621240" y="2587320"/>
                  <a:ext cx="193968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7"/>
              <p:cNvGrpSpPr/>
              <p:nvPr/>
            </p:nvGrpSpPr>
            <p:grpSpPr>
              <a:xfrm>
                <a:off x="5560920" y="2587320"/>
                <a:ext cx="1940040" cy="735840"/>
                <a:chOff x="5560920" y="2587320"/>
                <a:chExt cx="1940040" cy="735840"/>
              </a:xfrm>
            </p:grpSpPr>
            <p:sp>
              <p:nvSpPr>
                <p:cNvPr id="94" name="Rectangle 67"/>
                <p:cNvSpPr/>
                <p:nvPr/>
              </p:nvSpPr>
              <p:spPr>
                <a:xfrm>
                  <a:off x="5629320" y="25873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96"/>
                <p:cNvSpPr/>
                <p:nvPr/>
              </p:nvSpPr>
              <p:spPr>
                <a:xfrm>
                  <a:off x="5560920" y="25873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Group 99"/>
              <p:cNvGrpSpPr/>
              <p:nvPr/>
            </p:nvGrpSpPr>
            <p:grpSpPr>
              <a:xfrm>
                <a:off x="1681200" y="3323520"/>
                <a:ext cx="1940040" cy="735840"/>
                <a:chOff x="1681200" y="3323520"/>
                <a:chExt cx="1940040" cy="735840"/>
              </a:xfrm>
            </p:grpSpPr>
            <p:sp>
              <p:nvSpPr>
                <p:cNvPr id="97" name="Rectangle 68"/>
                <p:cNvSpPr/>
                <p:nvPr/>
              </p:nvSpPr>
              <p:spPr>
                <a:xfrm>
                  <a:off x="1749600" y="33235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98"/>
                <p:cNvSpPr/>
                <p:nvPr/>
              </p:nvSpPr>
              <p:spPr>
                <a:xfrm>
                  <a:off x="1681200" y="33235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Group 101"/>
              <p:cNvGrpSpPr/>
              <p:nvPr/>
            </p:nvGrpSpPr>
            <p:grpSpPr>
              <a:xfrm>
                <a:off x="3621240" y="3323520"/>
                <a:ext cx="1939680" cy="735840"/>
                <a:chOff x="3621240" y="3323520"/>
                <a:chExt cx="1939680" cy="735840"/>
              </a:xfrm>
            </p:grpSpPr>
            <p:sp>
              <p:nvSpPr>
                <p:cNvPr id="100" name="Rectangle 69"/>
                <p:cNvSpPr/>
                <p:nvPr/>
              </p:nvSpPr>
              <p:spPr>
                <a:xfrm>
                  <a:off x="3689280" y="3323520"/>
                  <a:ext cx="180360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Rectangle 100"/>
                <p:cNvSpPr/>
                <p:nvPr/>
              </p:nvSpPr>
              <p:spPr>
                <a:xfrm>
                  <a:off x="3621240" y="3323520"/>
                  <a:ext cx="193968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Group 103"/>
              <p:cNvGrpSpPr/>
              <p:nvPr/>
            </p:nvGrpSpPr>
            <p:grpSpPr>
              <a:xfrm>
                <a:off x="5560920" y="3323520"/>
                <a:ext cx="1940040" cy="735840"/>
                <a:chOff x="5560920" y="3323520"/>
                <a:chExt cx="1940040" cy="735840"/>
              </a:xfrm>
            </p:grpSpPr>
            <p:sp>
              <p:nvSpPr>
                <p:cNvPr id="103" name="Rectangle 70"/>
                <p:cNvSpPr/>
                <p:nvPr/>
              </p:nvSpPr>
              <p:spPr>
                <a:xfrm>
                  <a:off x="5629320" y="33235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Rectangle 102"/>
                <p:cNvSpPr/>
                <p:nvPr/>
              </p:nvSpPr>
              <p:spPr>
                <a:xfrm>
                  <a:off x="5560920" y="33235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Group 105"/>
              <p:cNvGrpSpPr/>
              <p:nvPr/>
            </p:nvGrpSpPr>
            <p:grpSpPr>
              <a:xfrm>
                <a:off x="1681200" y="4059720"/>
                <a:ext cx="1940040" cy="735480"/>
                <a:chOff x="1681200" y="4059720"/>
                <a:chExt cx="1940040" cy="735480"/>
              </a:xfrm>
            </p:grpSpPr>
            <p:sp>
              <p:nvSpPr>
                <p:cNvPr id="106" name="Rectangle 71"/>
                <p:cNvSpPr/>
                <p:nvPr/>
              </p:nvSpPr>
              <p:spPr>
                <a:xfrm>
                  <a:off x="1749600" y="405972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Rectangle 104"/>
                <p:cNvSpPr/>
                <p:nvPr/>
              </p:nvSpPr>
              <p:spPr>
                <a:xfrm>
                  <a:off x="1681200" y="405972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Group 107"/>
              <p:cNvGrpSpPr/>
              <p:nvPr/>
            </p:nvGrpSpPr>
            <p:grpSpPr>
              <a:xfrm>
                <a:off x="3621240" y="4059720"/>
                <a:ext cx="1939680" cy="735480"/>
                <a:chOff x="3621240" y="4059720"/>
                <a:chExt cx="1939680" cy="735480"/>
              </a:xfrm>
            </p:grpSpPr>
            <p:sp>
              <p:nvSpPr>
                <p:cNvPr id="109" name="Rectangle 72"/>
                <p:cNvSpPr/>
                <p:nvPr/>
              </p:nvSpPr>
              <p:spPr>
                <a:xfrm>
                  <a:off x="3689280" y="4059720"/>
                  <a:ext cx="180360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Rectangle 106"/>
                <p:cNvSpPr/>
                <p:nvPr/>
              </p:nvSpPr>
              <p:spPr>
                <a:xfrm>
                  <a:off x="3621240" y="4059720"/>
                  <a:ext cx="193968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Group 109"/>
              <p:cNvGrpSpPr/>
              <p:nvPr/>
            </p:nvGrpSpPr>
            <p:grpSpPr>
              <a:xfrm>
                <a:off x="5560920" y="4059720"/>
                <a:ext cx="1940040" cy="735480"/>
                <a:chOff x="5560920" y="4059720"/>
                <a:chExt cx="1940040" cy="735480"/>
              </a:xfrm>
            </p:grpSpPr>
            <p:sp>
              <p:nvSpPr>
                <p:cNvPr id="112" name="Rectangle 73"/>
                <p:cNvSpPr/>
                <p:nvPr/>
              </p:nvSpPr>
              <p:spPr>
                <a:xfrm>
                  <a:off x="5629320" y="405972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Rectangle 108"/>
                <p:cNvSpPr/>
                <p:nvPr/>
              </p:nvSpPr>
              <p:spPr>
                <a:xfrm>
                  <a:off x="5560920" y="405972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" name="Rectangle 111"/>
            <p:cNvSpPr/>
            <p:nvPr/>
          </p:nvSpPr>
          <p:spPr>
            <a:xfrm>
              <a:off x="1676520" y="1066680"/>
              <a:ext cx="5829120" cy="373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Times New Roman"/>
              </a:rPr>
              <a:t>What these experimental results show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ressur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olume for each set of results remains c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called Boyle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a fixed mass of gas, at constant temperature,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V = constant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x 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 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us look at the results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re are the results of the experi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39625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d you notice that i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doubled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hal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p increases to 3 times as much, V decreases to a 1/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. This 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lume is inversely proportional to pressur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111"/>
          <p:cNvGrpSpPr/>
          <p:nvPr/>
        </p:nvGrpSpPr>
        <p:grpSpPr>
          <a:xfrm>
            <a:off x="1676520" y="1066680"/>
            <a:ext cx="5829120" cy="2743200"/>
            <a:chOff x="1676520" y="1066680"/>
            <a:chExt cx="5829120" cy="2743200"/>
          </a:xfrm>
        </p:grpSpPr>
        <p:grpSp>
          <p:nvGrpSpPr>
            <p:cNvPr id="120" name="Group 109"/>
            <p:cNvGrpSpPr/>
            <p:nvPr/>
          </p:nvGrpSpPr>
          <p:grpSpPr>
            <a:xfrm>
              <a:off x="1681200" y="1069920"/>
              <a:ext cx="5819760" cy="2736000"/>
              <a:chOff x="1681200" y="1069920"/>
              <a:chExt cx="5819760" cy="2736000"/>
            </a:xfrm>
          </p:grpSpPr>
          <p:grpSp>
            <p:nvGrpSpPr>
              <p:cNvPr id="121" name="Group 76"/>
              <p:cNvGrpSpPr/>
              <p:nvPr/>
            </p:nvGrpSpPr>
            <p:grpSpPr>
              <a:xfrm>
                <a:off x="1681200" y="1069920"/>
                <a:ext cx="1940040" cy="573480"/>
                <a:chOff x="1681200" y="1069920"/>
                <a:chExt cx="1940040" cy="573480"/>
              </a:xfrm>
            </p:grpSpPr>
            <p:sp>
              <p:nvSpPr>
                <p:cNvPr id="122" name="Rectangle 75"/>
                <p:cNvSpPr/>
                <p:nvPr/>
              </p:nvSpPr>
              <p:spPr>
                <a:xfrm>
                  <a:off x="1681200" y="1069920"/>
                  <a:ext cx="194004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Group 74"/>
                <p:cNvGrpSpPr/>
                <p:nvPr/>
              </p:nvGrpSpPr>
              <p:grpSpPr>
                <a:xfrm>
                  <a:off x="1681200" y="1069920"/>
                  <a:ext cx="1940040" cy="573480"/>
                  <a:chOff x="1681200" y="1069920"/>
                  <a:chExt cx="1940040" cy="573480"/>
                </a:xfrm>
              </p:grpSpPr>
              <p:sp>
                <p:nvSpPr>
                  <p:cNvPr id="124" name="Rectangle 58"/>
                  <p:cNvSpPr/>
                  <p:nvPr/>
                </p:nvSpPr>
                <p:spPr>
                  <a:xfrm>
                    <a:off x="1749600" y="1069920"/>
                    <a:ext cx="180324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ressure 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Rectangle 73"/>
                  <p:cNvSpPr/>
                  <p:nvPr/>
                </p:nvSpPr>
                <p:spPr>
                  <a:xfrm>
                    <a:off x="1681200" y="1069920"/>
                    <a:ext cx="194004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" name="Group 80"/>
              <p:cNvGrpSpPr/>
              <p:nvPr/>
            </p:nvGrpSpPr>
            <p:grpSpPr>
              <a:xfrm>
                <a:off x="3621240" y="1069920"/>
                <a:ext cx="1939680" cy="573480"/>
                <a:chOff x="3621240" y="1069920"/>
                <a:chExt cx="1939680" cy="573480"/>
              </a:xfrm>
            </p:grpSpPr>
            <p:sp>
              <p:nvSpPr>
                <p:cNvPr id="127" name="Rectangle 79"/>
                <p:cNvSpPr/>
                <p:nvPr/>
              </p:nvSpPr>
              <p:spPr>
                <a:xfrm>
                  <a:off x="3621240" y="1069920"/>
                  <a:ext cx="193968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Group 78"/>
                <p:cNvGrpSpPr/>
                <p:nvPr/>
              </p:nvGrpSpPr>
              <p:grpSpPr>
                <a:xfrm>
                  <a:off x="3621240" y="1069920"/>
                  <a:ext cx="1939680" cy="573480"/>
                  <a:chOff x="3621240" y="1069920"/>
                  <a:chExt cx="1939680" cy="573480"/>
                </a:xfrm>
              </p:grpSpPr>
              <p:sp>
                <p:nvSpPr>
                  <p:cNvPr id="129" name="Rectangle 59"/>
                  <p:cNvSpPr/>
                  <p:nvPr/>
                </p:nvSpPr>
                <p:spPr>
                  <a:xfrm>
                    <a:off x="3689280" y="1069920"/>
                    <a:ext cx="180360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Volume V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Rectangle 77"/>
                  <p:cNvSpPr/>
                  <p:nvPr/>
                </p:nvSpPr>
                <p:spPr>
                  <a:xfrm>
                    <a:off x="3621240" y="1069920"/>
                    <a:ext cx="193968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1" name="Group 84"/>
              <p:cNvGrpSpPr/>
              <p:nvPr/>
            </p:nvGrpSpPr>
            <p:grpSpPr>
              <a:xfrm>
                <a:off x="5560920" y="1069920"/>
                <a:ext cx="1940040" cy="573480"/>
                <a:chOff x="5560920" y="1069920"/>
                <a:chExt cx="1940040" cy="573480"/>
              </a:xfrm>
            </p:grpSpPr>
            <p:sp>
              <p:nvSpPr>
                <p:cNvPr id="132" name="Rectangle 83"/>
                <p:cNvSpPr/>
                <p:nvPr/>
              </p:nvSpPr>
              <p:spPr>
                <a:xfrm>
                  <a:off x="5560920" y="1069920"/>
                  <a:ext cx="194004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Group 82"/>
                <p:cNvGrpSpPr/>
                <p:nvPr/>
              </p:nvGrpSpPr>
              <p:grpSpPr>
                <a:xfrm>
                  <a:off x="5560920" y="1069920"/>
                  <a:ext cx="1940040" cy="573480"/>
                  <a:chOff x="5560920" y="1069920"/>
                  <a:chExt cx="1940040" cy="573480"/>
                </a:xfrm>
              </p:grpSpPr>
              <p:sp>
                <p:nvSpPr>
                  <p:cNvPr id="134" name="Rectangle 60"/>
                  <p:cNvSpPr/>
                  <p:nvPr/>
                </p:nvSpPr>
                <p:spPr>
                  <a:xfrm>
                    <a:off x="5629320" y="1069920"/>
                    <a:ext cx="180324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 x 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81"/>
                  <p:cNvSpPr/>
                  <p:nvPr/>
                </p:nvSpPr>
                <p:spPr>
                  <a:xfrm>
                    <a:off x="5560920" y="1069920"/>
                    <a:ext cx="194004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Group 86"/>
              <p:cNvGrpSpPr/>
              <p:nvPr/>
            </p:nvGrpSpPr>
            <p:grpSpPr>
              <a:xfrm>
                <a:off x="1681200" y="1643400"/>
                <a:ext cx="1940040" cy="540360"/>
                <a:chOff x="1681200" y="1643400"/>
                <a:chExt cx="1940040" cy="540360"/>
              </a:xfrm>
            </p:grpSpPr>
            <p:sp>
              <p:nvSpPr>
                <p:cNvPr id="137" name="Rectangle 61"/>
                <p:cNvSpPr/>
                <p:nvPr/>
              </p:nvSpPr>
              <p:spPr>
                <a:xfrm>
                  <a:off x="1749600" y="164340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85"/>
                <p:cNvSpPr/>
                <p:nvPr/>
              </p:nvSpPr>
              <p:spPr>
                <a:xfrm>
                  <a:off x="1681200" y="164340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88"/>
              <p:cNvGrpSpPr/>
              <p:nvPr/>
            </p:nvGrpSpPr>
            <p:grpSpPr>
              <a:xfrm>
                <a:off x="3621240" y="1643400"/>
                <a:ext cx="1939680" cy="540360"/>
                <a:chOff x="3621240" y="1643400"/>
                <a:chExt cx="1939680" cy="540360"/>
              </a:xfrm>
            </p:grpSpPr>
            <p:sp>
              <p:nvSpPr>
                <p:cNvPr id="140" name="Rectangle 62"/>
                <p:cNvSpPr/>
                <p:nvPr/>
              </p:nvSpPr>
              <p:spPr>
                <a:xfrm>
                  <a:off x="3689280" y="1643400"/>
                  <a:ext cx="180360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87"/>
                <p:cNvSpPr/>
                <p:nvPr/>
              </p:nvSpPr>
              <p:spPr>
                <a:xfrm>
                  <a:off x="3621240" y="1643400"/>
                  <a:ext cx="193968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90"/>
              <p:cNvGrpSpPr/>
              <p:nvPr/>
            </p:nvGrpSpPr>
            <p:grpSpPr>
              <a:xfrm>
                <a:off x="5560920" y="1643400"/>
                <a:ext cx="1940040" cy="540360"/>
                <a:chOff x="5560920" y="1643400"/>
                <a:chExt cx="1940040" cy="540360"/>
              </a:xfrm>
            </p:grpSpPr>
            <p:sp>
              <p:nvSpPr>
                <p:cNvPr id="143" name="Rectangle 63"/>
                <p:cNvSpPr/>
                <p:nvPr/>
              </p:nvSpPr>
              <p:spPr>
                <a:xfrm>
                  <a:off x="5629320" y="164340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89"/>
                <p:cNvSpPr/>
                <p:nvPr/>
              </p:nvSpPr>
              <p:spPr>
                <a:xfrm>
                  <a:off x="5560920" y="164340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92"/>
              <p:cNvGrpSpPr/>
              <p:nvPr/>
            </p:nvGrpSpPr>
            <p:grpSpPr>
              <a:xfrm>
                <a:off x="1681200" y="2183760"/>
                <a:ext cx="1940040" cy="540720"/>
                <a:chOff x="1681200" y="2183760"/>
                <a:chExt cx="1940040" cy="540720"/>
              </a:xfrm>
            </p:grpSpPr>
            <p:sp>
              <p:nvSpPr>
                <p:cNvPr id="146" name="Rectangle 64"/>
                <p:cNvSpPr/>
                <p:nvPr/>
              </p:nvSpPr>
              <p:spPr>
                <a:xfrm>
                  <a:off x="1749600" y="218376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91"/>
                <p:cNvSpPr/>
                <p:nvPr/>
              </p:nvSpPr>
              <p:spPr>
                <a:xfrm>
                  <a:off x="1681200" y="218376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94"/>
              <p:cNvGrpSpPr/>
              <p:nvPr/>
            </p:nvGrpSpPr>
            <p:grpSpPr>
              <a:xfrm>
                <a:off x="3621240" y="2183760"/>
                <a:ext cx="1939680" cy="540720"/>
                <a:chOff x="3621240" y="2183760"/>
                <a:chExt cx="1939680" cy="540720"/>
              </a:xfrm>
            </p:grpSpPr>
            <p:sp>
              <p:nvSpPr>
                <p:cNvPr id="149" name="Rectangle 65"/>
                <p:cNvSpPr/>
                <p:nvPr/>
              </p:nvSpPr>
              <p:spPr>
                <a:xfrm>
                  <a:off x="3689280" y="2183760"/>
                  <a:ext cx="1803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93"/>
                <p:cNvSpPr/>
                <p:nvPr/>
              </p:nvSpPr>
              <p:spPr>
                <a:xfrm>
                  <a:off x="3621240" y="2183760"/>
                  <a:ext cx="19396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96"/>
              <p:cNvGrpSpPr/>
              <p:nvPr/>
            </p:nvGrpSpPr>
            <p:grpSpPr>
              <a:xfrm>
                <a:off x="5560920" y="2183760"/>
                <a:ext cx="1940040" cy="540720"/>
                <a:chOff x="5560920" y="2183760"/>
                <a:chExt cx="1940040" cy="540720"/>
              </a:xfrm>
            </p:grpSpPr>
            <p:sp>
              <p:nvSpPr>
                <p:cNvPr id="152" name="Rectangle 66"/>
                <p:cNvSpPr/>
                <p:nvPr/>
              </p:nvSpPr>
              <p:spPr>
                <a:xfrm>
                  <a:off x="5629320" y="218376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95"/>
                <p:cNvSpPr/>
                <p:nvPr/>
              </p:nvSpPr>
              <p:spPr>
                <a:xfrm>
                  <a:off x="5560920" y="218376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98"/>
              <p:cNvGrpSpPr/>
              <p:nvPr/>
            </p:nvGrpSpPr>
            <p:grpSpPr>
              <a:xfrm>
                <a:off x="1681200" y="2724840"/>
                <a:ext cx="1940040" cy="540720"/>
                <a:chOff x="1681200" y="2724840"/>
                <a:chExt cx="1940040" cy="540720"/>
              </a:xfrm>
            </p:grpSpPr>
            <p:sp>
              <p:nvSpPr>
                <p:cNvPr id="155" name="Rectangle 67"/>
                <p:cNvSpPr/>
                <p:nvPr/>
              </p:nvSpPr>
              <p:spPr>
                <a:xfrm>
                  <a:off x="1749600" y="272484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97"/>
                <p:cNvSpPr/>
                <p:nvPr/>
              </p:nvSpPr>
              <p:spPr>
                <a:xfrm>
                  <a:off x="1681200" y="272484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100"/>
              <p:cNvGrpSpPr/>
              <p:nvPr/>
            </p:nvGrpSpPr>
            <p:grpSpPr>
              <a:xfrm>
                <a:off x="3621240" y="2724840"/>
                <a:ext cx="1939680" cy="540720"/>
                <a:chOff x="3621240" y="2724840"/>
                <a:chExt cx="1939680" cy="540720"/>
              </a:xfrm>
            </p:grpSpPr>
            <p:sp>
              <p:nvSpPr>
                <p:cNvPr id="158" name="Rectangle 68"/>
                <p:cNvSpPr/>
                <p:nvPr/>
              </p:nvSpPr>
              <p:spPr>
                <a:xfrm>
                  <a:off x="3689280" y="2724840"/>
                  <a:ext cx="1803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99"/>
                <p:cNvSpPr/>
                <p:nvPr/>
              </p:nvSpPr>
              <p:spPr>
                <a:xfrm>
                  <a:off x="3621240" y="2724840"/>
                  <a:ext cx="19396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102"/>
              <p:cNvGrpSpPr/>
              <p:nvPr/>
            </p:nvGrpSpPr>
            <p:grpSpPr>
              <a:xfrm>
                <a:off x="5560920" y="2724840"/>
                <a:ext cx="1940040" cy="540720"/>
                <a:chOff x="5560920" y="2724840"/>
                <a:chExt cx="1940040" cy="540720"/>
              </a:xfrm>
            </p:grpSpPr>
            <p:sp>
              <p:nvSpPr>
                <p:cNvPr id="161" name="Rectangle 69"/>
                <p:cNvSpPr/>
                <p:nvPr/>
              </p:nvSpPr>
              <p:spPr>
                <a:xfrm>
                  <a:off x="5629320" y="272484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101"/>
                <p:cNvSpPr/>
                <p:nvPr/>
              </p:nvSpPr>
              <p:spPr>
                <a:xfrm>
                  <a:off x="5560920" y="272484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104"/>
              <p:cNvGrpSpPr/>
              <p:nvPr/>
            </p:nvGrpSpPr>
            <p:grpSpPr>
              <a:xfrm>
                <a:off x="1681200" y="3265560"/>
                <a:ext cx="1940040" cy="540360"/>
                <a:chOff x="1681200" y="3265560"/>
                <a:chExt cx="1940040" cy="540360"/>
              </a:xfrm>
            </p:grpSpPr>
            <p:sp>
              <p:nvSpPr>
                <p:cNvPr id="164" name="Rectangle 70"/>
                <p:cNvSpPr/>
                <p:nvPr/>
              </p:nvSpPr>
              <p:spPr>
                <a:xfrm>
                  <a:off x="1749600" y="326556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103"/>
                <p:cNvSpPr/>
                <p:nvPr/>
              </p:nvSpPr>
              <p:spPr>
                <a:xfrm>
                  <a:off x="1681200" y="326556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106"/>
              <p:cNvGrpSpPr/>
              <p:nvPr/>
            </p:nvGrpSpPr>
            <p:grpSpPr>
              <a:xfrm>
                <a:off x="3621240" y="3265560"/>
                <a:ext cx="1939680" cy="540360"/>
                <a:chOff x="3621240" y="3265560"/>
                <a:chExt cx="1939680" cy="540360"/>
              </a:xfrm>
            </p:grpSpPr>
            <p:sp>
              <p:nvSpPr>
                <p:cNvPr id="167" name="Rectangle 71"/>
                <p:cNvSpPr/>
                <p:nvPr/>
              </p:nvSpPr>
              <p:spPr>
                <a:xfrm>
                  <a:off x="3689280" y="3265560"/>
                  <a:ext cx="180360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105"/>
                <p:cNvSpPr/>
                <p:nvPr/>
              </p:nvSpPr>
              <p:spPr>
                <a:xfrm>
                  <a:off x="3621240" y="3265560"/>
                  <a:ext cx="193968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Group 108"/>
              <p:cNvGrpSpPr/>
              <p:nvPr/>
            </p:nvGrpSpPr>
            <p:grpSpPr>
              <a:xfrm>
                <a:off x="5560920" y="3265560"/>
                <a:ext cx="1940040" cy="540360"/>
                <a:chOff x="5560920" y="3265560"/>
                <a:chExt cx="1940040" cy="540360"/>
              </a:xfrm>
            </p:grpSpPr>
            <p:sp>
              <p:nvSpPr>
                <p:cNvPr id="170" name="Rectangle 72"/>
                <p:cNvSpPr/>
                <p:nvPr/>
              </p:nvSpPr>
              <p:spPr>
                <a:xfrm>
                  <a:off x="5629320" y="326556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107"/>
                <p:cNvSpPr/>
                <p:nvPr/>
              </p:nvSpPr>
              <p:spPr>
                <a:xfrm>
                  <a:off x="5560920" y="326556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Rectangle 110"/>
            <p:cNvSpPr/>
            <p:nvPr/>
          </p:nvSpPr>
          <p:spPr>
            <a:xfrm>
              <a:off x="1676520" y="1066680"/>
              <a:ext cx="5829120" cy="274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sort of graphs would this data give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we plot volume directly against pressure we would get a downwards curve showing that volume gets smaller as the pressure gets larger, and vice 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Object 5"/>
          <p:cNvGraphicFramePr/>
          <p:nvPr/>
        </p:nvGraphicFramePr>
        <p:xfrm>
          <a:off x="2743200" y="4038480"/>
          <a:ext cx="3657600" cy="23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038480"/>
                    <a:ext cx="365760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21:04:49Z</dcterms:created>
  <dc:creator>LEGION</dc:creator>
  <dc:description/>
  <dc:language>en-US</dc:language>
  <cp:lastModifiedBy>LEGION</cp:lastModifiedBy>
  <dcterms:modified xsi:type="dcterms:W3CDTF">2015-09-04T10:13:20Z</dcterms:modified>
  <cp:revision>10</cp:revision>
  <dc:subject/>
  <dc:title>Boyle’s Law</dc:title>
</cp:coreProperties>
</file>