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3.wmf" ContentType="image/x-wmf"/>
  <Override PartName="/ppt/media/image15.jpeg" ContentType="image/jpeg"/>
  <Override PartName="/ppt/media/image2.png" ContentType="image/png"/>
  <Override PartName="/ppt/media/image25.png" ContentType="image/png"/>
  <Override PartName="/ppt/media/image28.wmf" ContentType="image/x-wmf"/>
  <Override PartName="/ppt/media/image17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16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CE47-E5F3-43BB-B79A-68726B53B3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13 Orig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ing the who, when, where, and why behind the 13 original colonies of early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3 Orig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ing the who, when, where, and why behind the 13 original colonies of early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4: Rhode I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36, Rhode Island became a colony after Roger Williams, a clergyman, obtained a charter from England to form the colo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poke out against the Puritans strictness and went to this area to settle and provide religious cho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ode Island also had freedom of reli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ger Willia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ister, autho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4: Rhode 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36, Rhode Island became a colony after Roger Williams, a clergyman, obtained a charter from England to form the col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poke out against the Puritans strictness and went to this area to settle and provide religious ch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ode Island also had freedom of reli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ger Willia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ster, autho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5: Connecti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founded in 1636 by a clergyman by then name of Thomas Hook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led a group of people from Rhode Island to start their own colony and they had freedom of reli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p of the Connecticut, New Haven, and Saybrook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5: Connecti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founded in 1636 by a clergyman by then name of Thomas Hoo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d a group of people from Rhode Island to start their own colony and they had freedom of reli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p of the Connecticut, New Haven, and Saybrook colo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6: North Carol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63 by English no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ter granted by Charles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leston: main city was named after Charles II. Became very important port 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d politics forced a split of the colony into North and Sou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arles 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6: North Car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63 by English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er granted by Charles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leston: main city was named after Charles II. Became very important port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politics forced a split of the colony into North and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Charl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7: South Carol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729 South Carolina received its name after a political dispute and became a colo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large plantations for growing crops and raising livest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7: South Car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729 South Carolina received its name after a political dispute and became a col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large plantations for growing crops and raising livest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8: New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d as New Netherland, a Dutch colony in 16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Duke of York was given it from Charles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took over in 1664 and renamed it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, Duke of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8: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as New Netherland, a Dutch colony in 16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Duke of York was given it from Charles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glish took over in 1664 and renamed it New Y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, Duke of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9: New Hampsh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 to the king of England in 167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yal colony: king chooses governor and no elected gover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9: New Hamp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 to the king of England in 167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yal colony: king chooses governor and no elected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0: Pennsylv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81, William Penn was granted a charter for land between Maryland and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arles was in debt to Penn’s fa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 was a Quaker and he gave the people two right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reedom of Reli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Right to elect public offic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0: 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81, William Penn was granted a charter for land between Maryland and New Y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Charles was in debt to Penn’s f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 was a Quaker and he gave the people two righ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Freedom of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ight to elect public offic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1: Dela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82, the Duke of York granted William Penn this 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ame a colony in 17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1: Dela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82, the Duke of York granted William Penn this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came a colony in 17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2: New Jers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uke of York split this land in half for two friends. (East Jersey &amp; West Jerse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quarrels caused them to be combined in 17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 of New Netherland (17th century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2: 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uke of York split this land in half for two friends. (East Jersey &amp; West Jer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quarrels caused them to be combined in 17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of New Netherland (17th centur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3: 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ame a colony in 173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Oglethorpe was granted a charter to start Georgia for the poor and unfortunate who leave pri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known as a buffer zone between the Spanish and the English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3: 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came a colony in 17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Oglethorpe was granted a charter to start Georgia for the poor and unfortunate who leave pr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known as a buffer zone between the Spanish and the English colo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ructional Objec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LW: Identify the 13 original English colonies, when they were founded, who established them, and wh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LW: Complete map activity related to establishment of 13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P.I. 8.5.6: Classify characteristics of major historic events: coloniz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P.I. 8.5.7: Recognize the historical impacts of European settlements in North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W: Identify the 13 original English colonies, when they were founded, who established them,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W: Complete map activity related to establishment of 13 colo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P.I. 8.5.6: Classify characteristics of major historic events: col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P.I. 8.5.7: Recognize the historical impacts of European settlements in North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13 Originals (Conclus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think you would have handled trying to start a new colon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the big thing most people wanted when these new colonies were star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New England Colon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Middle or Breadbasket Colon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Southern Colon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3 Originals (Conclu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you would have handled trying to start a new colo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big thing most people wanted when these new colonies were star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New England Colon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Middle or Breadbasket Colon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Southern Colon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 Job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Job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t to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it be like to start a new tow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bstacles would you 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have enough support (money and friends) to do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something you have ever tried to start in your life that might be lik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y have been some of the questions the early settlers asked themselves when they sta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it to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it be like to start a new t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obstacles would you f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have enough support (money and friends)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something you have ever tried to start in your life that might be like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y have been some of the questions the early settlers asked themselves when they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ge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e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07 (Jamestow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tain John Smith is given credit for starting this colo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eople at this time wanted to leave their homeland in order to have more freedoms and to not be under the strict rule of the kings of Eng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07 (Jamest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ain John Smith is given credit for starting this col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at this time wanted to leave their homeland in order to have more freedoms and to not be under the strict rule of the kings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 of Virginia published by John Smith (161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amestown Settlement, replicas of Christopher Newport's 3 ships are docked in the harb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cahontas statue was erected in Jamestown, Virginia in 19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of Virginia published by John Smith (161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Jamestown Settlement, replicas of Christopher Newport's 3 ships are docked in the harb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cahontas statue was erected in Jamestown, Virginia in 19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20 by the Pilgri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ymouth was the original name of the sett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Carver was the leader of the Pilgrims and author of the Mayflower Comp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itans then came and settled Boston (Mass. Bay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Winthrop was the governor of this sett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ymouth Plantation, with Cape Cod Bay visible in the dist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flower in Plymouth Harbor by William Halsall (188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20 by the Pilgri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ymouth was the original name of the sett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Carver was the leader of the Pilgrims and author of the Mayflower Comp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itans then came and settled Boston (Mass. Bay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Winthrop was the governor of this sett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ymouth Plantation, with Cape Cod Bay visible in the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flower in Plymouth Harbor by William Halsall (188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hanksgiv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hanksgi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3: Mary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34 by George Calvert who started a charter but didn’t live to see it come true. He believed all people should have religious freed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arles I was king and didn’t agree with the religious freed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49, the Toleration Act was passed that guaranteed equality of rights for everyone for reli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Calvert, Lord Baltimo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3: Mary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34 by George Calvert who started a charter but didn’t live to see it come true. He believed all people should have religious free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Charles I was king and didn’t agree with the religious free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49, the Toleration Act was passed that guaranteed equality of rights for everyone for reli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Calvert, Lord Baltim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5C17-AB70-4AC7-B0F5-88620451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3C52-0644-4F1C-B9DF-C6767649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E04-CEE2-409A-BA23-975260AC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65FD-D83A-4296-A7A4-897C7232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0F1-EB28-4C98-84D7-5AAC031B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B87-10E3-4606-939C-84787CFA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29C-9180-4304-A746-400ABBE1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A05-A8A8-4270-B586-BFDD2C9B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C41-0B49-48B0-933F-ACDF3A06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475-E5C4-4A6E-87C5-CBF3D877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AF9-E2E0-4002-A931-35C7B430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D797-FC64-4C46-B9DA-B7F26853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AA59-FDFB-43BE-AB54-216D0AD50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aptJohnSmith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Virginia_map_john_smith_large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Image:Jamestown-Virginia-settlement-ships-NOAA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en.wikipedia.org/wiki/Jamestown_Settlement" TargetMode="External"/><Relationship Id="rId6" Type="http://schemas.openxmlformats.org/officeDocument/2006/relationships/hyperlink" Target="http://en.wikipedia.org/wiki/Christopher_Newport" TargetMode="External"/><Relationship Id="rId7" Type="http://schemas.openxmlformats.org/officeDocument/2006/relationships/hyperlink" Target="http://en.wikipedia.org/wiki/Image:Pocahontas_at_jamestown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en.wikipedia.org/wiki/Jamestown%2C_Virginia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limoth_Plantation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en.wikipedia.org/wiki/Plimoth_Plantation" TargetMode="External"/><Relationship Id="rId4" Type="http://schemas.openxmlformats.org/officeDocument/2006/relationships/hyperlink" Target="http://en.wikipedia.org/wiki/Cape_Cod_Bay" TargetMode="External"/><Relationship Id="rId5" Type="http://schemas.openxmlformats.org/officeDocument/2006/relationships/hyperlink" Target="http://en.wikipedia.org/wiki/Image:MayflowerHarbor.jpg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en.wikipedia.org/w/index.php?title=William_Halsall&amp;action=edi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05920" cy="147024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Monotype Corsiva"/>
              </a:rPr>
              <a:t>The 13 Original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Exploring the who, when, where, and why behind the 13 original colonies of early Americ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4: Rhode Isl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hode Island became a colony aft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ger Willi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clergyman, obtained a charter from England to form the col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spoke out against the Puritans strictness and went to this area to settle and provide religious ch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de Island also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eedom of relig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225px-Franklin_Simmons_Statue"/>
          <p:cNvPicPr/>
          <p:nvPr/>
        </p:nvPicPr>
        <p:blipFill>
          <a:blip r:embed="rId1"/>
          <a:stretch/>
        </p:blipFill>
        <p:spPr>
          <a:xfrm>
            <a:off x="5595840" y="1523880"/>
            <a:ext cx="2826000" cy="3767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5410080" y="541008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Willi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, author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5: Connecticu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founded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3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a clergyman by then name of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omas Hoo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ed a group of people from Rhode Island to start their own colony and they ha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edom of reli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A map of the Connecticut, New Haven, and Saybrook colonies."/>
          <p:cNvPicPr/>
          <p:nvPr/>
        </p:nvPicPr>
        <p:blipFill>
          <a:blip r:embed="rId1"/>
          <a:stretch/>
        </p:blipFill>
        <p:spPr>
          <a:xfrm>
            <a:off x="4648320" y="1676520"/>
            <a:ext cx="4190760" cy="3563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4800600" y="5334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p of the Connecticut, New Haven, and Saybrook colo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3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Colony #6: North Caroli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1663 by English no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er granted by Charles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eston: main city was named after Charles II. Became very important port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 politics forced a split of the colony into North and S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4267080" y="1219320"/>
            <a:ext cx="2451240" cy="2566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6781680" y="3429000"/>
            <a:ext cx="2028960" cy="3124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701028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Charles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7: South Caroli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2971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72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th Carolina received its name after a political dispute and became a col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large plantations for growing crops and raising livest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8: New Y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276720" cy="4190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ed as New Netherland, a Dutch colony in 16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ames Duke of Y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given it from Charles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glish took over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named it New Y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62120" y="5943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, Duke of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7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Colony #9: New Hampshi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d to the king of England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7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yal colony: king chooses governor and no elected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0: Pennsylva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8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lliam Pen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granted a charter for land between Maryland and New Y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g Charles was in debt to Penn’s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n was a Quaker and he gave the people two righ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reedom of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ight to elect public offic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ddle Colony (Breadbasket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7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2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4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1: Delaw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682, the Duke of York granted William Penn this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ame a colony in 17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855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719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2: New Jerse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038840" cy="2971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uke of Y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lit this land in half for two friends. (East Jersey &amp; West Jers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quarrels caused them to be combined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70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62120" y="5181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of New Netherland (17th centur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3: Georg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became a colony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73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ames Oglethor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granted a charter to start Georgia for the poor and unfortunate who leave pri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known as a buffer zone between the Spanish and the English colo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740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Monotype Corsiva"/>
              </a:rPr>
              <a:t>Instructional Object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LW: Identify the 13 original English colonies, when they were founded, who established them,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LW: Complete map activity related to establishment of 13 colo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.P.I. 8.5.6: Classify characteristics of major historic events: colo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.P.I. 8.5.7: Recognize the historical impacts of European settlements in North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CBS01029_0000[1]"/>
          <p:cNvPicPr/>
          <p:nvPr/>
        </p:nvPicPr>
        <p:blipFill>
          <a:blip r:embed="rId1"/>
          <a:stretch/>
        </p:blipFill>
        <p:spPr>
          <a:xfrm>
            <a:off x="228600" y="152280"/>
            <a:ext cx="178920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096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The 13 Originals (Conclusion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you would have handled trying to start a new colo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big thing most people wanted when these new colonies were star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New England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Middle or Breadbasket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Southern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77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7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9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1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77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8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0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2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77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9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1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77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0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2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4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77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1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3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5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onotype Corsiva"/>
              </a:rPr>
              <a:t>Great Job!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MCj04280650000[1]"/>
          <p:cNvPicPr/>
          <p:nvPr/>
        </p:nvPicPr>
        <p:blipFill>
          <a:blip r:embed="rId1"/>
          <a:stretch/>
        </p:blipFill>
        <p:spPr>
          <a:xfrm>
            <a:off x="1600200" y="2050920"/>
            <a:ext cx="5943600" cy="3622680"/>
          </a:xfrm>
          <a:prstGeom prst="rect">
            <a:avLst/>
          </a:prstGeom>
          <a:ln w="0">
            <a:noFill/>
          </a:ln>
        </p:spPr>
      </p:pic>
      <p:pic>
        <p:nvPicPr>
          <p:cNvPr id="126" name="MSSN2976.wav" descr=""/>
          <p:cNvPicPr/>
          <p:nvPr/>
        </p:nvPicPr>
        <p:blipFill>
          <a:blip r:embed="rId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4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6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8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8" dur="576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1722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Monotype Corsiva"/>
              </a:rPr>
              <a:t>What’s it to you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would it be like to start a new t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kind of obstacles would you f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ould you have enough support (money and friends) to do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s there something you have ever tried to start in your life that might be like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se may have been some of the questions the early settlers asked themselves when they star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MCj04151440000[1]"/>
          <p:cNvPicPr/>
          <p:nvPr/>
        </p:nvPicPr>
        <p:blipFill>
          <a:blip r:embed="rId1"/>
          <a:stretch/>
        </p:blipFill>
        <p:spPr>
          <a:xfrm>
            <a:off x="6477120" y="2133720"/>
            <a:ext cx="2104920" cy="345744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8"/>
          <p:cNvSpPr/>
          <p:nvPr/>
        </p:nvSpPr>
        <p:spPr>
          <a:xfrm>
            <a:off x="6553080" y="228600"/>
            <a:ext cx="2133720" cy="1523880"/>
          </a:xfrm>
          <a:prstGeom prst="cloudCallout">
            <a:avLst>
              <a:gd name="adj1" fmla="val 29689"/>
              <a:gd name="adj2" fmla="val 88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nap ITC"/>
              </a:rPr>
              <a:t>What do you thin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MSj02914.wav" descr=""/>
          <p:cNvPicPr/>
          <p:nvPr/>
        </p:nvPicPr>
        <p:blipFill>
          <a:blip r:embed="rId2"/>
          <a:stretch/>
        </p:blipFill>
        <p:spPr>
          <a:xfrm>
            <a:off x="73152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4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27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onotype Corsiva"/>
              </a:rPr>
              <a:t>Let’s get Starte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Cj0432552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09680" y="167652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MSj02914.wav" descr=""/>
          <p:cNvPicPr/>
          <p:nvPr/>
        </p:nvPicPr>
        <p:blipFill>
          <a:blip r:embed="rId3"/>
          <a:stretch/>
        </p:blipFill>
        <p:spPr>
          <a:xfrm>
            <a:off x="44197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16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 1: Virgi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Jamest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ptain John Sm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given credit for starting this col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at this time wanted to leave their homeland in order to have more freedoms and to not be under the strict rule of the kings of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Statue at Jamestown VA, photo Aug 2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576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 1: Virgi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Map of Virginia published by John Smith (1612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191120"/>
            <a:ext cx="3200400" cy="24638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3505320" y="6019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of Virginia published by John Smith (16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At Jamestown Settlement, replicas of Christopher Newport's 3 ships are docked in the harbour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1066680"/>
            <a:ext cx="3333960" cy="2181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1"/>
          <p:cNvSpPr/>
          <p:nvPr/>
        </p:nvSpPr>
        <p:spPr>
          <a:xfrm>
            <a:off x="304920" y="3276720"/>
            <a:ext cx="3429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Jamestown Settle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replicas of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hristopher New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's 3 ships are docked in the harb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A Pocahontas statue was erected in Jamestown, Virginia in 192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83240" y="1143000"/>
            <a:ext cx="237672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4"/>
          <p:cNvSpPr/>
          <p:nvPr/>
        </p:nvSpPr>
        <p:spPr>
          <a:xfrm>
            <a:off x="4191120" y="25146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cahontas statue was erected i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Jamestown, Virgi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19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Monotype Corsiva"/>
              </a:rPr>
              <a:t>Colony # 2: Massachusett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6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the Pilgri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ymouth was the original name of the sett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John Car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the leader of the Pilgrims and author of the Mayflower Comp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itans then came and settled Boston (Mass. Bay Colo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John Winthr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the governor of this sett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Plimoth Plantation, with Cape Cod Bay visible in the distan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1295280"/>
            <a:ext cx="3276360" cy="1984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5638680" y="32767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lymouth Pla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ape Cod B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isible in the dist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Mayflower in Plymouth Harbor by William Halsall (1882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4419720"/>
            <a:ext cx="3505320" cy="2033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4"/>
          <p:cNvSpPr/>
          <p:nvPr/>
        </p:nvSpPr>
        <p:spPr>
          <a:xfrm>
            <a:off x="228600" y="57913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yflower in Plymouth Harb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illiam Hals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88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Monotype Corsiva"/>
              </a:rPr>
              <a:t>Colony # 2: Massachusett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Image:The First Thanksgiving Jean Louis Gerome Ferris.png"/>
          <p:cNvPicPr/>
          <p:nvPr/>
        </p:nvPicPr>
        <p:blipFill>
          <a:blip r:embed="rId1"/>
          <a:stretch/>
        </p:blipFill>
        <p:spPr>
          <a:xfrm>
            <a:off x="533520" y="1752480"/>
            <a:ext cx="3962160" cy="3027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John Winthrop"/>
          <p:cNvPicPr/>
          <p:nvPr/>
        </p:nvPicPr>
        <p:blipFill>
          <a:blip r:embed="rId2"/>
          <a:stretch/>
        </p:blipFill>
        <p:spPr>
          <a:xfrm>
            <a:off x="5105520" y="1752480"/>
            <a:ext cx="3338280" cy="3810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533520" y="4952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Thanksgi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 3: Maryl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nded in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1634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George Calver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ho started a charter but didn’t live to see it come true. He believed all people should have religious freedo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ing Charles I was king and didn’t agree with the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religious freedom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1649, the Toleration Act was passed that guaranteed equality of rights for everyone for relig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George Calvert, 1st Baron Baltimore"/>
          <p:cNvPicPr/>
          <p:nvPr/>
        </p:nvPicPr>
        <p:blipFill>
          <a:blip r:embed="rId1"/>
          <a:stretch/>
        </p:blipFill>
        <p:spPr>
          <a:xfrm>
            <a:off x="5791320" y="1676520"/>
            <a:ext cx="2468520" cy="3719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5638680" y="55627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alvert, Lord Baltim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22:41:51Z</dcterms:created>
  <dc:creator>Technology</dc:creator>
  <dc:description/>
  <dc:language>en-US</dc:language>
  <cp:lastModifiedBy>RomaK</cp:lastModifiedBy>
  <dcterms:modified xsi:type="dcterms:W3CDTF">2015-09-04T09:33:19Z</dcterms:modified>
  <cp:revision>11</cp:revision>
  <dc:subject/>
  <dc:title>The 13 Original colonies of America</dc:title>
</cp:coreProperties>
</file>