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4754-586C-4040-8CC4-6C9ED2146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230-DF46-4FC3-AA7A-6F3500E9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4A3-5CB2-45C9-B499-9751D82F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1FA-D006-47DE-A05F-221B6598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007-B5F2-4B1D-BD65-ADE5679D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A7D-DC9D-4B5E-A2D5-FE467045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B67-D7B5-40DF-A98D-2C677CF3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67B-3FE8-4293-ABC8-0D677F33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92F-F2B4-4356-A9E6-C86AC4F3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FFE-1ECD-4C16-8075-EDCC0604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48C-2F28-4AFD-875F-1320D112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6E1-1095-4F0F-AC07-739EE551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669-635A-4094-A26C-97FA4715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55A9-39B6-4E2A-AB72-7ADA1269C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2" r="13540" b="6679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RomaK</cp:lastModifiedBy>
  <dcterms:modified xsi:type="dcterms:W3CDTF">2015-09-04T09:33:12Z</dcterms:modified>
  <cp:revision>43</cp:revision>
  <dc:subject/>
  <dc:title>Corporate Creativity</dc:title>
</cp:coreProperties>
</file>