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958B-42B5-43C7-80E5-A7AD7009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FCD-A66A-4D77-8D61-45493E95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936-3E59-4176-B468-7426C180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970-414B-418E-851D-427149CF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9BB-833C-428D-B288-38373448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489-5DD4-4F32-9157-7A8F0913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E35-D025-4D7C-9059-5EF54A6B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E1A-1B79-43A5-A6C8-14F9FE12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1DF-EE0E-451C-A622-6DE8005A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027-2B06-41DB-8EC3-31A0AB8D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0D2-4491-46DC-8EBA-6C19AC6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C1F-1150-42A9-8E14-419691C8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895-56DC-40D1-99F7-C40AD8C6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8E37-2E7A-4363-B84E-9B3C974C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2" r="13540" b="6679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RomaK</cp:lastModifiedBy>
  <dcterms:modified xsi:type="dcterms:W3CDTF">2015-09-04T09:33:12Z</dcterms:modified>
  <cp:revision>43</cp:revision>
  <dc:subject/>
  <dc:title>Corporate Creativity</dc:title>
</cp:coreProperties>
</file>