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BD42-A902-4FF8-A0D3-59BAEFA7B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81C1D-71D5-46A4-B7CA-19F1108AA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051E-E39B-44E8-839A-BB4084CA0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EFEC0-59E2-4889-A6F1-88105D41C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8CA2A-32B7-4141-A806-A0E5E5773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D0773-38D6-4A59-BAD6-028E5CA5D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E914F-1F42-48F3-9F6A-FE21F51BD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34AB7-6612-4337-83D8-2DA46BC4A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01F06-6B94-498F-B6C3-1CA820C7C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2D31F-3722-40D3-9C9C-EB78F745C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68930-9DAD-476A-B4BD-E716E2A82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E08DE-6978-41D7-8B2C-24603F9F9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D5E94-A301-4378-B591-ADA4F270C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EA43-58D1-4946-B0F7-00867F165C52}"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Windfall profits tax  in August 1981, helping end the 1979 energy crisis</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Windfall profits tax in 1988 during 1980s oil glut</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x Reform Act of 1986, Reagan and Congress sought to broaden the tax base and reduce perceived tax favoritism</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2000"/>
          </a:bodyPr>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Gross Domestic Product (GDP) growth recovered strongly after the 1982 recession  at annual rate of 3.4% per year slightly lower than post-World War II average of 3.6%</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Trickle-down economic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Cold War related defense spending caused large budget defici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Savings and Loan crisi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United States borrowed heavily both domestically and abroad raising national debt $700 billion to $3 trillion</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RomaK</cp:lastModifiedBy>
  <dcterms:modified xsi:type="dcterms:W3CDTF">2015-09-04T09:32:43Z</dcterms:modified>
  <cp:revision>131</cp:revision>
  <dc:subject/>
  <dc:title>Reaganomics</dc:title>
</cp:coreProperties>
</file>