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7D42-3417-4D14-A7D9-964223BC5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53FD9-8E6F-4BE7-88F1-4339E9F99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77D67-FC1D-4078-B2E0-966A237F4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91519-BF56-4B44-868B-7DD2EB8E0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4BDC7-FCAC-4D20-A0F5-4B0E88597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FE4C3-FE45-4A89-AF3C-37994100B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E757C-CF14-46AF-8D33-7B39FF49E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106B0-D532-4A20-A6B0-3A9E43D80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2F2EB-2FCD-4151-BD50-FDF2BEA07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3B9F0-D3A3-408C-B8A7-C172D7464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90ECC-DEDB-496E-BA4B-335E6DF89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2D471-669B-4400-9EF3-994F5AD87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5E010-A959-4E7B-9C1D-6DB4E60EA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FA96-B3B0-4157-81A9-0CEC7A4D685A}"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Windfall profits tax  in August 1981, helping end the 1979 energy crisis</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Windfall profits tax in 1988 during 1980s oil glut</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x Reform Act of 1986, Reagan and Congress sought to broaden the tax base and reduce perceived tax favoritism</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2000"/>
          </a:bodyPr>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Gross Domestic Product (GDP) growth recovered strongly after the 1982 recession  at annual rate of 3.4% per year slightly lower than post-World War II average of 3.6%</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Trickle-down economic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Cold War related defense spending caused large budget defici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Savings and Loan crisi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United States borrowed heavily both domestically and abroad raising national debt $700 billion to $3 trillion</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RomaK</cp:lastModifiedBy>
  <dcterms:modified xsi:type="dcterms:W3CDTF">2015-09-04T09:32:43Z</dcterms:modified>
  <cp:revision>131</cp:revision>
  <dc:subject/>
  <dc:title>Reaganomics</dc:title>
</cp:coreProperties>
</file>