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62F31-DF56-4B91-8AD1-FF7F6CFA5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3EE2C-F19A-4FA7-BD82-F52B10D2F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3D04D-0B18-4134-8892-E8A806E2F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2D713-86F3-44DD-A285-D7360C61E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3FF55-E3C0-483A-9F56-97FEE80B2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8FF05-EAB6-42A6-97E0-81F03C306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518BA-D20D-4B6C-80E3-168557B3E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F46B4-097C-4705-9ECA-E354A8CFF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91F95-6270-4042-9C58-44FA413C2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B5BEB-53A6-46B4-AE77-C7FA59B3C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095F9-C6D4-46A0-865E-2E32EEE72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645EF-8BFB-4B71-88AB-ACA71C1C7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3F1B0-7E6C-4815-93AF-F34C56F42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2794-1B4E-4E46-B872-D054B62D1197}"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Windfall profits tax  in August 1981, helping end the 1979 energy crisis</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Windfall profits tax in 1988 during 1980s oil glut</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ax Reform Act of 1986, Reagan and Congress sought to broaden the tax base and reduce perceived tax favoritism</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2000"/>
          </a:bodyPr>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Gross Domestic Product (GDP) growth recovered strongly after the 1982 recession  at annual rate of 3.4% per year slightly lower than post-World War II average of 3.6%</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7000"/>
          </a:bodyPr>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Trickle-down economic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Cold War related defense spending caused large budget deficit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Savings and Loan crisi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United States borrowed heavily both domestically and abroad raising national debt $700 billion to $3 trillion</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8440" indent="-29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RomaK</cp:lastModifiedBy>
  <dcterms:modified xsi:type="dcterms:W3CDTF">2015-09-04T09:32:43Z</dcterms:modified>
  <cp:revision>131</cp:revision>
  <dc:subject/>
  <dc:title>Reaganomics</dc:title>
</cp:coreProperties>
</file>