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9A9D-1470-48F0-98E5-B05405DF0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BC6-AC92-4964-A479-A88B5BA2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32A2-C73F-4F3E-9A9A-E7B561C7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33CD7-B685-429B-ADFA-BC746C0B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42C07-2E79-46C2-BE3E-7D2BAD4E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6E689-BFB2-44D9-9EA8-4710706D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C79DF-9E4F-4B76-9149-21237FBD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F0DD6-8519-47C1-9516-7C640C63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E5703-F077-4D30-97B4-C9AAF21E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1E0587-5F11-4942-B47A-A032822A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60933-A304-464E-A28F-1DAA696A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69CCE-E811-4C88-A237-B6F6C493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8F7704-5747-43EA-BD73-0432D29C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A18-BF8D-4406-AB91-B5773C7A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F5265-F3EF-4B10-82A3-903518DB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EA6B7-5167-4EFA-B171-08CC2AA3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F0495-59F7-453C-8922-58F7877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75EB4-B276-474A-A360-A2FBE394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DC191-68F5-484B-AB6C-FD74E366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339C3-4BED-4673-8E5D-2F827C5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617D0-FBFF-48F0-AD28-7BB446DB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3E50E-0AA7-4C81-B324-34664626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CA0F8-B4F1-44E0-A4A2-2944F7CC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62E55-B2FD-4A80-8D48-0FF64D1E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A42-3D60-48C2-8DC5-00F07ED5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48EA1-6514-4565-9CE3-0B176BB7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B321B-8164-46C7-B342-2C2EAAE9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238FA-ACD3-461F-AD28-476C1CC5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54E53-1C79-406A-84A6-7005EC94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D7B15-9DDC-493F-8EE2-17848D54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401C9-5E99-46C6-8DD0-C176F985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7FD97-F6C0-4F78-A33D-7D9DC4BC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25EC4-8EBF-4D9B-A8ED-38B26BF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67068-99BE-4775-9FC2-24080688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49176-2B09-426D-ACE9-696DC1DE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02AD-7211-4774-B3D7-053C6B4E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FC128-2841-4295-A1A0-49B32C19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59E0F-6875-4C86-A1B3-1BCD1A307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1358C-B1C6-434B-BA5C-D890F32A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189BE-6A2C-4044-864C-3428055B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947E2-A5C9-4968-9D07-5E3C635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39ABC-6A07-4671-AC51-064323A7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690A2-C245-479A-8B9C-CBC66BC3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6BCA0-68A7-4C1C-896C-3E5067ED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1258E-75DE-44C5-9B53-D049BAEE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5BA68-776C-45EB-8511-7CB60B97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591E-8648-4100-A8D8-E1471FB3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99221-97D2-47FC-9EB9-D4DAB2B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9F995-6E6A-4B8E-9121-4C894458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A863E-4BF1-4740-8FD6-B2A8516C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C402A-A897-4762-B557-46CCD1D0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8CAF7-7EEC-4C0C-B7C7-7A7FE3F7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D3A37-1796-4419-A696-F89C0CA2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48FA8-D8DC-418F-A04B-10214D5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4D49F-9769-4E5F-AF8D-0E88D8FC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9FB62-A055-4AE2-B3C0-7DE53253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A85FB-9A45-405D-8487-E440D848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9B43-0528-4506-B748-FBC9C673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DCF895-AF00-4EEF-886D-28243FA2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3BAD6-E22D-4ACE-AD32-973368F2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FED3E-A26A-4E9E-94F5-03A9B4CA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424C93-31F0-4173-9F4C-DE87ADEF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CAD34-D6FC-4E58-98E6-0B885266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F0A1E-F664-427A-8AA3-2D8DA119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CC2AD-F1A3-4923-BAC1-8A302B42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281120-1064-4C01-B23B-69F1B6D2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BE2E0-8ADC-4160-A9DD-A217E220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43B060-A458-4277-AF03-421C045B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11E4-0FC9-45A1-9803-F465F032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9C2E9-5444-4C21-9069-59CA0222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6EDAAC-1D2A-4F97-85F3-AD58E66C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2CC3E-7AD2-4BA9-A0DF-C979382A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ACAA16-2551-4187-9808-097D1C37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2F069-A510-4D5F-960C-887F974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2915F5-3F1F-46DE-92EE-0FA17A3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F6290-8290-4F5B-B70B-1CA02881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CD291-7121-4104-93B6-0A47DB4D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B8252-6877-4F98-B890-5883C8DD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C29EEF-ED0F-4BFD-9C67-3DA103D3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53D1-FE72-4906-8F1C-314A01AC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0AE98-A36C-431C-BF6E-03C7A2E5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2F972-6A06-4CDC-8C62-98590CC6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2AC8EC-67D3-413E-A9B2-F8BE395E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5E2667-A9B7-4D79-980C-91EBFD3F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FE544-7AE0-464B-ADB8-5A8D669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187156-56ED-460C-A951-37B4BB93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ED2D0B-97D8-4BE1-BF59-DF902F36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BF5D8-955E-4206-A2A5-56BE3966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78ECC-128D-4247-B990-452BADE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60A42D-AE3B-411D-8E9C-82C526AE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BE6F-01AE-426B-B8DD-47D33BD7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C98745-2201-4078-9D4F-EA2FF32D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FF65DD-5C10-4A53-8C9E-484006AF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E11B2-52C2-4263-BEFF-E56186C6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100CD6-37F6-454B-B552-13EF7D8C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68A6A-E548-4DA5-B258-EFEDA18C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B67858-3FB8-4FFC-B9DE-62ADD601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647C0-5282-4DB7-A976-5334CCC4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1E01E-B170-4B4B-B2BB-613A50C5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DC05AD-B17C-4EAE-80BE-DEDA0E47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7A922-8DAE-4AB7-86C9-663B288A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04E0-63BA-4E47-B39C-86CACAFF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87BD1-5484-4259-BA5B-BD101615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F3929C-7F37-4DD6-9B02-CD0068F2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7456F-FE5F-4137-A033-893A3CAC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35916-8E21-4660-8111-2C877AF8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8B50C-6FBA-4162-A139-49F06C1F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6778C0-86CF-44B2-B0F5-E413A5DB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4298C9-C8C9-4D3E-8853-952273D4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85C87-50D3-48E3-BB7A-22EAB8E6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D26CA2-45B4-485E-A2BD-3A9E65C8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646C2-97B4-494C-9859-BAEAC4F9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FDA-546F-455D-8ED9-37801DBA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7D52-510D-4C43-837A-13375B4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BC2C1-5C85-4844-AB69-995B0EAF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195E98-AB81-423F-AA87-FF218BF1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30CC9E-FD18-46CF-8DEF-0010F5CC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3CF83-E067-4364-8972-BFF43517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885B6C-A54A-414A-A67C-9C18EEAF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A1D8D-7D45-4637-8533-D9D64703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29A8C-79C4-4865-A185-91525A18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8E879-D215-4F28-B2E8-242E88B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F20BDA-2158-4E6A-BA04-DAA13CD8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56465-EA1D-4B30-B2D3-1F6CB776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AE84-1623-432F-BFAF-85697666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EDF37-F5FE-4A7F-9A5C-31DD10A9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0FABA9-2D47-4F01-9A67-25C1A778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7FA6C7-79EB-4B49-93FE-609D68A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7D835F-677E-4BBE-B8BD-8ABDE450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CF125B-0BE1-4C20-B5C2-7014752C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E4AB99-1F9B-4312-A10F-634FD2CB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678F92-BF76-421C-BA8B-BE82A1E4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0FE011-0B6D-47C6-8378-44287FBB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4A72FB-50C8-4066-901A-75C07F31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49881C-63FE-4DFA-A56D-083010EE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5C36-32BE-4AD1-BB60-D1EEC53D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9B1BC-542F-45B1-B103-B762890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294F8-505D-4B82-9FF6-56658C10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9E14CD-EEB5-4F46-8CF2-8B2A8A33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351161-D11F-461C-B5E1-DFF176E0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3DBCCD-DAAF-4CAF-9605-3D09FD06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44470D-2938-41F4-9CEB-34B3C37B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C04B68-D991-4976-8115-C39B220F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A59EEC-B192-4E27-A0D4-1C4D2D07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B9726-435B-4BB5-ADCC-A3F58D47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0AC941-258F-4F3B-81AD-3D35CAE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4E09-3D89-40C5-858A-A28C8D8E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C46CD4-336A-48E6-ACAA-032C73C0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6702E9-D984-46A3-89FD-A4585DA7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4859F-906B-49DC-A48A-51CB74A1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CEB210-C599-4BF4-87EC-4566D5E9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7D357-EF5B-4632-81E4-28D4CCE1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002ABA-8878-4485-8772-6A8502DF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71197-981C-40E7-90F6-94D081A4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42FD4-D336-4A82-BF78-1710294E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0595B-8938-4703-AE5B-C1193302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A5F903-025A-4534-B285-0F2CB1C6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1CA0-1B5B-4DFF-B059-412E19CEE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BCFECE-94D5-4A70-98C6-140E3E1D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BAC17C-B757-435A-9794-84BFBA4C8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801319-4C92-4B85-97B1-DF367AF2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61FB6-D505-48BE-AC4F-708B473C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CCFCB-4A8D-479C-9E72-62767592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8E555-A048-4DB1-A7ED-FA85EFE0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2F5D19-77CE-4460-84CC-372E6B97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69067-4AA4-4557-A93F-FF07BD17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2182F0-A46F-43CC-9EF7-139C1FC1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68D372-CC31-4DB5-8BCA-350CC44D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6B43-0C26-4CE3-8058-B96D9A28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C736DD-3EF8-499F-911F-B51ADAE2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27D04-B4B2-462D-86A2-8F86BCB0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74933A-6079-4768-97B4-B1B2429D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0C5557-56ED-416C-AE7B-C8A1F74E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75BE15-5E8E-4824-9224-1A9D727D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8EC148-F239-49B8-943A-BD404EF3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0B45E2-2B82-4727-833B-CC860D03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55F07B-998B-4259-A14F-EFCE4C75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952C8-ED7C-46B5-AB8E-B5762E38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187CE3-43FD-499B-B749-D0D54325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59B76-34D4-433A-B4F4-5C46B38E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6A9C8F-8917-4EA8-823E-C241D980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777301-6B2C-4B00-9172-03E4A26A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C498B8-9F0F-4FDA-84BF-8015AC4C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496916-EE00-42EE-8711-C0FFC85D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B8AC69-061A-4731-A975-4E937D1A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12C10E-2B43-4A97-B474-6E23EA33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794653-E691-4C70-8A64-61C79E9F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6560E0-D9C8-4722-956C-A497DD82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4EB633-62D1-40E7-A078-72CA807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D4E72C-224F-42FF-BE7A-15378E0B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6E8C-16F7-41CA-9D72-2C193DD1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5B8169-8BB7-4A75-9A95-986330C0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C41F81-3B22-4EAA-88B3-527EC03D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F13AA1-571A-49C9-81C1-D7A094A6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2312A8-04F1-46DD-9FD0-19A5EA6F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D90C52-7ADD-4E88-9B05-2E6BE201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276BF0-81C2-41AC-B7E1-0EA8C50E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15DF28-30ED-4EAA-820A-E62112F6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0D06DD-317E-48CD-95E1-D4069D9D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2B5C4A-9A6A-4476-9B63-6120F192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ACDF0F-2FD5-48B5-9447-785C1D68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9B2C-420E-4BBD-B2C0-049807D9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352FCE0-903B-42D9-85FA-A9F82059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F9C4B1-5567-4A11-88D2-C20B65D7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E30C91-A5C1-4FC2-9DC0-BD0056AC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A2B469-C17F-400C-ABA5-7878A88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388189-F3BD-4F78-8913-EC3B5D5E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667187-0D25-43DC-9E90-9E834468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B9EC6D-E524-4BAA-A964-C2CB008F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05B0FC-13D1-4E16-B35F-FCFA2625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207D5B-DA75-480E-98EA-449C0DF7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534227-4DF9-4E5E-BAF4-1DA6918C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9176A-569C-4C23-8CBB-63BB5453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033190-7255-4F2E-B8B0-9E08BA4C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068484-CC4A-4314-9A28-B48F9B22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F95E3B-580C-4AC7-A066-C351254E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7BC8F6-7428-4247-A45C-BFA22702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764005-34A2-4756-891D-6985FDD0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770806-0281-487F-9258-70F5F725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826B7B-35BD-460A-83A3-194E2F2B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2F6A67-B472-4036-B773-B4FBC876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106646-4DFC-4366-BE33-C88AE506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AA071C-413B-43B6-B9AA-F1F3DFFF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FB95-EDB2-401D-A70C-D7340AA5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8E779-7C64-438E-ABD6-61C62A99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697A69-6CA6-4055-8D1D-D6BE342A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D5E421-1B6B-4A33-9D0D-AD441117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985496-C5B7-46BA-B782-4DC0B46A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A0FFBC-317D-4731-AEB4-F1A3FD39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171462-7EE2-4069-82FD-F99E865D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5F3F64-3A91-4402-96ED-054C3727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F907EC-9885-4430-BE73-64DCBC3D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DE1B85-907B-45BF-8820-C30C4E7F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406D5A-D739-47FE-BDBC-3DCAB429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CFDC35-31DD-465D-9BEA-59C2E357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534D-662C-4C5D-A566-3EA5448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20052E-F1A1-45D4-BF6A-D56E3A94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313379-EE69-4BCD-92F2-677AA643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A4CDF9-CC3C-4EB5-9450-ABA5919A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31524F-D90E-45A4-9BC7-68CCB619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884E2B-5544-42CE-8081-19B6B279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0F070A4-003F-41D4-BC5B-8BAA6B06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E30A17-FCA4-43D4-B227-F0B25ABA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C3CC72-6ADA-41D2-B2E6-D01A5994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2084FF-D497-477E-8E92-E5DDE9C0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7CC772-6053-45FF-849F-1F058969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66C9-45AB-4564-AD84-2AC8AA2B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DA4BF7-4763-447E-9FE6-BCFCB9E1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54C15D-6AD9-490C-ADF5-D5C06C6D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45697C-FD29-4BA7-A6B0-3E9E9A28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062120-BD4F-44A8-9979-9B3D9322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BC977C-1873-48E4-BBE7-2108ABD3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D92BAE-D930-4AB7-975F-BE897BF3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AA6988-20E3-4CA7-9158-908B43FD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B086AC9-7D0C-4B5C-86CA-5B12B0D2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C394A3-CA9E-4B3F-A4F2-CFAB260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E4C053-4771-4A69-ABD5-F36239D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880C9-D52E-4158-BD35-9D31081B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C0DDDE-98CA-4D30-AE8D-8301F06B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ED64F7-D506-4E14-A0EF-A08B127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6CF6FC-F5E6-4DF3-B13E-95B44ACD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B8BC18-4394-4EEE-AD51-BFEC48E5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50728D-540F-408B-9BF3-F90B631D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CB91FB-5DAE-435D-8755-EC544B71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DCD6AD-0E7E-49E3-B758-10C1E62D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344B5BF-7826-4995-BDB3-181BA41B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B97E2B6-57F3-4BDC-BF80-6A260300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624F09C-7039-4EB0-8BDB-57B6EBAB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917F2-3C4B-4882-A378-F8B1DA14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A836F92-D439-4658-AE42-E1F57747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381242F-6B06-432F-AE4C-FB355BB2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8B4AA3A-FAC3-4490-85FC-092D0277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8A41817-9E8B-4CD1-8479-B2E707BA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735F2F2-F1D6-4AFD-81F2-22BECA08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692F9C6-775E-423E-89E8-8369FF3F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6FB2476-F1ED-4016-AD1F-4A28CB2D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F84EF14-3842-4122-9D63-28CEAD21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C685DAA-086C-495B-BD6C-D9A1B2B4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4A7A9D-5920-4911-A07D-8A8DAE3E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71C0-DA2B-49E7-B008-03F00950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4754C6-D660-4D48-8B95-47AF5552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DBF09C-52AB-4D99-8A76-72A89F18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5A29D8-9C5A-4A6E-946E-91D65307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FB2B79-1C57-4380-85F5-F2754C9E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941AD8-D12A-4C62-9D0C-04E8051A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C181C0-5C06-40FD-8210-525B145F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7D3AE2-0125-498B-B9ED-B942D8FA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D44F65-997D-41E5-9A3C-A92EEDE2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9A680D-EE80-4E44-B5AE-CBCF1624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A4B993-9C52-4EAF-AC0D-36E0DCAC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45F04-C1F6-4936-9E41-8AAEC1A3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4708055-4C5D-4359-966D-82361656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E6AAE2-6087-4069-8282-8CD6DC8F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7922DB-8BE4-4EF4-A6F5-A52FA6D3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9B31DF-79F1-4333-80B9-FAD29F65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73F933-0593-4288-946F-DC839BEC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E68EA0-A17C-493D-A043-851ACB91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373C27-E273-4E5A-9E61-D4EFD6A3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4A6AF0-5C68-4340-BC26-FA17C887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E1C7B0-C21A-4A90-886C-633049E5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C90EFC-F887-4F71-AF3D-93B78A2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26F4BA-DF59-4D0A-9DDE-61B786A0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2A23AB-B829-4433-815E-BC099DB0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048CFC-5029-439F-9351-0B437879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0D2351-6667-4166-82D3-9D9D8B29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E629DF-0689-4451-8874-D7961F82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809D9B-CB19-455F-B256-EEA73311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1DFAA3-40A4-4A19-B234-A548CDD7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097FD6-38E2-4D04-B901-F6CD9A9B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A7E9871-6B5E-4ED0-A478-A90DB670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383A74-8075-4FC2-9480-2C33F00C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4EB03E-5527-43DB-BE13-B5D7C2F2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E9702-F0C1-44A0-923F-84477EFC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4446FB-C607-46D5-A49E-7E4BAB35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F1532A-31D3-4E08-8DBD-47E075D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E140E0-34EC-47C1-81E6-8AC5F6D5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D49861-87FD-4AC0-A1AF-B49FDCB29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171D7B-CCC1-4A40-B7CE-1CBB6A0E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B06D762-44F2-4A1A-862F-FEC3A127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3D262EE-C44C-4E49-805A-0EB40B3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440723-03BF-4F31-A355-7B0FA0F2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1122646-B281-4B71-9F21-634DBF83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1FC7C3-ED44-4803-A607-42ABD045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239854-9DCD-40E6-AE78-26FB1BBA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5027A8-23A5-40D0-A976-97B027C3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1391DF-7023-4482-8C79-2BC9074F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A32A9B-5748-4721-AF63-53D11C49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967944-7199-424D-91B7-F7D591FB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42749A-81B9-4674-8F1F-E60B86E6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F7E80E-2EBC-4B2A-90BD-725A4DBB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F4DA69-E22F-4EC8-93DC-1C885F25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C62057-FAF6-4ACF-B1D3-579AC426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59F7930-DDC7-4E7D-A655-9DCA21C9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1FD2FD-8FA8-49FD-98C3-0BADECF2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F7F1-4433-47C8-9229-F7439B80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6E834-0038-4D61-B476-C269D447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13151A-808D-4B08-8ED8-06959317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036201-7A96-4087-A64D-EEA73C1A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CF39EA-C597-40DE-9291-EAD05474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1DFDDA-462E-4AAA-B0D7-FA14A3BE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2CA208-FA91-451E-97EB-80E827AB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21918B-FE81-4FAE-BFA7-5EA11598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61ABB2B-CC5E-4C28-9EEB-ADDB2DA4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69B18B-8952-4BBC-A1BA-16A1E099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4AEB67-AC37-4B50-98EA-74940055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A0EBE7E-A953-4300-8BAB-A0034DA5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A788C8-CDF8-4875-8990-D90E4E5A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0D69F08-077B-4035-9976-0440003E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8A3C97E-0B69-4D39-B7B7-6D1D1996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A0C43D1-ED68-442A-978D-B1F2138D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6719C0D-68EC-48A7-89B1-DF09FC3B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A8E7230-B024-496B-9A4A-1AE67788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B029521-F795-4226-B6F4-E0F032FD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9DFD063-66C6-4F81-AED7-2188B55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E61E158-EAC6-4AAD-8A07-74A4235E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F9D8761-AA4B-4702-9170-586F499A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65DC226-24B4-40D1-AF6F-AAAD3993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B9669-426E-4F1F-A83F-4633E922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5FA720C-98A5-46ED-A89C-3DF22EFC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B25EE8-41BE-466A-BF35-66387518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2C1330-9936-4335-88F9-68326C0E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24FBC6-6B11-4B5A-8C62-94AEC54D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C058BC-7B39-4352-8633-FB00124F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F36587-7246-4198-B766-3658BB62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8E9C78-6EDE-4D6E-B53C-83F501DA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4DC43BF-1F05-4CF1-8228-44D1E6FF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34BDDC-A913-4C0E-B959-751D501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349358-5277-4A73-87AC-2357A31B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B894C-6697-4FD0-BBE4-1B48E6E3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F64A5C3-0EAC-4553-A795-CDAE8335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8C348B-B814-4CBF-A86D-412FDD76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83DDF4-6250-439F-B1C5-E395A453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0C7A13-5A68-4B6F-9AFF-06952FB3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C9DCD3-ACFD-4A02-BFE6-2CFD0805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C10A52-B1E2-4661-807B-F18B946F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E603298-03C2-4E6F-9F8F-83195F01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B303EF-939A-43C7-8D8C-C9DCB2C8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982DCD-BBE3-4EAA-BB2C-525F121C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CDAF1FB-9B66-4FE2-B896-89DEBA78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0E50D-3418-4AC2-BCC1-226F6100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D434E7-E35D-4660-9B70-A7DD1EF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C72522-B66A-484E-99B5-06E65ED0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89C944-0407-4652-8339-62830CF8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D234AE-4ED0-4DEC-A5EE-0728ADF1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ABB248-8339-43B6-91EB-B1091E43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8F8AA21-6B10-4127-9764-38C663BF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730F0E-EC71-4C6D-9E36-F5B295F0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EAB916-DD29-4304-B245-6C87C963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C7321C4-850D-4ECB-9CFF-F6C31D64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BC6D98-0FBF-4E31-94E8-73101552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3F19F-F1AC-4090-A687-2C9226CB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F99BECD-7255-434B-A7BC-1E73549E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70773B-3C47-492F-857A-A9C7697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2999B88-F2B7-468A-9771-2426261A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E18190-42C0-4116-90CD-F9C59498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996F6B4-377A-4FAD-A49E-8BC1AB26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A33D33-91CA-4FD2-B3E8-9FB33020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1BFC8C1-F771-4318-92C8-F2A63619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941378-B1FB-4FC9-8BE9-F0A4E780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EA15F6F-7625-477B-AEF7-B470E88D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93D4FC3-5DF7-45F2-A622-CCF514A2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307B38-D9BB-48C0-A18F-6CF9FE53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A7D2FAB-8D4D-4624-9942-BC5DB383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71F2174-25F0-4085-9719-1459DC5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BD2A7FC-C6E1-4CEE-9284-EBF9F73E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B49A12-11F8-40D1-BE2E-888DEA28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6F208B0-0FBA-4BD0-9D2E-7B1215A1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FB8CEE-09D0-4D36-9507-74C9749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E3F16D-5126-4934-942A-FFD090A3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7B5933E-F315-4489-81EB-2215D566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A2301F-3454-433C-B12D-66D80F71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0FD42E-C5DA-4319-A1D0-290F1492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76480-213F-4CEC-8CC0-F1FA95CB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6C2DA8A-8936-4734-BC9B-E274A5AE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0CB6CD-55E7-4FFC-B334-899FD6E0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9079D8-7217-49AC-845E-909210DB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6F0F8D-858B-4D92-9102-27AC90AC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7CCE7AC-8FBD-4854-BD31-9F1D0DA0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6A3982-C2C0-4049-928F-737ADE15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C141434-9DFA-429C-BA9D-05AE79AD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65591E1-5C71-4879-AD1E-140D1E7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C05F25-E11E-438B-BFBE-F6E68914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7AB07E-707C-4B31-93D6-05DF2A75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BC134-3DCD-4228-BC6B-727238B5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1280AB1-6501-419C-B91C-E92657F1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E89E9B-C6A2-4D00-894B-7E5858DA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DEF736F-868A-4C23-831B-37BDD0C34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F1F1699-33C3-4863-B7D3-4296F7FC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D4C97A7-3679-4B1C-8F97-D1D53F99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618986-B815-40B2-9602-E778843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4E78DC-8383-4BCF-B42C-4100F7A8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7E843D2-D7D6-42B0-8D9D-2343490D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F92856-694C-41E5-B063-D732AAC5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5DD2DC-D7FE-4B2B-9A99-1EC2A37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3BE81-A08F-4C90-BDA3-A4BB5CA59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55B529-0C61-47FE-A7F1-2791FE0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60DCD1-259B-4AC2-98A6-1F17C775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627138-FA02-4A81-AE26-97DC6926D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55FDF2-63C2-41FA-A8C2-99146FFE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839F40-AA1B-41B5-A641-17345CF0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844424-5579-4E9F-BC1C-3B64E220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5AA141-1716-4AF7-96CC-6848D401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670BEC2-117F-48F3-83D4-2DF28B56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2125AC-588F-407E-AEDD-04D16472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FF987B-EE31-4A03-9C16-CB87DAB4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1E19-4697-4DB7-BC3D-4D10D013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DE0E4-B06B-4755-95A7-629118EE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E197D4C-6DD4-43F8-B2BB-ADA517D3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A84FCB1-3986-4810-88A7-96DBBBD9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C78331-E80E-46D1-ABCB-60A7774A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F0BFCC9-ECDF-4278-9F93-EF005E3B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8B4F82-0C7B-4454-B891-1346C3C0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82A88C-5320-4C8B-882F-9D3E4B33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7712929-9A7E-4842-B3DB-E22AD6F1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4AC41A7-3682-4EF5-BDE7-60FB1873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C66E61-1972-4C87-A167-03D62A1A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E7C14D8-9BC8-4DFA-8842-20317C0C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C2F4-208C-4AC6-AC3B-4C0F322E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F213687-DE99-4360-9BE6-24478DE9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95BAA17-1464-4572-B000-AEFE9E18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127BA0-0BA9-4392-964E-1B9FBFF3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ACEFB25-506A-4689-8BE5-93984391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BD6924E-8CD0-409D-AD0E-2964F50B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2176FF3-4313-412B-B426-E4F05C83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7C91867-EB3D-4B5D-8D41-AA9621D3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D10CA4E-0C33-48F8-95A1-A416917C4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65438BC-A3E9-416A-8E66-D8941381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4BC19B3-D338-4CAE-BAAE-EB5B56F0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49CDA-8F61-4FE0-B8B3-B92242D8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18C5C0-51AF-4C0D-91F9-60E40932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4D7BDB9-07AA-4432-B3AA-9CB342BC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72C9EC4-2857-41BA-87DE-90788BC9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10D9A9F-D14E-460D-B8D8-BD731759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C18885-4B54-47CF-AF72-06719AC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36D3DED-11D3-45F1-9133-EDFA20B8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055E00F-0BFE-4542-9CE8-F7DE79F0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AFF296B-08D7-45A4-A349-B8D3873D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F4F4999-32B0-43C2-A81B-D0A662CA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871569F-1811-47DE-B2DC-7C311001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30325-3992-41A1-A5B1-9BEEB209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65E633C-ABC5-4FA8-B2B9-0E2192E4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9A517D0-EC62-4141-81AE-11C7F351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ED776AC-3804-4650-97F4-3A6B4DB3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A5C12B6-A7CC-4555-A99E-67D0153D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98DA9C6-62A0-46EF-B7C7-AF9FE11F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ADE950D-71DC-4D02-B210-EADAEAFB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1A35011-C880-4782-B968-59738C86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AA7F9D1-E37B-4EFA-9FDC-9B64F88B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DC2E978-550A-4CDA-A786-DA51DFB8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629CB56-FEB0-4A4C-B334-1F7ADAFC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DCDF6-0B14-4B62-BABE-EB3F55B0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A77448-324D-4118-9E0F-06F099FC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C394BA2-B725-4162-B7B8-634F7FC2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2593560-2FA4-469F-B2D7-D5FAE794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20058D5-EDDD-4FBE-9D02-19CFB1DF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6143B3D-ED89-4E6A-B691-70025369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C803CC-2790-497F-8CCD-BBD9BA16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87BE099-4A43-4F01-8CB7-2A580847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61B4E7-8521-44AE-BDA1-FA3B6DEF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D0560E8-C20B-4C5F-AF74-EFE31F0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403EC5-0AEF-4F0D-9645-6CDCDEDD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2CB25-CE90-4CE6-9E25-59F4882A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9BCD83F-448A-4A4B-A7C4-B4BDC6FE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6AF7F4E-8A9E-4E21-B279-30AFAB46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FDDF9ED-8B8B-43D6-A9F1-3A749E05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0493433-9A32-49D2-8FDC-006E1E83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FE3B64-2623-4BE4-AE53-A89C3E4D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E1E33FE-101F-42A0-B1B5-0FC4AF63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2D6BA20-E708-4CA8-ABDA-7CC577F5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26BEA28-9E05-4746-AA1D-45B0CB09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FFAF4B-B7D1-4867-BF60-01E1DA38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6E0F519-FD88-4688-9A67-6A6740F5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45B17-878B-4594-B008-B04FCE8D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D980C8-8DA4-4573-9C60-52E12D73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0156FBB-0701-4D34-8122-01CF4230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326E17-BF0C-4A7C-8284-1746E337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2DF82C5-1F30-48AF-8454-11788B22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863BAF0-7AF0-4C52-B618-BC20BD05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A104CF9-0535-45E4-988D-28E2198C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56EA53-96D9-4CD1-B7CC-AEE9149D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CD6E72-FF9A-4578-8510-F61AE131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4275647-4698-4577-AE06-E20C88BE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179745-1DDB-4805-90C5-079E7CC4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B63A-040C-41BE-BD74-4C55C30B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6401A8-404A-4C01-98DB-6AF4B369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582AAC-49C5-4015-8AF6-CEFDC5F0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41571B0-FD60-4528-AAA1-806E01AF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7A82DD-DB13-44AD-BE45-AE5FD19C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286117-D512-4221-818A-5C809A43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A3D40F-C874-4F66-B2B5-6D21E833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192A95-839F-4D19-922B-D6264F645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1DB631-BBB7-437E-82BD-5AC23FA6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8CADBAE-4145-418E-AC07-65FCF2F6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192E263-C174-4513-86A2-E308A9AD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BFFA-2F20-43C5-8F72-B1C94128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A8BDC2C-A774-4126-8613-7D49EE83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5477BF6-3097-4536-847D-678E9675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B3CB6FC-07DC-4A28-9515-1CFDBE25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2D1359B-EA7F-4103-9C43-18E7C65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A877D3-3C61-4B9E-8336-6C56F75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E435A05-09DD-463E-BBAA-CA1E1C7D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E540A49-D31F-4E5D-A270-6CC03516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C0F93DF-CA3F-468F-A5A8-8EF7575E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F4F0D48-ED9D-4F57-A804-7482B8F8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14086C0-5391-4010-B513-D9E2EBDE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9D67B-3BED-40D2-A4C3-A4A7C548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0A07179-0218-44EC-BD4E-4F741256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54BDA9A-46BD-4E7A-95F0-F5E3F9A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A1B9B69-022D-4398-9B14-5F595219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A642D06-8E01-45A8-B744-BBF8E8F4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F854A1E-092E-4148-8FFC-F16372AC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3FF7AEA-AD05-415A-B3B4-7E59373E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9C30A10-EB25-4D73-A78A-B835D55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B0E497F-7024-4F76-95C5-5A82A538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F34C84F-8DF5-475F-B5BF-0B0932D7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46748BE-A400-4D1B-9788-A74774AF7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BC0-77C6-493E-BCFC-0D31284B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1A267-6A81-46A2-AB95-8DF62B2B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C58D523-9336-4445-BCCE-1F3EDE2F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49C11E2-CC2C-41E3-93B9-4CB24DB76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CDFEAFA-5552-492E-AA3F-F8C912A7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AD07198-4AFD-426E-8071-2178FF7F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C5D8B12-4ADB-4A16-B531-34D458B7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719FD9E-8EE7-448B-AFF6-62D3E53B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7718216-8C23-4D09-8C49-119FE2F4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FF10BFD-BB05-4B3A-9087-0CC47A67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7DFF065-906E-4408-B020-271B64CF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7F67C96-C00E-481A-BE09-A9F37423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9038C-A8D4-4B15-A385-195A03B5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0138E60-6CC0-40EC-8703-C357A0AC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67B1D5A-3AA0-46F0-80AF-508F93AF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C68A3D5-860F-4A55-A439-D7C6F7AD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AEA9052-48B1-4BFD-920C-90D57DF8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46DCCF9-0019-4030-A538-A9530DF9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206C0D-DF4D-480D-9FB2-E8E5DA0F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63F737A-4975-4895-8308-0ADA7B52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9B4AF33-F35C-4010-905E-816B9AE4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FB26B2-86AC-424F-825A-C3AA3918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A799B64-AF5E-4157-B754-8400D6B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3B09F-7A51-4948-8357-05725328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94317B5-C6DB-45BC-8702-258E92B9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AFF49E5-828B-4FD8-8363-11AC3DE7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BF79F47-22BE-484A-88AB-E6BE91D6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4B19C3B-E9B4-43D7-9522-40EB880CE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EF036D7-F23F-4DE5-A513-151160F0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84B4212-379C-4449-8818-231A1803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AC5D06D-5762-46BF-8F61-47211656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B1914ED-DEBB-4DAE-B231-4F4FBECA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AF9B3F6-82EE-49FB-BC6E-C86A4892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4270ACD-AE92-451A-95C7-8B72641A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25E00-9A51-4D61-9B6A-10EF9D36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9BA416D-4F4C-4FA1-AD48-439A6AD9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C49B607-45C6-459D-BDE9-671CC0A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8DC646E-AC64-45E1-8550-C3AF46FA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0021367-D0F8-48E7-B84E-DBA45ECA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4E4BC1F-3E21-4D6A-98D5-E3BC8401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F344B56-D563-41EC-86EE-445ECA65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58EDE8-4062-4640-AF4A-0F2BA0E9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289C096-4615-47B0-A48F-19465129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868F263-8629-42D2-944A-221C80DE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E44CC78-2DDA-4909-A137-A3ADC323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6A563-ACDB-49F2-96BC-D52DD565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10AB3C5-2C74-4D6D-B8B1-70FDB1B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3E289CE-D63A-499C-89B0-CA5AF977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4151CF9-60B4-43E6-A4FB-2616C328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5FD7B21-84C1-4D3F-8004-D5232990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E04AE2E-5C69-46ED-9B31-0B4595C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FDF5279-2668-4E7D-8C5B-BAD95B39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28BB0F1-4D15-44ED-B7C7-5791CF54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A26C9DC-66ED-4A55-AA33-078BB650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5DBA1E6-2514-4FE3-ADC1-DE77D8BC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F8446ED-4AA9-43B2-88E9-169AC8AC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38033-95A3-4182-95A7-4AC0F2D3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4B1E85-ABAF-412A-9800-9B4E53A8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B1D7FB0-0489-4FC1-A79B-08F831BF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0CF083B-B453-4E63-8DBF-5C44C2DC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98CE69F-2B5C-4DC3-9CBC-8459C1DC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B12C161-0848-4082-AD11-16233882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E68B1C5-CDC2-4B87-A106-84544329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E2F6FD-49BD-4379-ADF2-B55355A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959DAD5-51DF-45F2-8972-FD80FD9E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5573FDA-A1B4-43CB-9E23-EBAA8063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08483D7-4E84-4B84-A059-3085A49A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17F05-0D03-40F2-B52E-E5AA1D4C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A69875C-2F80-4EB7-9B4C-DE768904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A1F9EE2-6D59-4ABB-9B9A-5667209C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481760F-B51C-4B76-B309-916800E6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92AF6E9-2907-4C5F-BC9A-3919E77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0A08A1-DD3B-4F87-93AD-F7D1B482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9F96B6B-3772-4759-B92C-DE44E3B7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5199D5E-E06F-4872-BD39-D92DA6AC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5F4E316-913B-4271-A081-BC101C65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F103D08-BFED-4EA9-A2D1-1EB134DB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A84F6DC-AA8C-4F79-BDAE-96E6FB45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5EDAF-B3F2-4814-8002-F8B3EBFB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74D5CC3-5145-447F-B08D-45E2CB3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EC8B62F-B4C6-4FD3-BEBC-86E3DBB30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7DECF02-B516-4630-A83C-579A22F1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5ABC4E2-AA6C-429B-9B45-8F945076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BBB84E7-B97D-4027-9B2A-7302B57D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0804EC2-94E3-4DFF-88C8-9BA5CA68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FF7714D-2A4C-4599-BA63-DDBA5580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240C38A-80D9-4ABD-BDB4-AAA008CF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8A0444A-DC9F-4949-89EA-8687B0C0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82A857A-ED7D-436F-8FCC-596DB399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D5727-6AA3-42F4-8B35-A395F8A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9B276683-5205-4D94-B7B5-C13E941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A4D2009-CF01-4D9E-BF4D-51907C14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8973DC1-4FDB-47DA-B83B-3AE55E45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04498CA-6654-4DEB-824E-BFD209B7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528DB0F-DEC3-420A-9534-919B25407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4EF6D-687A-4E40-ADBD-D6EA3FB3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1BE-7ECC-48C6-9078-0D4CE11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6EA8E-32B2-47F6-B945-365A6D32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62F58-30B7-496D-9706-919DC81F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6F7B3-0ED3-45AF-823F-15CC33FE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A6AF10-C4F3-4B12-A9C0-7E856922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E9A92-AC04-4974-9285-D24C45CD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52570-ADB8-474D-A9E3-7BD5A209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6E9EF-22E1-4279-8386-AD2D4D4C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0417F-CB88-4BFE-9BB6-E2C780ED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103249-F497-4BED-8863-943171D4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BFAE1-AF22-449B-B203-DBC28DE4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D68-C295-47E2-887D-9159B566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E244DD-8865-4C0B-AF36-43939B76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BBE219-1154-43E6-BFD6-31E4193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F84F7C-062B-4AA4-AB25-D13122F1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B0080-6C42-40A0-8EAD-996B0AE9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C2D566-B215-4AC4-8ACF-23F061BB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F8BC2-EE63-4ACC-A4CA-C0D6A337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FDF91-40D9-42AB-82A2-154D6C45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112E6-547F-4945-A07D-86559A27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2E24E-1704-4C3D-932C-F5B9FB4B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6D482-5A22-4E53-BEDD-FF8C08A1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3F43-A9AF-44B4-A0D5-E2C6EE65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C1E4-9E9F-4F0E-A881-0D731E7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916C1-4BC4-4C7E-9DDB-80E6689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8B03D-94D1-409B-B952-B48EF012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60622-0D39-46BC-8F71-2C9A934C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3F96E-89F7-4D0B-9843-DD6E34E7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1DCFE-CED3-4690-AE41-9973C8AB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67B83-9EF2-4CAE-8B3B-8B062F0B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67096-EBCD-495D-89CD-6EA728DF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0CAD7-A412-4A13-B624-5A981846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84BE9-492F-4D95-8DB8-6456CD2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18E1-BF62-4048-A9C7-0C3828F200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8311-E99D-4A13-AB94-E8522E673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53DE-0652-4C75-8BE5-2AD582DD755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8F14-3FB7-4AD7-BCAB-00816A2D5D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11AA-5723-4F2F-9435-FD40B45DA4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F1C4-D5DF-40AB-84DE-9980BA95AA9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8FF-95F6-4D96-B702-56E0AD2568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E487-3FD9-4831-8BC7-5BB5078BE2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AD3E-9D3B-4EB0-B4D0-02CAF3A4326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258D-9C15-488F-A17F-80DD20817E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F6A9-A039-4013-B4A7-46798FD9101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1E1B-8DF3-4EB5-8820-B2CCCAFAAC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0FA0-F04E-4BDC-920A-5D148E08CB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37BD-01CD-409E-855D-4C9A88C659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47FB-F7CA-418C-B47B-DFD84F477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1A32-9A76-486C-A484-999B81E98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3A11-8239-41CA-AF8F-72E1FEF9D3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6366-95B9-4E0D-AA57-45CBE3FFB9B9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426F-3E7C-414B-A8F5-AF82B39A99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3AF6-4D18-4D95-842B-6B5C28E25A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458B-4909-48B2-8A0D-3993BBF520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E729-3515-4DE0-9A5F-BBC5872155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A2EB-D64D-4AF6-B532-F82A405E76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B632-6287-4738-9F15-6A2656E5E6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AAA6-D177-4334-B8B0-7A5B82B9E7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9305-2722-4CBC-9CE0-72D2C05EF0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661-7EE6-4961-93A0-B93E05535B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7848-5C45-4175-8C87-9D5821B29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F28F-0730-4669-8F0E-E60558A647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8FC0-4B72-4B25-AA25-5A15AB2BB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80A9-D2E8-402F-933A-98240F65BE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9A92-3EDC-437A-B9EA-145A214AA1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B308-3A8D-4C91-9000-BB67193EA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A107-F55B-47A7-98C2-C03DDF2925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11F0-3E47-4381-9322-18EF8229DF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8884-19A3-4639-828B-3D539E8D80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9431-248E-4068-89E0-57FBDF01305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F3C0-DCB9-4596-BBD3-13D8167E34E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96A6-5E76-490D-BC2D-1C7B1258AA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BD6D-0596-438B-B160-F2B438156A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D7B3-04C7-4D01-8636-442141FD5D9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E609-01B8-4DE7-A678-275B6662E6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453B-AD47-471C-875A-3C82B12316D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7A58-B627-4603-BA44-9C2CA66CC6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4A4E-03CA-4158-A41B-AAB41E35C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65E-204F-4A9F-864D-F530348F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F7E-F4A4-4BC8-BE7D-BA231E758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67C9-B74A-4A62-9C39-EA6E6F517F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67C-44DC-42EC-A6D5-83D4C2C3B91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4FF0-F840-45B1-907A-674D26D7A5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77D7-455D-472B-BB98-9276247A3D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53AB-B5AF-4609-9069-A0381D2251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558F-538E-412E-B639-EB3BD7ABB4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26EB-7097-4369-86BA-1C06CDF273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F3DE-EE84-4F05-A9EA-0658A856A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CC37-F4EB-4AC8-BCE8-E4E6E8E754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E479-7841-4445-B49B-EAE8963529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4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5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1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6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7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3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3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8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1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2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1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3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5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8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99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0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3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4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5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7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0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1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5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2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3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4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9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5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6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7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3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34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5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RomaK</cp:lastModifiedBy>
  <dcterms:modified xsi:type="dcterms:W3CDTF">2015-09-04T09:32:36Z</dcterms:modified>
  <cp:revision>7</cp:revision>
  <dc:subject/>
  <dc:title>Presidents of the Phillipines</dc:title>
</cp:coreProperties>
</file>