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</p:sldMasterIdLst>
  <p:notesMasterIdLst>
    <p:notesMasterId r:id="rId59"/>
  </p:notesMasterIdLst>
  <p:sldIdLst>
    <p:sldId id="256" r:id="rId60"/>
    <p:sldId id="257" r:id="rId61"/>
    <p:sldId id="258" r:id="rId62"/>
    <p:sldId id="259" r:id="rId63"/>
    <p:sldId id="260" r:id="rId64"/>
    <p:sldId id="261" r:id="rId65"/>
    <p:sldId id="262" r:id="rId66"/>
    <p:sldId id="263" r:id="rId67"/>
    <p:sldId id="264" r:id="rId68"/>
    <p:sldId id="265" r:id="rId69"/>
    <p:sldId id="266" r:id="rId70"/>
    <p:sldId id="267" r:id="rId71"/>
    <p:sldId id="268" r:id="rId72"/>
    <p:sldId id="269" r:id="rId73"/>
    <p:sldId id="270" r:id="rId74"/>
    <p:sldId id="271" r:id="rId75"/>
    <p:sldId id="272" r:id="rId76"/>
    <p:sldId id="273" r:id="rId77"/>
    <p:sldId id="274" r:id="rId78"/>
    <p:sldId id="275" r:id="rId79"/>
    <p:sldId id="276" r:id="rId80"/>
    <p:sldId id="277" r:id="rId81"/>
    <p:sldId id="278" r:id="rId82"/>
    <p:sldId id="279" r:id="rId83"/>
    <p:sldId id="280" r:id="rId84"/>
    <p:sldId id="281" r:id="rId85"/>
    <p:sldId id="282" r:id="rId86"/>
    <p:sldId id="283" r:id="rId87"/>
    <p:sldId id="284" r:id="rId88"/>
    <p:sldId id="285" r:id="rId89"/>
    <p:sldId id="286" r:id="rId90"/>
    <p:sldId id="287" r:id="rId91"/>
    <p:sldId id="288" r:id="rId92"/>
    <p:sldId id="289" r:id="rId93"/>
    <p:sldId id="290" r:id="rId94"/>
    <p:sldId id="291" r:id="rId95"/>
    <p:sldId id="292" r:id="rId96"/>
    <p:sldId id="293" r:id="rId97"/>
    <p:sldId id="294" r:id="rId98"/>
    <p:sldId id="295" r:id="rId99"/>
    <p:sldId id="296" r:id="rId100"/>
    <p:sldId id="297" r:id="rId101"/>
    <p:sldId id="298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notesMaster" Target="notesMasters/notesMaster1.xml"/><Relationship Id="rId60" Type="http://schemas.openxmlformats.org/officeDocument/2006/relationships/slide" Target="slides/slide1.xml"/><Relationship Id="rId61" Type="http://schemas.openxmlformats.org/officeDocument/2006/relationships/slide" Target="slides/slide2.xml"/><Relationship Id="rId62" Type="http://schemas.openxmlformats.org/officeDocument/2006/relationships/slide" Target="slides/slide3.xml"/><Relationship Id="rId63" Type="http://schemas.openxmlformats.org/officeDocument/2006/relationships/slide" Target="slides/slide4.xml"/><Relationship Id="rId64" Type="http://schemas.openxmlformats.org/officeDocument/2006/relationships/slide" Target="slides/slide5.xml"/><Relationship Id="rId65" Type="http://schemas.openxmlformats.org/officeDocument/2006/relationships/slide" Target="slides/slide6.xml"/><Relationship Id="rId66" Type="http://schemas.openxmlformats.org/officeDocument/2006/relationships/slide" Target="slides/slide7.xml"/><Relationship Id="rId67" Type="http://schemas.openxmlformats.org/officeDocument/2006/relationships/slide" Target="slides/slide8.xml"/><Relationship Id="rId68" Type="http://schemas.openxmlformats.org/officeDocument/2006/relationships/slide" Target="slides/slide9.xml"/><Relationship Id="rId69" Type="http://schemas.openxmlformats.org/officeDocument/2006/relationships/slide" Target="slides/slide10.xml"/><Relationship Id="rId70" Type="http://schemas.openxmlformats.org/officeDocument/2006/relationships/slide" Target="slides/slide11.xml"/><Relationship Id="rId71" Type="http://schemas.openxmlformats.org/officeDocument/2006/relationships/slide" Target="slides/slide12.xml"/><Relationship Id="rId72" Type="http://schemas.openxmlformats.org/officeDocument/2006/relationships/slide" Target="slides/slide13.xml"/><Relationship Id="rId73" Type="http://schemas.openxmlformats.org/officeDocument/2006/relationships/slide" Target="slides/slide14.xml"/><Relationship Id="rId74" Type="http://schemas.openxmlformats.org/officeDocument/2006/relationships/slide" Target="slides/slide15.xml"/><Relationship Id="rId75" Type="http://schemas.openxmlformats.org/officeDocument/2006/relationships/slide" Target="slides/slide16.xml"/><Relationship Id="rId76" Type="http://schemas.openxmlformats.org/officeDocument/2006/relationships/slide" Target="slides/slide17.xml"/><Relationship Id="rId77" Type="http://schemas.openxmlformats.org/officeDocument/2006/relationships/slide" Target="slides/slide18.xml"/><Relationship Id="rId78" Type="http://schemas.openxmlformats.org/officeDocument/2006/relationships/slide" Target="slides/slide19.xml"/><Relationship Id="rId79" Type="http://schemas.openxmlformats.org/officeDocument/2006/relationships/slide" Target="slides/slide20.xml"/><Relationship Id="rId80" Type="http://schemas.openxmlformats.org/officeDocument/2006/relationships/slide" Target="slides/slide21.xml"/><Relationship Id="rId81" Type="http://schemas.openxmlformats.org/officeDocument/2006/relationships/slide" Target="slides/slide22.xml"/><Relationship Id="rId82" Type="http://schemas.openxmlformats.org/officeDocument/2006/relationships/slide" Target="slides/slide23.xml"/><Relationship Id="rId83" Type="http://schemas.openxmlformats.org/officeDocument/2006/relationships/slide" Target="slides/slide24.xml"/><Relationship Id="rId84" Type="http://schemas.openxmlformats.org/officeDocument/2006/relationships/slide" Target="slides/slide25.xml"/><Relationship Id="rId85" Type="http://schemas.openxmlformats.org/officeDocument/2006/relationships/slide" Target="slides/slide26.xml"/><Relationship Id="rId86" Type="http://schemas.openxmlformats.org/officeDocument/2006/relationships/slide" Target="slides/slide27.xml"/><Relationship Id="rId87" Type="http://schemas.openxmlformats.org/officeDocument/2006/relationships/slide" Target="slides/slide28.xml"/><Relationship Id="rId88" Type="http://schemas.openxmlformats.org/officeDocument/2006/relationships/slide" Target="slides/slide29.xml"/><Relationship Id="rId89" Type="http://schemas.openxmlformats.org/officeDocument/2006/relationships/slide" Target="slides/slide30.xml"/><Relationship Id="rId90" Type="http://schemas.openxmlformats.org/officeDocument/2006/relationships/slide" Target="slides/slide31.xml"/><Relationship Id="rId91" Type="http://schemas.openxmlformats.org/officeDocument/2006/relationships/slide" Target="slides/slide32.xml"/><Relationship Id="rId92" Type="http://schemas.openxmlformats.org/officeDocument/2006/relationships/slide" Target="slides/slide33.xml"/><Relationship Id="rId93" Type="http://schemas.openxmlformats.org/officeDocument/2006/relationships/slide" Target="slides/slide34.xml"/><Relationship Id="rId94" Type="http://schemas.openxmlformats.org/officeDocument/2006/relationships/slide" Target="slides/slide35.xml"/><Relationship Id="rId95" Type="http://schemas.openxmlformats.org/officeDocument/2006/relationships/slide" Target="slides/slide36.xml"/><Relationship Id="rId96" Type="http://schemas.openxmlformats.org/officeDocument/2006/relationships/slide" Target="slides/slide37.xml"/><Relationship Id="rId97" Type="http://schemas.openxmlformats.org/officeDocument/2006/relationships/slide" Target="slides/slide38.xml"/><Relationship Id="rId98" Type="http://schemas.openxmlformats.org/officeDocument/2006/relationships/slide" Target="slides/slide39.xml"/><Relationship Id="rId99" Type="http://schemas.openxmlformats.org/officeDocument/2006/relationships/slide" Target="slides/slide40.xml"/><Relationship Id="rId100" Type="http://schemas.openxmlformats.org/officeDocument/2006/relationships/slide" Target="slides/slide41.xml"/><Relationship Id="rId101" Type="http://schemas.openxmlformats.org/officeDocument/2006/relationships/slide" Target="slides/slide42.xml"/><Relationship Id="rId102" Type="http://schemas.openxmlformats.org/officeDocument/2006/relationships/slide" Target="slides/slide43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 type="dt" idx="17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 type="ftr" idx="17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6"/>
          <p:cNvSpPr>
            <a:spLocks noGrp="1"/>
          </p:cNvSpPr>
          <p:nvPr>
            <p:ph type="sldNum" idx="17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FE0A-EF10-4539-A634-855829843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C39C-C69B-4F17-9410-CD0D847E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7B4C-6AF2-4B40-BAEA-63A4588D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944E5-44B5-48CB-AB61-CADC8BBE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DF0C4-7881-4620-B097-2BF3246E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2D2A9-20FA-4384-B14C-81B6667F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EB561-F154-46EE-AA84-013D701A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9F71C-38AD-4DAA-B6BA-C4ADBD97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3FCD5-39EF-41E1-939F-30060C21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526DB-61A9-4AC5-BC50-2C13E67A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17F56-D914-42BB-8EED-E7DDC380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9FCF6-F093-46F0-9B24-85BD75EB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21392-A687-4435-B557-69FAB9BE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44D6-6BBF-4135-95D3-F5DC2F49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CE011-87AF-452B-9499-246FAF69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7D2AA-22C3-4E61-95F4-46368B43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F8534-0009-45DB-BB04-8AB6EEE3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28C70-AF5D-44FB-A8CA-0DC5AE12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40A0E-9852-4F56-8F96-94A897F4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FE6FE-7B8A-4362-816F-12B1604D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94064-1CDD-4052-A49E-B873689E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0558A-61A4-4A9A-BC4C-C4EC5467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91ADC-2A90-493F-8DEB-AED16023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E2503-59CC-40B1-BBC0-9ABA84F5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3DCB-845F-4A65-8236-314C9779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DFC0C-7584-441B-9B4D-47732595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0FCB7-94D3-4CFF-842C-BAF6AAA0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91FA1-2CB5-4B49-AB89-D6D55265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9E79B-33D0-4940-9C4E-74586A58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116D1-BC02-4ED3-8326-B45E7E64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AA8CA-D238-4976-88D0-5CF782B3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3EBB4-FEB7-4B72-BE95-73F01615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24582-D152-46BB-8E22-849052CA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39AFC-ED04-4DFD-8B9A-8AE1A510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CADF1-25CC-4DE3-9D31-B8E7F3D3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DC17-49E9-4E8C-BA23-4EC882FD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7052D-90B4-40CF-8001-AAAF03D0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D4813-2C4C-420F-BA46-AB2DC418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EBEC4-92F5-4856-8723-2450C7F8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BB883-5119-47F3-8E15-BE06B882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5A188-AC32-44DA-97A0-B3D7CEB5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B4FE3-42A0-4A4D-9765-1BD5689D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EEB7D-526D-4FA6-BB4F-4B4A798A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57AB3-9D2B-4318-925C-60B1C72A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BB2D9-2DC1-44A2-A40A-ABE49C49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5356A8-7A61-43A3-A3B7-DC3AAA41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CE71-ABF1-460A-B755-8B0E7209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EB65F-731F-4C90-9266-4F16F8C7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B36D5-8C95-48C2-84A4-7A4A7340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52BBE-7415-423B-85A9-E529A3D0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D3057-E725-4D4E-BD82-71899F4E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18C0F-EFFA-4531-B386-FDCBBCDE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9CF1E7-66A1-4BEF-9C76-5037DBD6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4B894D-F9E5-4391-845C-63BA3CE2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F4C7C7-B426-4E65-B200-61703D0C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F15C4D-E2EB-4300-B352-95182EFC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92B08F-2E04-4137-B260-2EF5D8A9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E0F6-75E0-46A6-9151-8E88E8AE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9B44D1-127A-479A-A468-BC87A964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7B6D24-8633-431B-A7A6-99BB14F7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2E7F08-7245-43BE-963A-272A9E3A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36477B-9C2E-4917-A22F-2257E23C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B58A31-C758-4397-AD73-03D463F3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22D339-F816-4797-B22C-DE5D1812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D51F05-7AD1-44AA-8336-71AA899F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83A765-1B64-48A9-AD3E-040214FD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B5DB08-0989-4BD4-B75C-200445D4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D7052A-1EDC-470F-81A3-25FF572E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F02B-5123-4EE8-AC55-77FC2A9F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B9F2DA-2BEF-4B8C-A42D-B7F5467A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917C1E-288F-494A-B95E-BE45ADE7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21FE2D-1303-4430-B1B4-F14ABD2C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4A4D29-E1D1-45AB-99A9-F97EC7AF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BADB64-54B8-409C-95B8-1978C521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F54126-8468-4979-A4D1-B52C2739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4783F4-9783-492A-8593-7702AA79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5BEDCD-7869-4503-8803-5A48D20A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E4C3AE-19E2-4A10-81B0-32E78EB8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D63087-5B4B-4202-8F9A-B03A3E2E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7449-E572-4355-B5D8-5742BECA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F0D4EF-F7C8-4E0F-8B75-DE0B5B78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B2BF07-F4FC-4B8C-AD02-62FAB26E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FC4ED3-6E65-4BDA-9ACE-FCD9A573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669152-9010-4EA1-B5E1-9DC05A3A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95E14B-BFC8-4042-BACD-999BD44E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E7491A-3013-48F3-8D53-A9200248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4FC577-6665-4EEB-AF80-869ECC85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38170A-83BB-4DCF-AA0B-8A53601D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35EA4F-AE30-4737-B47D-F49C1E83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7E71DC-CB55-4FB7-80D2-28D69EC0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E8BA-A103-40B0-BFBF-9E7A9D23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F97CE6-9DC5-49B3-A295-1C07D44A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69707E-CBD8-42F4-8277-C66FC0C0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53D86E-8138-4867-9A2B-0E09BA98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ED2FB4-2664-4A98-9215-A8265993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9CD883-4983-4DE2-8619-7F599483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36EF90-96DB-4370-B4D7-ECFF40C6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D2558A-291B-46B0-9BB9-7BC26B60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2C09FD-2860-4583-AD22-42E99227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DBD48B-7069-4E8A-84C9-C185AA3D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8114E5-DFF0-4EB3-9EC2-0BC39C5B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CAAE-26F0-4199-8EE5-484811A6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059AEA-1B1F-4AE7-BEA8-3B4ACBC8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B3AAE7-FD5E-41B9-869A-ABC8D3B2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9B0D4C-BB24-48DF-A67B-27DB026D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BE34CD-7B33-49B7-B380-0CD15726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5C7D15-1104-46F0-936E-1DA34261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A0313B-8D9D-4AC7-A6CA-193027C2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706248-3C3E-4E3D-98CF-27DFBA21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2C9A8F-8328-4517-BF34-18AFDA4F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AEA5D0-E532-466F-9030-88A5D72B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F4BE9E-605E-489D-B3AB-0629AF46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81E3-38A6-403D-845C-12748799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94FB-8495-42BB-85C1-57E0AC71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224E79-F4A7-43DB-AC7B-24AF5795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6FCD63-274D-40E7-818B-E292E1CD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7F3206-DEAA-4D3D-8BA2-0ABBE8D1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9567FF-2757-433C-8EC2-0FC04E75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05F657-8260-4964-8EA0-5A10F044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F2889C-07ED-42E2-B68A-5EB6F424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78E0E8-A36A-48CC-ADDF-E756C5A4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A37919-C1D9-4C75-A6B7-79CD58E3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2DE3D8-7B16-4D7F-BB34-F6C885A4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7F1849-0EFA-4D53-812E-EEEFC547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D010-8F21-4B07-AD8E-B4EAC975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B49DEA-A78D-4A8A-9711-9B561167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59F4AB-DB89-420B-AA93-764E6CEC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8FE5FD-5060-429C-861F-C2C6BF6F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829FE8-3BBF-4BE1-9C81-038BE728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27FA55-CCA4-44FE-BA52-F851CE97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B2A3CB-2C43-43F2-BBBB-FEB4414A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95601F-BCF4-4685-AB87-B96D2448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D0B478-B4F1-4A40-B950-858005D7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34788A-8CB1-432E-8288-4CC000F0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FCC504-81C8-46C9-9981-F5021DD6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38C5-2E1E-4615-AE49-9DBBE53D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B76C6F-2F59-44D3-8CD3-21B4C7EC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E6C873-1143-4F83-8295-65B1CB35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7B6F74-84CB-4392-B246-DD8C4A20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976AB1-7C85-4BAB-B2D5-0AC0322D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D5445E-7EB7-4219-AB41-B8B97EEA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EE6FED-35D7-4AD6-B454-383C2AFE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BD1D43-92A9-4EC2-9E51-2BBCCA34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CD6749-709F-4244-A750-65D11405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3816FB-F7CD-4915-9540-7E7C44A8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1F58C5-63DF-4060-B4A4-675B48D7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A2C7-DCF8-417A-9CAB-58C938E5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CB2D1F-B9D8-40C8-A1D5-E5F29F17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1691D1-E883-4AA7-B769-E046B2F9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96F550-6140-4488-A055-F8974CDB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A9DAD7-D3E6-44D5-9A5A-DD66C60C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0E5F0E-2771-4460-8EA2-498820A2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E9C320-ADB0-451A-AC0B-AC0389CD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8672B9-F30B-4805-AAFB-019E4FF2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566C8C-9477-44B2-B32E-430C4B9C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19A05A-6AE3-4203-A3D6-84FB85BD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81717A-B723-479E-8017-15F3DB4C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AC75-C689-4CF5-BC36-98B63948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4D681E-63F7-40C6-B9C0-E4F0B9BB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DA7C3E-1981-4ED3-912A-B0F8C693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BC4DA9-8B46-4680-93B4-74D9FFBE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D330F7-F42F-47C1-8930-5B0A039E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356CB8-2EA8-4BE8-8790-CF9BD099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013DB0-8349-4EF4-84CA-4537E8A4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C15D17-1D6A-40FF-81B3-B296F675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B925C4-E269-4134-B9D3-5A93BFB1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122A79-804B-4315-B993-71E8F7CF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2E06A8-9A2B-4B71-9C10-FF362609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1AA7F-7C98-4C5A-A190-0A4B36AF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145ED5-9E98-4898-B440-642D4485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A3559D-A358-4337-877C-4B824F25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DFD030-37FB-44B4-910B-93043C44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D6768A-D301-44FF-BF1B-00203589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DE4C35-0D64-4C56-864B-46EF18D8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2424B4-2006-4A08-A59B-0B50F3EA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A8D887-E5D7-4D3A-B8B1-82F01F9B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D6B958-A3D3-4996-B08E-5FC77B97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7A5F54-FEED-4B07-9527-83B8BEB7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CACCD4-541A-4951-AFC1-34A6DD45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B25EB-8079-4AB4-9715-B77F2A52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1C89D8-B8FE-4697-A59A-9AE193DA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F0F8D5-9E0C-43F2-82B2-AD9D53D6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D8E2B0-F4DB-4070-A9F6-7C479AB6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6643F9-BC0C-4F93-B215-57DF9041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55D38A-0EDD-4923-8B5F-33DE38A3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259272-02C7-4F26-8C70-31F4E79B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166141-255F-45B6-B04C-BE3A2695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F22E78-99FA-45E4-A846-D05F6E8C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2A67DE-AB69-400C-B039-EA15D1C8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3E5786-9FF9-4DAE-9237-12AF1DAF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69C62-B012-445A-9DA9-B28ADBF3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8FED35-0DF3-42A7-BF98-49D18065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AD8E57-D8C2-4404-AC0B-BC016B28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3575F9-CFB6-4122-A02E-CB393955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DF9F21-181B-4DD7-AB96-8226FECA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C63790-6D34-4B14-9699-132D77AA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013B67-F190-4A2F-9F88-CF82CB16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8E79C3-7C61-42EE-9E0E-EC3FAFD1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3A2A36-41B8-44FD-8D8F-956E71E4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DC0408-4215-486A-A575-5BE00BC6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B0027A-99F3-48E5-86B7-0E161D29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9F4CD-CA2B-49D8-854D-961238F9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E3948F-C268-4B2B-817B-82B30154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E11D1D-2222-4BEB-B6FA-95CDE285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99C05A-12BF-4240-9A7D-C81C3C29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055CF8-0C55-4066-A9E9-31F813D3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5A36C2-A753-4AAD-B094-32EA1F76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7504C0-6E9D-4AA1-B41D-5AC7D31A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310A77-8701-4F93-ADA6-A0A468E4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92F594-C71D-47C7-8F64-02AF0A63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DA8110-0BBF-479D-8095-70970DB9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3AEB6D-D585-41ED-9FC7-21529AFB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9DC3A-EF1A-4944-B90D-8ED65EE3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A0EDC2-B917-434C-9247-E29A28B5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F4D518-B4A6-417A-8C76-744B1DD0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F63FB5-35D0-4BA1-86D8-95C7FD19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1CDC9F-A380-4B6A-8F96-F2DA29D9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204F4B-06D0-4256-AC0C-7DF4C52E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1B6C77-C58C-4233-9F8D-F31B5A1E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DF958B-189D-47A4-9B89-B1902EF1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BC2C5C-CE18-47DB-A545-A25C18F7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CE04E2-64DB-4CA9-A7BD-2C378CFC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4837E3-14F2-4A75-8577-CA3F1878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8AA4-2277-4914-B242-F5B5A9B1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151BB-EC21-44D9-8840-4A2C4C07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83C5F2-B84C-4C01-8446-BE4289EF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9020E3-85A7-4331-9FD0-6216E8AA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28D4BA-3F5E-4AD1-BBF9-D53F8A77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1CC1F9-8832-4EFE-B3B8-43840122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DC92DD-04B4-4653-B6B9-3162D828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384B55-A858-4E14-AE8C-C83B98E6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4B2740-EDB8-49DB-8306-FB5AA55C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39BA21-44BC-47A0-A956-AC4EA550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0369E4-5AF5-4D7C-9C04-CD9E7744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090576-5902-457B-AF6E-22FB58C3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D35CE-95B9-4B70-8F98-03E0320F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2B0901E-A576-4F0C-A31C-10B70A15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1765F3-5E6F-4FE7-8F97-5BFC2336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E7E3DA-337E-42AA-800C-2B9303BB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8E19CE-63FD-4777-ABA2-D09B4410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5D37D9-7EBF-494F-A7AA-62ABB090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440512-F0E2-424C-BFE2-1668D5F6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D34D71-7B99-4966-9D4E-92256012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E4692F-F49D-4FA0-85CE-7BCC5A89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A7C98E-4CB8-410E-A9C3-0A05B6A8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C5522A-E796-40A0-8E04-FF09EE80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1E4A7-2346-4D07-A536-D235F84F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6F2DB6-EE68-4FEF-B626-B65A636F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FDD80A-0547-4AD3-A54B-2B7BA7AB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742125-EEFF-4F21-A5DB-14D191FD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A0C8AC-0536-40B4-BF35-AEAB975C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EA04A7-B93C-4DF9-8C67-0DFAB22B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CC1601-F654-474B-8989-5D730EF4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567902-A528-4D04-A10D-9055CCDA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BF6AF2-41AB-4FD3-B045-3D25F280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9F92D4-D624-4A26-B6FD-4B56E268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85C941-0685-4785-A7DF-FC31C5C8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98929-5B6A-4F8A-BEC4-30ABEC1D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8EAB8A-79D8-459A-8FD8-6937E32C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3E00D5-A248-4894-A0E8-F6259FEC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553F33-110C-46A3-B13A-230A63AB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A85E01-3BBE-4CE4-BBC9-C9386C49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31A3B1-CB7E-4AB5-AE5A-D9CD0028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5CD241-BB38-4CAD-A38A-FCF6497E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2D2C4D-8C58-4994-8E8A-AA83AE82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E88CDC2-DEFC-40C5-BB08-FAB652CC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9635BF5-1D1B-4574-813E-2E5BDDFE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3309637-7492-4D95-B4CB-421BBE4E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2BA21-2205-4725-8930-E26FAD03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C9D31D6-2B6A-43A1-86C2-86B7AC27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02BE96A-6E04-42BA-8F8B-653A4FF9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980C239-2F6B-49DD-AA42-166635A0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7162AC0-B0F1-472A-B092-454BED9C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D579B3F-A104-4702-821D-C447DF26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9B8C711-46CF-44FB-B022-9FE8F2B6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CF0DD9B-3618-416D-B759-C02B4C5A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8244CCF-A9B4-44ED-879C-A90F3041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A4DCC55-645E-407D-92D7-26DFF611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B7E6E2-84E4-4CF9-BACC-E1C040BF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F3CBB-E121-4206-A8A8-FEBD9021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4CA95C9-3A79-4AFA-B72A-1672C3AB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89BA41-028E-421D-BF72-FE04903A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CEC0E9-C80E-4EB0-BCEA-0391128D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21321DB-FEA9-4CBA-B4B5-F0578357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DC8D76-FB3F-4D03-BA09-8C9B0584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F3D390-459A-41F6-885E-637CCB25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EAB4A5-3BE7-4E12-857F-287DC484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FB7857-0A2A-44A0-B4B7-94DFFDA0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6C449C-F856-4308-9A9C-E7473010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808C042-133B-4D9F-917C-725996E3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885DA-D473-450B-998C-5F041691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8072A3-0052-4F5D-B5B7-0E1A8438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248EC8-0069-4281-8768-E63B20DE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98E9580-0745-4F19-9BD0-BD332221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5689D5-BC0C-4C1D-9198-984C03B6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FF9AEF-6F83-4999-BF62-C867169A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D6A7CA-E597-460B-8C1D-A3605241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D68C373-F274-4A75-A881-156A68B5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B9249E-AF74-4089-A612-88807838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DEAA1B5-AF0A-4642-BDF9-89BA09E7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D2EB29D-AC50-4D02-8C8F-8CEA3699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DA8C8F-3EA6-4916-91C2-4DCA254F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E0CF0E-5DF1-42A3-AABE-F0583361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3715B5E-D0D4-46FC-A7CE-46F24DF4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E891C0E-861C-4830-AC18-C9C14377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E152BD7-586D-4097-AAD8-2C577A2A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F8A3275-710C-4A73-84E2-ADABFDEC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BBB37C3-1CB9-42F4-A166-2CD4616F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7374BB3-1ACD-43B6-A016-DA4BD619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5556E14-9481-4C07-8A63-BB4AE10F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CF1E3B-E67D-41CB-9B5C-7A04477D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2B9A12C-A054-41AA-AABA-81DC7421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D92A73-5304-481C-AFB9-21332311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455A18D-AB98-4DA6-8DFF-1911C776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A860B0A-5030-4C57-B732-DF95D50E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9475886-EFFA-438C-B204-C08CA44A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1C67B5-6DA5-4B5B-9F6C-F326B521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C585C1F-5F09-4130-BC2F-CEF9930C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A1C0C00-A4AE-4B83-A285-F49A5E80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A71FE60-88B2-419F-B53B-B6549E3F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F9EA223-67CA-415E-B253-12DAB534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6808DEF-96AF-4466-A0DA-747DBD45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E784E3E-DCAB-435F-991F-EF7BB272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B3167F-F392-4E62-ADAC-100A1989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3A9886-AD4A-422D-A9B3-43563E1F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67187E7-C788-48B4-86DD-80B0E4D3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853D9E2-F764-4275-B289-5C1712E4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CC9A89-972B-4DBB-BF62-D443172E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B5D7CD0-D093-4CC0-AE28-C77D0F77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0974EC8-62A3-46E5-842A-F87F3C42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15310FF-FBAA-4E73-8D51-092DBD0B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7F22DD4-7D20-415B-A69C-9D51B509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69DC76D-D3B3-4281-A174-DDCC5EC9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982B5DD-D0C3-424B-80D1-B2128897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0D15-E890-4114-BA31-E213636D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C142E0-F812-4627-B027-EA9EA457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02F69EE-692D-4DD1-A79C-DCDEF3F2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29E5D41-0D93-4261-B271-2D043261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6EF0DA0-DE83-4FEA-BBCE-E78ECEF9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8212FCC-F2C0-4107-9286-0EDDB977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CFB2366-F02B-4CF2-9B6F-B6C54EAE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112CD23-882A-48C0-B7C6-9929388B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CB07E21-ED9E-41D8-97A0-FAC6D849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F5087EA-1720-4207-89F2-0EC27D02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92FFA29-2A3A-4C67-8AC2-D38A8844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4121D83-7E9C-4114-ACF2-8D2B5AD7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8C0D0C-252D-41FC-AE77-F19075ED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07C5801-15EF-4D23-9C36-7BB5FE77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FB47905-0F5F-4B5C-96C0-8458A056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135F0C7-CDDE-4627-B059-26DCA41D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94E2F15-B4DC-4BA1-8FE2-DC735C84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BD2711A-9640-4C1F-B7EC-51B28D80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03EFC9C-6E01-47BE-BF31-FB9EE56C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EF3A2AB-964A-467D-BF6A-F8F8583A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65A9F2E-A469-4F4A-8436-B3C8453D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0FD3052-F2D8-4E3F-BE07-39DA7809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1DA1370-66FC-4CD7-B032-EEB3A384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8D0393-D01E-454C-8692-3265CA9B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1A123FF-9238-4DBB-B1D1-D5CB3957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B003473-F484-4F7A-93CF-15A45546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101D24D-DF08-4145-BA65-1204FF8D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77B0687-B2E2-4A70-82EA-D5E7CF56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C36E092-C43A-4369-8757-4556C7A0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166353A-C136-4C0F-B77B-18251634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A6A6127-A152-4B8B-AFED-BA9C00CB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84F1DAB-BCAE-414B-A585-412D1B49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7AEE5D9-2060-453A-ABD8-4919E45A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AF6D225-3DC5-44FC-ADEC-4EB112D0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74B5C7-A384-46A0-9579-FAC64768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D54E810-9DB0-4DE1-A430-C6B0D372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67CAFAE-000D-46D7-B518-FD5C9EE3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0D68DCA-C489-4EE7-8ABD-ABD7BBBD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59392B1-2270-4BE5-BA57-E0C55D42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9E4AC87-81A3-4800-AEC0-736B0253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F0F284D-012A-42AE-9D8F-36C5F029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4744BD7-44D8-46BE-BEA4-F1A72416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69C795D-4ABB-476E-991C-A2DB75BF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CF4BD62-0A8D-428F-8ED3-53A292C4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533690E-D139-4231-AA01-1A94B9F5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038F07-1259-47F6-AA35-A1F667B1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A306BE0-B065-4EE0-B18F-D203EA09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6788654-4C3C-4183-8404-3B1FEF09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EA7FDCC-FF8B-4DA4-9A52-002AAAA9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551E662-019F-403F-AA33-71936C441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92D4141-13B8-491A-A9FF-5997BA2C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2A5040F-BE52-4547-91D4-D21C9E12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C064E2B-333E-47E7-BCAD-BC002282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7A123E4-7501-4D61-86D5-BFCF46C4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1A3838A-0F57-4195-A769-4DE76B54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16107B2-6098-4156-9D9E-B8080EB2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144B8E-510C-47B3-A732-B2840639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3869119-26B1-4558-98CC-EF146A8B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C96456A-8BAB-4A04-8C82-A0570CFF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287801B-89C5-43A2-B41A-62E3C624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6391FE2-BD39-48F5-B8EC-DE12BDA9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A53A276-4C51-4228-87E0-95F6576D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F2A4AE6-EE00-4C5D-812A-2A7AD7DA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FD3088B-E886-44DC-8E5B-C3A32218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862967D-B82C-4311-83F2-10B9043E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434BC04-BAC4-42AA-8D94-A9200AAA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AAA194E-393F-4E27-904A-B1C1CD75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25A0A8-64EF-42A5-886A-9538DE8C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DB52049-B720-414B-9BAC-85C6195D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AC06074-AB66-4070-ABBD-AC3FB47D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992AEFB-8440-45D8-B60E-7AE6B3BF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0327FD2-D329-4543-857B-F35C2307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95EC750-EF23-40D0-A344-2406E3C4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349D1FB-8733-4E1D-9444-3880829B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EBBA4BC-9150-426F-BD14-50EB3C48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B9C3BFD-F60E-492E-955A-4F7C8716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81C4270-3512-4530-9CD1-DC6B327B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F5F4D4A-E31E-460B-89F8-9BFDD4F4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71946D-98B8-4A0C-8C30-F9F15CDB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0CBA97F-D26C-42AE-A3C1-3351197E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50B92A4-1698-4614-8181-D45840B7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EC2D6A6-1E1F-45C9-BF17-FD5B0B11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37EFD8D-CA18-4406-BA30-EEDCE77C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76A9C1E-E8F9-491D-B0B6-C59F452A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F057B94-D65D-4C14-9DC9-9F811537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9BB653F-B160-4590-B3CB-E7FC2B8D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EA4089F-4AFA-4B20-A9D8-A227FF05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B9A5273-453C-49E5-B686-832B5179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366243C-ACD3-4784-8592-BAE3B3A5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78B3C4-B4A2-44C4-AB5F-2A342945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F5D6B26-306D-412C-B306-BC90F24C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A656FC5-FFCC-4D62-94B6-6456EAB27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9CDFD95-9FE7-46F9-B74E-51929659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F3D4C41-3D26-4DBF-99E1-1654C201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4158F76-A162-4BC4-A142-35EA7155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4B139B0-6765-4D23-BDE6-947F9676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108B7C4-7159-4535-90F2-1CC54724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9DDEF29-ECAE-4C9F-B661-D1648906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41C9A53-96D9-4C0E-A0E2-7B07827A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911FBD8-DC9D-49C3-A2BB-9E356EC1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A30BF-F025-4B9E-B106-E8BCAEFA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1B1B9B4-9BBA-4E0F-828B-2DD3D713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E6D8A06-8CC4-4633-9C3C-094E32B5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050D15B-1A5D-4B5F-A2B3-58AD9A4A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41F3991-AA91-42B6-B9C1-E4A84EA3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F36EB5D-AA0F-4D0F-9209-2FE050B3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255EA1B-9895-4564-A0C5-EF3DC335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52E8262-E5A4-44B9-86A4-410C99A1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9E07C23-A886-48FC-91C6-25B98E94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C1E7406-0477-43AB-8B93-44FF1FCB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755E6B5-6EF2-43D5-A38A-6EA95C10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49BC-102B-4B99-888E-46248821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13670-F337-4304-8247-749C237A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EE4A408-EFA2-4280-832F-86C86F49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79225E1-67FB-428B-8D43-DECA50E1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B30C92B-7B7C-4B46-A295-09E233D5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5CEEDC0-5581-46FF-ABDF-F7689BEFD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4A3E411-A425-4227-8A4A-FDAF9342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D234354-0F08-44D7-ADC0-C80EA63D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1ED55CA-5CE6-4881-80B3-77DA8704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8705112-D669-4663-BC2D-CA356136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CC213DB-AEF6-4DE6-B9D9-AE390C9E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8355EA0-A9E2-416F-BA66-B860BA86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D14AC-BF33-4B0B-93C0-2544AD84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EA4C02E-5ADF-42E1-98D5-5E3FC593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1D90B73-5EBA-4A0F-BAAF-4575D2E1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220F329-DCFB-433F-949B-C30D3665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339EAB0-5BAF-46D4-B95A-325A13A0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5F4A0FB-9BEA-4D0A-8F21-1A24D892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2DE0349-E03C-4913-8F40-B101D042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2D664F1-FB82-4E76-B969-8A66E92C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E5EC2F7-874A-482D-9A98-1AEC2986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B529AB0-4566-49DD-8243-57694133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ADC8218-C2CC-4D77-99D4-484AF932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CBAF0-A201-48E4-BC74-DE6306A0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D7C695B-ED2F-4E82-837D-6F430A58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381C328-4CD1-41A4-8E21-8DF25966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664D946-F73E-420B-BB0F-CF6D4305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C3EAC39-6386-4BB1-8457-699AEAAC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E727548-BBEF-4A6D-B358-03BB878D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6241874-045A-428D-A997-D90999D9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EF2686B-4BE6-4CD1-A0FF-5B0FCFD6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63A8FAF-71EC-4C14-A894-2EFBD7BC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CE6ADB1-DBF8-4806-B0C3-8C4DD101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AC92F44-2731-41F3-AFF7-D52132C5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A5F3B-7F18-4CDA-B8FE-2DFE09E7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03D082E-AF26-42CE-B29C-8B33FD10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3D021A9-8483-42CC-B313-92AD420C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9C6809F-0F01-48A3-A6B1-F7390D97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B0B1926-3AC3-4DF8-8AAE-99D4C757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DF1CBF1-14FF-4629-9D0D-75E8363D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4189303-7090-4D47-B401-E1875BF2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B1C24B0-5F1A-4295-BAD4-6C683A53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0199332-F571-4FB0-8AB3-60B66EE6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CC0F0FE-5ABD-4C6D-A8EE-1E243C76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939B16C-36A1-459F-8503-860256F3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19607-953B-4B5F-B312-A5FA2585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CA975D7-69DD-414A-9F81-D4E40F84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314D084-68BD-47EF-A968-00C6B859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8FD4A89-4CE3-416A-A4E9-3978AB62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1DEC5F3-E15F-4119-9C2E-9485D654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E2932B8-F856-435A-BA40-CDC64F0B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17BC40C-1BA6-4818-9295-447644C3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E834758-888E-489E-8E98-2838FD94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7B8B5C0-EAF2-4407-AC3E-EA89EF56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3481A82-5714-4C3F-9363-23B88280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E9877E3-62E8-4DC9-91B8-0FB13631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2396A-EAA9-49F1-918C-2F3AA1D8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E7F6A85-70F0-46B9-8F2C-6F3EB975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D4F9266-63E9-44BF-87C6-240F0A08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49EB2C9-1777-4C10-912C-F3BDA66E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ADB3C9B-8B04-4A4B-98E7-DC10DB5D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4B74EE5-3FAF-47B5-A99C-8D0811E5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13AADA1-4587-4DD3-906F-3E760FA8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7247AC1-EF8E-420C-B23A-672E51F0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7A583C9-F7EA-4757-9232-72312EE4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2800D53-852D-4F13-B954-072F4AC4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8B96139-6E78-4BB6-9C3C-26CF5652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636C4-F696-4D44-BD05-E0AD61CC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135D6CF-0FC8-42C2-A642-A1F4F8BC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B36470A-817A-48BF-B4FC-1205BA31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7A99A19-4CEB-4FCE-BF9A-F6879324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EA54407-1565-4972-83DC-56932A64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80B5F9D-FAF5-4F2C-A59E-9897AD2B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5B728AD-8273-446E-B108-890AB5BC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897D11B-F927-4799-A427-E1D1F6A5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B563B97-2ABD-4200-9B52-5CCEEC98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A781A6D-829F-4D59-BDDC-00587329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982AFC1-CF4C-4CDE-89E3-EEEBB4B7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1057E-88C2-495E-8343-5F302118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801A104-1C77-4B27-8DE6-27AA1009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8D7B11D-49CD-477E-A19B-689E1065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423C3E6-244C-4CC0-8D67-87AE848E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C1154E1-CABF-4A21-B3ED-4D836289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211E904-2E92-467D-A756-A5B3DC52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E8AE70A-D238-4135-B963-DFEBEF94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384418A-B6DF-45F6-9495-8DCE276C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C6EB1CF-6390-4D6C-B0F4-2E97EF45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5D84044-59BE-4E74-814A-35B4BEF8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43340C4-1E65-4E66-871A-63D5D2AD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B2D51-364B-43A6-B1E3-3C7D0F94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E5E456E-06B7-4A63-B20B-A0ECD966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8B0A87C-35C5-46D3-B004-E9C12C2A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71AD344-C531-4DE7-A107-29B7D3B0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3A432C0-1B3E-4AC3-A62F-1AFB1AA8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DDCA905-B59B-460F-AD09-D857AD11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1CF48B8-C689-4F9E-B9C6-DD4DD80B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46FFF27-A949-42EC-A9CE-638CF968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71B30E9-A8E4-4C47-8EEF-40A6D7A9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C7291A9-70C5-415A-A93A-51E338BA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F05EAF5-AAF0-4CB5-AC1E-2D3E382D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648D7-9784-4AD2-B9E3-C4154ACC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317BD9B-48F9-4425-9299-A2A8A550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6ABA63A-EC0C-445F-B246-D0ADABBD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D197453-9C4F-4D8F-9874-041BC002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58BB491-8177-4E66-BE86-25497A54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8E618AB-BF44-4494-ADD5-F6CDE586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A1FCBB7-964C-4DA4-B592-56163971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1AFB85D-125D-4E57-9B3C-8164BCCE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6F28A3A-4510-49EC-9583-0C4C23F2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F0EEB29-865E-49C7-B7F2-2DD4880A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1587E99-814B-4624-AE38-4A70823BC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14D7-1381-463F-A0A3-469AFF00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D8E2B-FCFF-48DA-8311-0BC6D8C1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4AC371C-EC0F-44F5-BF16-05295EF1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6B5D3121-7A86-4533-9F89-085DDE83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997BFCE-5492-482B-9B74-E3AAD1AF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DFB7F05D-24D2-47A9-896A-23AAF5FD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5616B52-DB14-47D5-BB35-AF788B40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D1E2284E-EA57-4266-9865-46547927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4A8E24A-6AC8-462E-B48D-C0FA4A5D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0CEB4A2-8BA0-4595-AAD5-82C72D91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7D19465E-37BA-4AF5-B9FA-9E1D102B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9EB8594-4906-4547-809A-CE099EF6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9698B-4777-48C8-BB75-249C8F55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AFA86A3-502A-4B15-B5DE-3CDB83EA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89805C5-1F00-4B6C-B946-EFF67BDB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207EB958-EE99-432C-BD27-0FBCD265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8A3C5CA-0775-4050-8725-9FAEDCBC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D901D07-2AD8-4A0F-812B-F23FD493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A58370A-9A7D-4C87-AC5A-6BDFD613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E53B64A-A848-434E-BC2B-1690C278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CDDB582-08B2-4920-8FA1-42C6964D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E3CDF9A-AB59-482C-97B6-8086EC0F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EC23A13-66AF-449E-8795-7954D3A3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98C05-DFE4-4E77-AD4E-44CACD7C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AF843CB-C912-4E7A-9882-C54A6330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7B5F93B-9C85-4FDA-9661-D5D6E640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2CB9DE9-C79B-42A6-BD60-844FECB2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DECE2C6-CDB6-4549-9FC5-DAAAACBA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2AB410F-903D-490F-85F1-D383A75C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06C4A2E-BC63-4F5E-BC64-469F47E8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7986DA5-812C-4805-B46E-CF6DBFF3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B4F9EC2-15D6-4BF5-9065-C8DC6CD0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D8FF529-D765-40F0-BFCD-130E6E65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5B806F2-C85A-494F-BDA3-2064B4CC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3E60C-1C7D-4A03-9245-727377E8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317B1DA-FFDA-493B-975F-BCD79EA6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94B0E60-A01B-4E1E-A986-B5D020C2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B2EA72F-A0CD-4B02-8DDA-D776E4AE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7C7F253-826F-4812-BB17-818D42EF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702713F-5987-4A3D-8DC3-B6197F5C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67E8C69-529E-4051-B1D5-66ED2A72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3A04ED2-4308-4D6C-B6D6-720E02A1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3349EE5-F3D2-4C37-998A-AB48D766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03D4F2F-BC0A-493F-AA1D-7828BF1D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EB93FD7-88FA-4CD0-9103-C77C049A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8CAA9-B995-480F-91FA-62383017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04804B8-4856-4CE4-A64E-27EF6C59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FE73A1A-F2E3-4BC4-8F85-7B07AE20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60F5D34-2BCD-4C1A-8A7C-4BFC0D0A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66F16AD-4752-4F72-B699-F757B6AF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BD9BDEF-C675-411B-8811-08FED8ED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6654A63-3A9E-4728-B093-5B58D02E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994C1DF-421E-44BE-B802-734C3005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54B73B1-4ECC-4367-A017-9C220000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2E01236-E0F9-47C1-B03F-EF3DDE510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0C70DB4-2C63-486C-9E12-7D8D6FC1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4214F-B597-4E26-ACBC-6F53F1E3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996CFE3-DC74-4F33-9C1F-DC534898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478000C-8171-4A27-A84F-48891D86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C4AD5AA-2209-4333-AF37-A133290C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B16FD2F-8B2F-4C68-95EA-EDADDA7C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984C92D-D1E4-4FB2-8F45-8DF2646D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30CC5E2-EEDD-401B-90B3-5ECD249E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D0EB5E6-98F7-4BD1-A3F6-B2291544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8E76A67-2750-40F9-AE79-5E837794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1B95CDE-46F1-4C5C-B307-2FDDD070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AEE562E-722D-4E4C-AC24-4410A0FA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A0CB4-1F7E-4158-8064-3DA59256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72D024A-EDD2-4219-9245-8954F5C8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1C178A6-D282-4FC8-94D5-8E21668A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9042036-E564-4FBA-9926-8F0E51DA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B631490-11F2-44EF-8694-0C9CF7D4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533E20E-AA81-4498-9284-7BFD6159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82438AF-90C1-4100-8BB9-609A9B47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F92955D-00CA-40CA-BB75-E75C6ACB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36BC133-7086-4CC3-B26F-179C0EA8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899ADC3-0325-4096-B4AD-84A548FD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49FBC98-D5E9-4CDD-AEDE-7DB09846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5AC57-E9F3-4E78-9B8B-A1FE6014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9226847-B737-47D0-BCE1-F2155635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AF85AD0-7871-496F-9063-E6A5E163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2393C3B-1154-475B-AC6D-6EB765FB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3E7F260-988A-4DD7-8278-6C82F2BC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5F64A3B-52EF-470E-9413-43C084B9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F463E8C-4E06-4821-BA03-90B48F7F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124DE5C-A7FE-4FA1-B4B6-91386528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E35611C-8D81-4418-B4D9-DF7B2485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C57531F-39A4-4862-93D8-8C8833A4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5B788CD-6349-41CA-8C93-33B52A42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E0FE3-74EF-4C5B-9BAD-543B97CA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E253DFF-78C4-4537-A9AE-4538AA3A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CF96683-BC6A-490E-BB0E-4B8FB142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B8109CE-429C-487B-B4D3-8A8805D3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8690DC2-789C-4014-90BE-078BE3D5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5DC8A36-5D2F-42DD-BA18-623C0503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024A9-7B67-4E30-873D-580840FD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1C14-8B38-4B06-B247-58676D05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3D62E-244E-4C75-BFBB-935B1D56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C7A0D-941D-4220-BF43-E3CCAC4B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A964D-8C0D-47B5-B23E-495C070D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A7AF33-3064-41BB-B17F-18A44C72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D2D831-87AB-437D-9490-5165EE0A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1CF1A2-C4A7-4370-9597-EC61C966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66ACB2-E662-413F-A1B2-3DA6BDFD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E7FDC1-D375-4E2A-9184-5A35287E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1B13B5-DCF3-47C4-AFD9-0B73A00E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7217D4-BD85-47C2-A302-0E7903F9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C0AC-A35E-4121-B0D2-B1DFD4C9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76C92D-23EB-4F0A-8813-39624AFC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34C1C9-1C74-44A2-8F4C-2954FF94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B2CA57-C390-4493-A656-BD22DD84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52F96D-A7D5-4BB1-B4A8-A687FB81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6BB3FA-B31B-4F04-99BB-D6DF362D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9E3A3-0326-4FB7-96D3-B405DE13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60B0D-5455-403C-B21D-11D6264E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B078B-2E4D-44D2-99D0-99526F77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8767F-0E97-4867-AD76-5F605F34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1DB14-EBF9-4B87-99C3-B14C705B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C1B0-2785-411F-A715-D38EFB71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81C10-3AAC-419D-953F-872A7BC1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09B3B-4028-4448-AF4E-100B61B2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08CE8-015B-4645-AEE9-574C0436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0F99A-C23A-48F4-9021-774906F8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E8282-FECA-4B77-9B45-76278F7D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0C398-A80B-46EA-9233-C27A9BEE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C5819-7D1E-487A-B644-F04BB538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F4A03-9679-443A-89E0-E199B926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14993-6F0C-4E43-9C43-EE2680EA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14B58-BA1F-4FB9-BC95-C92C7BDB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41.xml"/><Relationship Id="rId8" Type="http://schemas.openxmlformats.org/officeDocument/2006/relationships/slideLayout" Target="../slideLayouts/slideLayout542.xml"/><Relationship Id="rId9" Type="http://schemas.openxmlformats.org/officeDocument/2006/relationships/slideLayout" Target="../slideLayouts/slideLayout543.xml"/><Relationship Id="rId10" Type="http://schemas.openxmlformats.org/officeDocument/2006/relationships/slideLayout" Target="../slideLayouts/slideLayout544.xml"/><Relationship Id="rId11" Type="http://schemas.openxmlformats.org/officeDocument/2006/relationships/slideLayout" Target="../slideLayouts/slideLayout545.xml"/><Relationship Id="rId12" Type="http://schemas.openxmlformats.org/officeDocument/2006/relationships/slideLayout" Target="../slideLayouts/slideLayout546.xml"/><Relationship Id="rId13" Type="http://schemas.openxmlformats.org/officeDocument/2006/relationships/slideLayout" Target="../slideLayouts/slideLayout547.xml"/><Relationship Id="rId14" Type="http://schemas.openxmlformats.org/officeDocument/2006/relationships/slideLayout" Target="../slideLayouts/slideLayout548.xml"/><Relationship Id="rId15" Type="http://schemas.openxmlformats.org/officeDocument/2006/relationships/slideLayout" Target="../slideLayouts/slideLayout549.xml"/><Relationship Id="rId16" Type="http://schemas.openxmlformats.org/officeDocument/2006/relationships/slideLayout" Target="../slideLayouts/slideLayout550.xml"/><Relationship Id="rId17" Type="http://schemas.openxmlformats.org/officeDocument/2006/relationships/slideLayout" Target="../slideLayouts/slideLayout551.xml"/><Relationship Id="rId18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A92F-8659-4F8B-AED7-926E08C48E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6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3D10-A3EF-41A2-8F24-ECBDC8742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2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2F6F-FC00-4B4D-8FDD-7F39E458777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7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1CE6-2825-40C3-9D04-48D1D4EC89B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1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BDD9-C180-4F0C-A021-49E4FF10F46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73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77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02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D58C-2377-4825-B926-AD46EED1EA4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C75A-BE97-40D9-9EC3-05ABCBB6541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2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8EDE-B8A2-458B-9C53-A88664BEE6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84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97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1E25-3EF3-4B04-98BF-ED730FE5521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6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2FAD-CE51-4C10-91F4-5C7134A716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01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1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9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02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026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9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30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3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3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3A80-0F15-4704-9ABB-C9B1CEAFFD6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4C58-CB98-4976-9701-BF14828247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DA2F-923B-4374-96CA-C854D46DF8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C0E2-27B9-43C7-B638-ABC239EC7FA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dt" idx="6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ftr" idx="6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2D6E-227C-40ED-8F37-CD15435D0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23A8-7310-43EE-A804-A6F577C52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70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7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7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483B-99A9-4E29-865E-74F677061A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31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1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2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2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32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2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3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3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3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3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4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4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4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5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5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5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5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6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6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6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7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37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37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38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38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38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38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39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39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40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40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40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40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41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1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1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2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2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42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2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0782-7782-40CC-949B-0210BD94AFC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3624-0BDD-4017-96B2-D2AB8EDEE5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7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498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 type="sldNum" idx="8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A85D-D07E-4FE6-AFB9-9003724987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545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8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8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8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AAD2-7BA9-439C-910B-B9A3758948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 type="sldNum" idx="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397A-E2BF-431C-B401-B79FC4915B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641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4" name="PlaceHolder 5"/>
          <p:cNvSpPr>
            <a:spLocks noGrp="1"/>
          </p:cNvSpPr>
          <p:nvPr>
            <p:ph type="dt" idx="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60D1-1B79-438D-BC8F-35A14438E91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69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EAE7-D948-4A0C-8B76-681CC12A06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73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27E7-8286-4985-89A3-B2881A3081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D266-51CE-4199-9EE0-693055E148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85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85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 type="dt" idx="9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 type="ftr" idx="9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130C-31D0-46AE-B62C-39B88F564A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 type="dt" idx="10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 type="ftr" idx="10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 type="sldNum" idx="10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0C26-2976-4B60-9D33-BD109068B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949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1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53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5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0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6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sldNum" idx="10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6206-2F2F-491A-A8C4-76077B2368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ftr" idx="10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1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B730-F1FF-49DC-AB65-CF920EE714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4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065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 type="dt" idx="10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BD49-5164-4F33-A8CD-DE1329FC89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11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11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11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 type="dt" idx="11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 type="ftr" idx="11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 type="sldNum" idx="11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C114-4988-4D8A-9B99-74340486B4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6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 type="dt" idx="1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55A2-ECE1-485A-B158-D6A711F52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821E-BC08-4074-A471-B52E4D1729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22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22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dt" idx="11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 type="ftr" idx="11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5"/>
          <p:cNvSpPr>
            <a:spLocks noGrp="1"/>
          </p:cNvSpPr>
          <p:nvPr>
            <p:ph type="sldNum" idx="12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E187-D7FD-4119-A305-5F69A344F98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270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dt" idx="1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D3DF-FD30-4FB2-A180-4481A479C13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3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314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 type="dt" idx="1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A1F7-8045-4980-81C5-8ED5F294E0A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37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37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40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 type="dt" idx="1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6CF0-9252-4CF2-B2E7-414249EC301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4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 type="dt" idx="13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 type="ftr" idx="13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9AE4-C864-4578-9DAA-F74AB04CDA2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52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 type="dt" idx="13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B212-2505-4529-83BC-3EF05E5D6D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58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59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18BF-5CE5-4D10-AB9D-A891D8139E1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7"/>
    <p:sldLayoutId id="2147484235" r:id="rId8"/>
    <p:sldLayoutId id="2147484236" r:id="rId9"/>
    <p:sldLayoutId id="2147484237" r:id="rId10"/>
    <p:sldLayoutId id="2147484238" r:id="rId11"/>
    <p:sldLayoutId id="2147484239" r:id="rId12"/>
    <p:sldLayoutId id="2147484240" r:id="rId13"/>
    <p:sldLayoutId id="2147484241" r:id="rId14"/>
    <p:sldLayoutId id="2147484242" r:id="rId15"/>
    <p:sldLayoutId id="2147484243" r:id="rId16"/>
    <p:sldLayoutId id="2147484244" r:id="rId17"/>
    <p:sldLayoutId id="2147484245" r:id="rId18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66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BA9A-8DE0-472B-AED5-631E989477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0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711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712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9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5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726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9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730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3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734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7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738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1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742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5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0E51-C098-4695-8011-F465155BFDE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 type="dt" idx="14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 type="ftr" idx="14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BEE9-7F8B-44E5-BAC9-ACB06B800E2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6993-577D-4FB0-85F0-F2491BF24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83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 type="dt" idx="14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 type="ftr" idx="14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PlaceHolder 5"/>
          <p:cNvSpPr>
            <a:spLocks noGrp="1"/>
          </p:cNvSpPr>
          <p:nvPr>
            <p:ph type="sldNum" idx="15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A43E-9359-435D-85E2-5D6B25E3D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7" name="PlaceHolder 3"/>
          <p:cNvSpPr>
            <a:spLocks noGrp="1"/>
          </p:cNvSpPr>
          <p:nvPr>
            <p:ph type="ftr" idx="1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PlaceHolder 4"/>
          <p:cNvSpPr>
            <a:spLocks noGrp="1"/>
          </p:cNvSpPr>
          <p:nvPr>
            <p:ph type="sldNum" idx="1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71CF-8130-4633-9A7B-C75B4305C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5"/>
          <p:cNvSpPr>
            <a:spLocks noGrp="1"/>
          </p:cNvSpPr>
          <p:nvPr>
            <p:ph type="dt" idx="1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292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 type="dt" idx="1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PlaceHolder 5"/>
          <p:cNvSpPr>
            <a:spLocks noGrp="1"/>
          </p:cNvSpPr>
          <p:nvPr>
            <p:ph type="sldNum" idx="1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C950-879B-4D08-89CC-9EF5436A58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3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974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975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7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978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979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980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1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2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983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984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5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6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987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8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9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90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1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2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93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4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5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996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7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8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999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0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1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002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3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4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005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6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7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008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9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0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011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2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3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014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5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6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17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8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9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20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1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2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23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4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5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026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7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8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029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0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1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032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3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4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035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6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7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038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9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0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041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2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3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044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5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46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7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48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049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0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1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052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3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4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055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6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7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58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9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0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61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2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3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64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5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6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067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8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9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070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1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2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073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4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5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076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7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8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079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0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81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082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083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4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5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6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7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8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9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90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91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092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 type="dt" idx="1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PlaceHolder 5"/>
          <p:cNvSpPr>
            <a:spLocks noGrp="1"/>
          </p:cNvSpPr>
          <p:nvPr>
            <p:ph type="sldNum" idx="1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A111-B5F3-453C-B983-E5C5F4BC186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 type="dt" idx="1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F6C3-C90D-4CD4-BEB5-8C7B963C832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7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98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 type="dt" idx="1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9163-05AC-4E15-AEAC-40C1098B891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246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247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9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3250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 type="dt" idx="16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PlaceHolder 4"/>
          <p:cNvSpPr>
            <a:spLocks noGrp="1"/>
          </p:cNvSpPr>
          <p:nvPr>
            <p:ph type="ftr" idx="16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PlaceHolder 5"/>
          <p:cNvSpPr>
            <a:spLocks noGrp="1"/>
          </p:cNvSpPr>
          <p:nvPr>
            <p:ph type="sldNum" idx="16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2E5A-9668-4491-9FB2-7235874505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7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298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1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 type="dt" idx="16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D340-B8F0-4EC1-9C5A-75F4B7E639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8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2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52B4-897F-44DD-B2B1-9CDC5E78AA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BD58-D7F2-439F-8808-ED086D7184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E747-8C7E-4B14-BE38-2977FF6BA0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1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1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F3FF-14C9-4210-B727-F5D989FDFE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October_14" TargetMode="External"/><Relationship Id="rId3" Type="http://schemas.openxmlformats.org/officeDocument/2006/relationships/hyperlink" Target="http://en.wikipedia.org/wiki/1943" TargetMode="External"/><Relationship Id="rId4" Type="http://schemas.openxmlformats.org/officeDocument/2006/relationships/hyperlink" Target="http://en.wikipedia.org/wiki/August_17" TargetMode="External"/><Relationship Id="rId5" Type="http://schemas.openxmlformats.org/officeDocument/2006/relationships/hyperlink" Target="http://en.wikipedia.org/wiki/1945" TargetMode="External"/><Relationship Id="rId6" Type="http://schemas.openxmlformats.org/officeDocument/2006/relationships/hyperlink" Target="http://en.wikipedia.org/wiki/February_29" TargetMode="External"/><Relationship Id="rId7" Type="http://schemas.openxmlformats.org/officeDocument/2006/relationships/hyperlink" Target="http://en.wikipedia.org/wiki/1936" TargetMode="External"/><Relationship Id="rId8" Type="http://schemas.openxmlformats.org/officeDocument/2006/relationships/hyperlink" Target="http://en.wikipedia.org/wiki/February_5" TargetMode="External"/><Relationship Id="rId9" Type="http://schemas.openxmlformats.org/officeDocument/2006/relationships/hyperlink" Target="http://en.wikipedia.org/wiki/1942" TargetMode="External"/><Relationship Id="rId10" Type="http://schemas.openxmlformats.org/officeDocument/2006/relationships/hyperlink" Target="http://en.wikipedia.org/wiki/March_9" TargetMode="External"/><Relationship Id="rId11" Type="http://schemas.openxmlformats.org/officeDocument/2006/relationships/hyperlink" Target="http://en.wikipedia.org/wiki/1891" TargetMode="External"/><Relationship Id="rId12" Type="http://schemas.openxmlformats.org/officeDocument/2006/relationships/hyperlink" Target="http://en.wikipedia.org/wiki/Tanauan_City" TargetMode="External"/><Relationship Id="rId13" Type="http://schemas.openxmlformats.org/officeDocument/2006/relationships/hyperlink" Target="http://en.wikipedia.org/wiki/Batangas" TargetMode="External"/><Relationship Id="rId14" Type="http://schemas.openxmlformats.org/officeDocument/2006/relationships/hyperlink" Target="http://en.wikipedia.org/wiki/November_6" TargetMode="External"/><Relationship Id="rId15" Type="http://schemas.openxmlformats.org/officeDocument/2006/relationships/hyperlink" Target="http://en.wikipedia.org/wiki/1959" TargetMode="External"/><Relationship Id="rId16" Type="http://schemas.openxmlformats.org/officeDocument/2006/relationships/hyperlink" Target="http://en.wikipedia.org/wiki/Manila" TargetMode="External"/><Relationship Id="rId17" Type="http://schemas.openxmlformats.org/officeDocument/2006/relationships/hyperlink" Target="http://en.wikipedia.org/wiki/Kapisanan_ng_Paglilingkod_sa_Bagong_Pilipinas" TargetMode="External"/><Relationship Id="rId18" Type="http://schemas.openxmlformats.org/officeDocument/2006/relationships/hyperlink" Target="http://en.wikipedia.org/wiki/Pacencia_Laurel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45.xml"/><Relationship Id="rId2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ndb.com/lists/838/000106520/" TargetMode="External"/><Relationship Id="rId2" Type="http://schemas.openxmlformats.org/officeDocument/2006/relationships/hyperlink" Target="http://www.nndb.com/lists/889/000105574/" TargetMode="External"/><Relationship Id="rId3" Type="http://schemas.openxmlformats.org/officeDocument/2006/relationships/hyperlink" Target="http://www.nndb.com/lists/943/000106625/" TargetMode="External"/><Relationship Id="rId4" Type="http://schemas.openxmlformats.org/officeDocument/2006/relationships/hyperlink" Target="http://www.nndb.com/lists/466/000106148/" TargetMode="External"/><Relationship Id="rId5" Type="http://schemas.openxmlformats.org/officeDocument/2006/relationships/hyperlink" Target="http://www.nndb.com/geo/878/000069671/" TargetMode="External"/><Relationship Id="rId6" Type="http://schemas.openxmlformats.org/officeDocument/2006/relationships/hyperlink" Target="http://www.nndb.com/lists/758/000094476/" TargetMode="External"/><Relationship Id="rId7" Type="http://schemas.openxmlformats.org/officeDocument/2006/relationships/hyperlink" Target="http://www.nndb.com/gov/072/000051916/" TargetMode="External"/><Relationship Id="rId8" Type="http://schemas.openxmlformats.org/officeDocument/2006/relationships/slideLayout" Target="../slideLayouts/slideLayout157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estrada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30" TargetMode="External"/><Relationship Id="rId3" Type="http://schemas.openxmlformats.org/officeDocument/2006/relationships/hyperlink" Target="http://en.wikipedia.org/wiki/1992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8" TargetMode="External"/><Relationship Id="rId6" Type="http://schemas.openxmlformats.org/officeDocument/2006/relationships/hyperlink" Target="http://en.wikipedia.org/wiki/April_19" TargetMode="External"/><Relationship Id="rId7" Type="http://schemas.openxmlformats.org/officeDocument/2006/relationships/hyperlink" Target="http://en.wikipedia.org/wiki/1937" TargetMode="External"/><Relationship Id="rId8" Type="http://schemas.openxmlformats.org/officeDocument/2006/relationships/hyperlink" Target="http://en.wikipedia.org/wiki/Tondo" TargetMode="External"/><Relationship Id="rId9" Type="http://schemas.openxmlformats.org/officeDocument/2006/relationships/hyperlink" Target="http://en.wikipedia.org/wiki/Manila" TargetMode="External"/><Relationship Id="rId10" Type="http://schemas.openxmlformats.org/officeDocument/2006/relationships/hyperlink" Target="http://en.wikipedia.org/wiki/Partido_ng_Masang_Pilipino" TargetMode="External"/><Relationship Id="rId11" Type="http://schemas.openxmlformats.org/officeDocument/2006/relationships/hyperlink" Target="http://en.wikipedia.org/wiki/Loi_Estrada" TargetMode="External"/><Relationship Id="rId12" Type="http://schemas.openxmlformats.org/officeDocument/2006/relationships/hyperlink" Target="http://en.wikipedia.org/wiki/Actor" TargetMode="External"/><Relationship Id="rId13" Type="http://schemas.openxmlformats.org/officeDocument/2006/relationships/hyperlink" Target="http://en.wikipedia.org/wiki/Roman_Catholic_Church" TargetMode="External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69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August_1" TargetMode="External"/><Relationship Id="rId3" Type="http://schemas.openxmlformats.org/officeDocument/2006/relationships/hyperlink" Target="http://en.wikipedia.org/wiki/1944" TargetMode="External"/><Relationship Id="rId4" Type="http://schemas.openxmlformats.org/officeDocument/2006/relationships/hyperlink" Target="http://en.wikipedia.org/wiki/May_28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November_15" TargetMode="External"/><Relationship Id="rId7" Type="http://schemas.openxmlformats.org/officeDocument/2006/relationships/hyperlink" Target="http://en.wikipedia.org/wiki/1935" TargetMode="External"/><Relationship Id="rId8" Type="http://schemas.openxmlformats.org/officeDocument/2006/relationships/hyperlink" Target="http://en.wikipedia.org/wiki/August_1" TargetMode="External"/><Relationship Id="rId9" Type="http://schemas.openxmlformats.org/officeDocument/2006/relationships/hyperlink" Target="http://en.wikipedia.org/wiki/1944" TargetMode="External"/><Relationship Id="rId10" Type="http://schemas.openxmlformats.org/officeDocument/2006/relationships/hyperlink" Target="http://en.wikipedia.org/wiki/September_9" TargetMode="External"/><Relationship Id="rId11" Type="http://schemas.openxmlformats.org/officeDocument/2006/relationships/hyperlink" Target="http://en.wikipedia.org/wiki/1878" TargetMode="External"/><Relationship Id="rId12" Type="http://schemas.openxmlformats.org/officeDocument/2006/relationships/hyperlink" Target="http://en.wikipedia.org/wiki/Cebu_City" TargetMode="External"/><Relationship Id="rId13" Type="http://schemas.openxmlformats.org/officeDocument/2006/relationships/hyperlink" Target="http://en.wikipedia.org/wiki/Cebu_Province" TargetMode="External"/><Relationship Id="rId14" Type="http://schemas.openxmlformats.org/officeDocument/2006/relationships/hyperlink" Target="http://en.wikipedia.org/wiki/October_19" TargetMode="External"/><Relationship Id="rId15" Type="http://schemas.openxmlformats.org/officeDocument/2006/relationships/hyperlink" Target="http://en.wikipedia.org/wiki/1961" TargetMode="External"/><Relationship Id="rId16" Type="http://schemas.openxmlformats.org/officeDocument/2006/relationships/hyperlink" Target="http://en.wikipedia.org/wiki/Quezon_City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Esperanza_Osme&#241;a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81.xml"/><Relationship Id="rId2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arroyo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Incumbent" TargetMode="External"/><Relationship Id="rId3" Type="http://schemas.openxmlformats.org/officeDocument/2006/relationships/hyperlink" Target="http://en.wikipedia.org/wiki/January_20" TargetMode="External"/><Relationship Id="rId4" Type="http://schemas.openxmlformats.org/officeDocument/2006/relationships/hyperlink" Target="http://en.wikipedia.org/wiki/2001" TargetMode="External"/><Relationship Id="rId5" Type="http://schemas.openxmlformats.org/officeDocument/2006/relationships/hyperlink" Target="http://en.wikipedia.org/wiki/Noli_de_Castro" TargetMode="External"/><Relationship Id="rId6" Type="http://schemas.openxmlformats.org/officeDocument/2006/relationships/hyperlink" Target="http://en.wikipedia.org/wiki/April_5" TargetMode="External"/><Relationship Id="rId7" Type="http://schemas.openxmlformats.org/officeDocument/2006/relationships/hyperlink" Target="http://en.wikipedia.org/wiki/1947" TargetMode="External"/><Relationship Id="rId8" Type="http://schemas.openxmlformats.org/officeDocument/2006/relationships/hyperlink" Target="http://en.wikipedia.org/wiki/San_Juan,_Metro_Manila" TargetMode="External"/><Relationship Id="rId9" Type="http://schemas.openxmlformats.org/officeDocument/2006/relationships/hyperlink" Target="http://en.wikipedia.org/wiki/Rizal" TargetMode="External"/><Relationship Id="rId10" Type="http://schemas.openxmlformats.org/officeDocument/2006/relationships/hyperlink" Target="http://en.wikipedia.org/wiki/Laban_ng_Demokratikong_Pilipino" TargetMode="External"/><Relationship Id="rId11" Type="http://schemas.openxmlformats.org/officeDocument/2006/relationships/hyperlink" Target="http://en.wikipedia.org/wiki/Lakas-Christian_Muslim_Democrats" TargetMode="External"/><Relationship Id="rId12" Type="http://schemas.openxmlformats.org/officeDocument/2006/relationships/hyperlink" Target="http://en.wikipedia.org/wiki/Kabalikat_ng_Malayang_Pilipino" TargetMode="External"/><Relationship Id="rId13" Type="http://schemas.openxmlformats.org/officeDocument/2006/relationships/hyperlink" Target="http://en.wikipedia.org/wiki/Jose_Miguel_Arroyo" TargetMode="External"/><Relationship Id="rId14" Type="http://schemas.openxmlformats.org/officeDocument/2006/relationships/hyperlink" Target="http://en.wikipedia.org/wiki/Economist" TargetMode="External"/><Relationship Id="rId15" Type="http://schemas.openxmlformats.org/officeDocument/2006/relationships/hyperlink" Target="http://en.wikipedia.org/wiki/Roman_Catholic" TargetMode="External"/><Relationship Id="rId16" Type="http://schemas.openxmlformats.org/officeDocument/2006/relationships/slideLayout" Target="../slideLayouts/slideLayout193.xml"/><Relationship Id="rId1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y_28" TargetMode="External"/><Relationship Id="rId3" Type="http://schemas.openxmlformats.org/officeDocument/2006/relationships/hyperlink" Target="http://en.wikipedia.org/wiki/1946" TargetMode="External"/><Relationship Id="rId4" Type="http://schemas.openxmlformats.org/officeDocument/2006/relationships/hyperlink" Target="http://en.wikipedia.org/wiki/July_4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April_15" TargetMode="External"/><Relationship Id="rId7" Type="http://schemas.openxmlformats.org/officeDocument/2006/relationships/hyperlink" Target="http://en.wikipedia.org/wiki/1948" TargetMode="External"/><Relationship Id="rId8" Type="http://schemas.openxmlformats.org/officeDocument/2006/relationships/hyperlink" Target="http://en.wikipedia.org/wiki/January_1" TargetMode="External"/><Relationship Id="rId9" Type="http://schemas.openxmlformats.org/officeDocument/2006/relationships/hyperlink" Target="http://en.wikipedia.org/wiki/1892" TargetMode="External"/><Relationship Id="rId10" Type="http://schemas.openxmlformats.org/officeDocument/2006/relationships/hyperlink" Target="http://en.wikipedia.org/wiki/Roxas_City" TargetMode="External"/><Relationship Id="rId11" Type="http://schemas.openxmlformats.org/officeDocument/2006/relationships/hyperlink" Target="http://en.wikipedia.org/wiki/Capiz" TargetMode="External"/><Relationship Id="rId12" Type="http://schemas.openxmlformats.org/officeDocument/2006/relationships/hyperlink" Target="http://en.wikipedia.org/wiki/April_15" TargetMode="External"/><Relationship Id="rId13" Type="http://schemas.openxmlformats.org/officeDocument/2006/relationships/hyperlink" Target="http://en.wikipedia.org/wiki/1948" TargetMode="External"/><Relationship Id="rId14" Type="http://schemas.openxmlformats.org/officeDocument/2006/relationships/hyperlink" Target="http://en.wikipedia.org/wiki/Clark_Air_Base" TargetMode="External"/><Relationship Id="rId15" Type="http://schemas.openxmlformats.org/officeDocument/2006/relationships/hyperlink" Target="http://en.wikipedia.org/wiki/Angeles" TargetMode="External"/><Relationship Id="rId16" Type="http://schemas.openxmlformats.org/officeDocument/2006/relationships/hyperlink" Target="http://en.wikipedia.org/wiki/Pampanga" TargetMode="External"/><Relationship Id="rId17" Type="http://schemas.openxmlformats.org/officeDocument/2006/relationships/hyperlink" Target="http://en.wikipedia.org/wiki/Trinidad_Roxas" TargetMode="External"/><Relationship Id="rId18" Type="http://schemas.openxmlformats.org/officeDocument/2006/relationships/hyperlink" Target="http://en.wikipedia.org/wiki/Lawyer" TargetMode="External"/><Relationship Id="rId19" Type="http://schemas.openxmlformats.org/officeDocument/2006/relationships/hyperlink" Target="http://en.wikipedia.org/wiki/Roman_Catholic_Church" TargetMode="External"/><Relationship Id="rId20" Type="http://schemas.openxmlformats.org/officeDocument/2006/relationships/image" Target="../media/image18.jpeg"/><Relationship Id="rId21" Type="http://schemas.openxmlformats.org/officeDocument/2006/relationships/image" Target="../media/image18.jpeg"/><Relationship Id="rId22" Type="http://schemas.openxmlformats.org/officeDocument/2006/relationships/slideLayout" Target="../slideLayouts/slideLayout205.xml"/><Relationship Id="rId2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nndb.com/lists/761/000106443/" TargetMode="External"/><Relationship Id="rId2" Type="http://schemas.openxmlformats.org/officeDocument/2006/relationships/hyperlink" Target="http://www.nndb.com/lists/906/000105591/" TargetMode="External"/><Relationship Id="rId3" Type="http://schemas.openxmlformats.org/officeDocument/2006/relationships/hyperlink" Target="http://www.nndb.com/lists/960/000106642/" TargetMode="External"/><Relationship Id="rId4" Type="http://schemas.openxmlformats.org/officeDocument/2006/relationships/hyperlink" Target="http://www.nndb.com/lists/467/000106149/" TargetMode="External"/><Relationship Id="rId5" Type="http://schemas.openxmlformats.org/officeDocument/2006/relationships/hyperlink" Target="http://www.nndb.com/lists/332/000069125/" TargetMode="External"/><Relationship Id="rId6" Type="http://schemas.openxmlformats.org/officeDocument/2006/relationships/hyperlink" Target="http://www.nndb.com/gov/072/000051916/" TargetMode="External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29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nndb.com/lists/826/000106508/" TargetMode="External"/><Relationship Id="rId2" Type="http://schemas.openxmlformats.org/officeDocument/2006/relationships/hyperlink" Target="http://www.nndb.com/lists/895/000105580/" TargetMode="External"/><Relationship Id="rId3" Type="http://schemas.openxmlformats.org/officeDocument/2006/relationships/hyperlink" Target="http://www.nndb.com/lists/052/000106731/" TargetMode="External"/><Relationship Id="rId4" Type="http://schemas.openxmlformats.org/officeDocument/2006/relationships/hyperlink" Target="http://www.nndb.com/lists/481/000106163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slideLayout" Target="../slideLayouts/slideLayout253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12" TargetMode="External"/><Relationship Id="rId3" Type="http://schemas.openxmlformats.org/officeDocument/2006/relationships/hyperlink" Target="http://en.wikipedia.org/wiki/1978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81" TargetMode="External"/><Relationship Id="rId6" Type="http://schemas.openxmlformats.org/officeDocument/2006/relationships/hyperlink" Target="http://en.wikipedia.org/wiki/September_11" TargetMode="External"/><Relationship Id="rId7" Type="http://schemas.openxmlformats.org/officeDocument/2006/relationships/hyperlink" Target="http://en.wikipedia.org/wiki/1917" TargetMode="External"/><Relationship Id="rId8" Type="http://schemas.openxmlformats.org/officeDocument/2006/relationships/hyperlink" Target="http://en.wikipedia.org/wiki/Sarrat,_Ilocos_Norte" TargetMode="External"/><Relationship Id="rId9" Type="http://schemas.openxmlformats.org/officeDocument/2006/relationships/hyperlink" Target="http://en.wikipedia.org/wiki/Ilocos_Norte" TargetMode="External"/><Relationship Id="rId10" Type="http://schemas.openxmlformats.org/officeDocument/2006/relationships/hyperlink" Target="http://en.wikipedia.org/wiki/Philippines" TargetMode="External"/><Relationship Id="rId11" Type="http://schemas.openxmlformats.org/officeDocument/2006/relationships/hyperlink" Target="http://en.wikipedia.org/wiki/Imelda_Marcos" TargetMode="External"/><Relationship Id="rId12" Type="http://schemas.openxmlformats.org/officeDocument/2006/relationships/slideLayout" Target="../slideLayouts/slideLayout265.xml"/><Relationship Id="rId1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rch_22" TargetMode="External"/><Relationship Id="rId3" Type="http://schemas.openxmlformats.org/officeDocument/2006/relationships/hyperlink" Target="http://en.wikipedia.org/wiki/1897" TargetMode="External"/><Relationship Id="rId4" Type="http://schemas.openxmlformats.org/officeDocument/2006/relationships/hyperlink" Target="http://en.wikipedia.org/wiki/April_1" TargetMode="External"/><Relationship Id="rId5" Type="http://schemas.openxmlformats.org/officeDocument/2006/relationships/hyperlink" Target="http://en.wikipedia.org/wiki/1901" TargetMode="External"/><Relationship Id="rId6" Type="http://schemas.openxmlformats.org/officeDocument/2006/relationships/hyperlink" Target="http://en.wikipedia.org/wiki/March_22" TargetMode="External"/><Relationship Id="rId7" Type="http://schemas.openxmlformats.org/officeDocument/2006/relationships/hyperlink" Target="http://en.wikipedia.org/wiki/1869" TargetMode="External"/><Relationship Id="rId8" Type="http://schemas.openxmlformats.org/officeDocument/2006/relationships/hyperlink" Target="http://en.wikipedia.org/wiki/Kawit,_Cavite" TargetMode="External"/><Relationship Id="rId9" Type="http://schemas.openxmlformats.org/officeDocument/2006/relationships/hyperlink" Target="http://en.wikipedia.org/wiki/Cavite" TargetMode="External"/><Relationship Id="rId10" Type="http://schemas.openxmlformats.org/officeDocument/2006/relationships/hyperlink" Target="http://en.wikipedia.org/wiki/February_6" TargetMode="External"/><Relationship Id="rId11" Type="http://schemas.openxmlformats.org/officeDocument/2006/relationships/hyperlink" Target="http://en.wikipedia.org/wiki/1964" TargetMode="External"/><Relationship Id="rId12" Type="http://schemas.openxmlformats.org/officeDocument/2006/relationships/hyperlink" Target="http://en.wikipedia.org/wiki/Quezon_City" TargetMode="External"/><Relationship Id="rId13" Type="http://schemas.openxmlformats.org/officeDocument/2006/relationships/hyperlink" Target="http://en.wikipedia.org/wiki/Metro_Manila" TargetMode="External"/><Relationship Id="rId14" Type="http://schemas.openxmlformats.org/officeDocument/2006/relationships/hyperlink" Target="http://en.wikipedia.org/wiki/Hilaria_Aguinaldo" TargetMode="External"/><Relationship Id="rId15" Type="http://schemas.openxmlformats.org/officeDocument/2006/relationships/hyperlink" Target="http://en.wikipedia.org/wiki/Military" TargetMode="External"/><Relationship Id="rId16" Type="http://schemas.openxmlformats.org/officeDocument/2006/relationships/hyperlink" Target="http://en.wikipedia.org/wiki/Roman_Catholic_Church" TargetMode="External"/><Relationship Id="rId17" Type="http://schemas.openxmlformats.org/officeDocument/2006/relationships/slideLayout" Target="../slideLayouts/slideLayout289.xml"/><Relationship Id="rId1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ramos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0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Quezon_Sig.png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November_15" TargetMode="External"/><Relationship Id="rId5" Type="http://schemas.openxmlformats.org/officeDocument/2006/relationships/hyperlink" Target="http://en.wikipedia.org/wiki/1935" TargetMode="External"/><Relationship Id="rId6" Type="http://schemas.openxmlformats.org/officeDocument/2006/relationships/hyperlink" Target="http://en.wikipedia.org/wiki/August_1" TargetMode="External"/><Relationship Id="rId7" Type="http://schemas.openxmlformats.org/officeDocument/2006/relationships/hyperlink" Target="http://en.wikipedia.org/wiki/1944" TargetMode="External"/><Relationship Id="rId8" Type="http://schemas.openxmlformats.org/officeDocument/2006/relationships/hyperlink" Target="http://en.wikipedia.org/wiki/August_19" TargetMode="External"/><Relationship Id="rId9" Type="http://schemas.openxmlformats.org/officeDocument/2006/relationships/hyperlink" Target="http://en.wikipedia.org/wiki/1878" TargetMode="External"/><Relationship Id="rId10" Type="http://schemas.openxmlformats.org/officeDocument/2006/relationships/hyperlink" Target="http://en.wikipedia.org/wiki/Baler,_Aurora" TargetMode="External"/><Relationship Id="rId11" Type="http://schemas.openxmlformats.org/officeDocument/2006/relationships/hyperlink" Target="http://en.wikipedia.org/wiki/Aurora_province" TargetMode="External"/><Relationship Id="rId12" Type="http://schemas.openxmlformats.org/officeDocument/2006/relationships/hyperlink" Target="http://en.wikipedia.org/wiki/August_1" TargetMode="External"/><Relationship Id="rId13" Type="http://schemas.openxmlformats.org/officeDocument/2006/relationships/hyperlink" Target="http://en.wikipedia.org/wiki/1944" TargetMode="External"/><Relationship Id="rId14" Type="http://schemas.openxmlformats.org/officeDocument/2006/relationships/hyperlink" Target="http://en.wikipedia.org/wiki/Saranac_Lake,_New_York" TargetMode="External"/><Relationship Id="rId15" Type="http://schemas.openxmlformats.org/officeDocument/2006/relationships/hyperlink" Target="http://en.wikipedia.org/wiki/New_York" TargetMode="External"/><Relationship Id="rId16" Type="http://schemas.openxmlformats.org/officeDocument/2006/relationships/hyperlink" Target="http://en.wikipedia.org/wiki/United_States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Aurora_Quezon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61.xml"/><Relationship Id="rId2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Ramos_Sig.png" TargetMode="External"/><Relationship Id="rId2" Type="http://schemas.openxmlformats.org/officeDocument/2006/relationships/image" Target="../media/image25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2" TargetMode="External"/><Relationship Id="rId6" Type="http://schemas.openxmlformats.org/officeDocument/2006/relationships/hyperlink" Target="http://en.wikipedia.org/wiki/June_30" TargetMode="External"/><Relationship Id="rId7" Type="http://schemas.openxmlformats.org/officeDocument/2006/relationships/hyperlink" Target="http://en.wikipedia.org/wiki/1998" TargetMode="External"/><Relationship Id="rId8" Type="http://schemas.openxmlformats.org/officeDocument/2006/relationships/hyperlink" Target="http://en.wikipedia.org/wiki/March_18" TargetMode="External"/><Relationship Id="rId9" Type="http://schemas.openxmlformats.org/officeDocument/2006/relationships/hyperlink" Target="http://en.wikipedia.org/wiki/1928" TargetMode="External"/><Relationship Id="rId10" Type="http://schemas.openxmlformats.org/officeDocument/2006/relationships/hyperlink" Target="http://en.wikipedia.org/wiki/Lingayen,_Pangasinan" TargetMode="External"/><Relationship Id="rId11" Type="http://schemas.openxmlformats.org/officeDocument/2006/relationships/hyperlink" Target="http://en.wikipedia.org/wiki/Pangasinan" TargetMode="External"/><Relationship Id="rId12" Type="http://schemas.openxmlformats.org/officeDocument/2006/relationships/hyperlink" Target="http://en.wikipedia.org/wiki/Philippines" TargetMode="External"/><Relationship Id="rId13" Type="http://schemas.openxmlformats.org/officeDocument/2006/relationships/slideLayout" Target="../slideLayouts/slideLayout109.xml"/><Relationship Id="rId1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ndb.com/lists/542/000106224/" TargetMode="External"/><Relationship Id="rId2" Type="http://schemas.openxmlformats.org/officeDocument/2006/relationships/hyperlink" Target="http://www.nndb.com/lists/932/000105617/" TargetMode="External"/><Relationship Id="rId3" Type="http://schemas.openxmlformats.org/officeDocument/2006/relationships/hyperlink" Target="http://www.nndb.com/geo/878/000069671/" TargetMode="External"/><Relationship Id="rId4" Type="http://schemas.openxmlformats.org/officeDocument/2006/relationships/hyperlink" Target="http://www.nndb.com/people/237/000112898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hyperlink" Target="http://www.nndb.com/honors/347/000059170/" TargetMode="External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WordArt 6"/>
          <p:cNvSpPr txBox="1"/>
          <p:nvPr/>
        </p:nvSpPr>
        <p:spPr>
          <a:xfrm>
            <a:off x="762120" y="990720"/>
            <a:ext cx="7191360" cy="44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14 PRESIDENT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OF THE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PHILIPPINE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4" name=""/>
          <p:cNvGraphicFramePr/>
          <p:nvPr/>
        </p:nvGraphicFramePr>
        <p:xfrm>
          <a:off x="1600200" y="1295280"/>
          <a:ext cx="6172200" cy="5386680"/>
        </p:xfrm>
        <a:graphic>
          <a:graphicData uri="http://schemas.openxmlformats.org/drawingml/2006/table">
            <a:tbl>
              <a:tblPr/>
              <a:tblGrid>
                <a:gridCol w="3124080"/>
                <a:gridCol w="3048120"/>
              </a:tblGrid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2n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October 1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ugust 1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February 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February 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March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9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Tana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Batang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November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5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Kapisanan ng Paglilingkod sa Bagong Pilipin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KALIBAP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Pacencia Hida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5" name="WordArt 24"/>
          <p:cNvSpPr txBox="1"/>
          <p:nvPr/>
        </p:nvSpPr>
        <p:spPr>
          <a:xfrm>
            <a:off x="1600200" y="457200"/>
            <a:ext cx="6095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JOSE P. LAUREL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</p:spTree>
  </p:cSld>
  <p:transition spd="slow"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3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6" name="Picture 2" descr="Elpidio Quirino"/>
          <p:cNvPicPr/>
          <p:nvPr/>
        </p:nvPicPr>
        <p:blipFill>
          <a:blip r:embed="rId1"/>
          <a:stretch/>
        </p:blipFill>
        <p:spPr>
          <a:xfrm>
            <a:off x="2057400" y="228600"/>
            <a:ext cx="512136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WordArt 2"/>
          <p:cNvSpPr txBox="1"/>
          <p:nvPr/>
        </p:nvSpPr>
        <p:spPr>
          <a:xfrm>
            <a:off x="1324080" y="2089080"/>
            <a:ext cx="649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LPIDIO QUIR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NOLI DE CASTR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Rectangle 2"/>
          <p:cNvSpPr/>
          <p:nvPr/>
        </p:nvSpPr>
        <p:spPr>
          <a:xfrm>
            <a:off x="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Rectangle 3"/>
          <p:cNvSpPr/>
          <p:nvPr/>
        </p:nvSpPr>
        <p:spPr>
          <a:xfrm>
            <a:off x="2590920" y="1468800"/>
            <a:ext cx="434340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1"/>
              </a:rPr>
              <a:t>16-Nov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2"/>
              </a:rPr>
              <a:t>189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Vigan, Ilocos Sur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3"/>
              </a:rPr>
              <a:t>29-Feb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4"/>
              </a:rPr>
              <a:t>1956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5"/>
              </a:rPr>
              <a:t>Manila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elig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6"/>
              </a:rPr>
              <a:t>Roman Catholi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ultiracia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6th President of the Philipp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Ilocano (paternal) and Spanish (maternal) desc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riano Quirin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Gregoria Rive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7"/>
              </a:rPr>
              <a:t>President of the Philippines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8-Apr-1948 to 30-Dec-1953</a:t>
            </a:r>
            <a:br>
              <a:rPr sz="16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WordArt 4"/>
          <p:cNvSpPr txBox="1"/>
          <p:nvPr/>
        </p:nvSpPr>
        <p:spPr>
          <a:xfrm>
            <a:off x="1828800" y="30492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ELPIDIO QUIR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1" name="Picture 2" descr="Joseph Estra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304920"/>
            <a:ext cx="49388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WordArt 2"/>
          <p:cNvSpPr txBox="1"/>
          <p:nvPr/>
        </p:nvSpPr>
        <p:spPr>
          <a:xfrm>
            <a:off x="1490760" y="2089080"/>
            <a:ext cx="61624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PIOLO PASCU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Rectangle 2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Rectangle 3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Rectangle 4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6" name=""/>
          <p:cNvGraphicFramePr/>
          <p:nvPr/>
        </p:nvGraphicFramePr>
        <p:xfrm>
          <a:off x="1676520" y="304920"/>
          <a:ext cx="3962160" cy="624816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</a:tblGrid>
              <a:tr h="165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3th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2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Tond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4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artido ng Masang Pilipin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PM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uisa Pimen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7" name="WordArt 22"/>
          <p:cNvSpPr txBox="1"/>
          <p:nvPr/>
        </p:nvSpPr>
        <p:spPr>
          <a:xfrm rot="5400000">
            <a:off x="4152240" y="3162240"/>
            <a:ext cx="55627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JOSEPH EJERCITO ESTRADA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925"/>
                                        <p:tgtEl>
                                          <p:spTgt spid="33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1925" fill="hold"/>
                                        <p:tgtEl>
                                          <p:spTgt spid="33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1925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1925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8" name="Picture 4" descr="sergio_osmena"/>
          <p:cNvPicPr/>
          <p:nvPr/>
        </p:nvPicPr>
        <p:blipFill>
          <a:blip r:embed="rId1"/>
          <a:stretch/>
        </p:blipFill>
        <p:spPr>
          <a:xfrm>
            <a:off x="1600200" y="228600"/>
            <a:ext cx="598788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WordArt 2"/>
          <p:cNvSpPr txBox="1"/>
          <p:nvPr/>
        </p:nvSpPr>
        <p:spPr>
          <a:xfrm>
            <a:off x="909720" y="2089080"/>
            <a:ext cx="7324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Rectangle 4"/>
          <p:cNvSpPr/>
          <p:nvPr/>
        </p:nvSpPr>
        <p:spPr>
          <a:xfrm>
            <a:off x="0" y="34308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1" name=""/>
          <p:cNvGraphicFramePr/>
          <p:nvPr/>
        </p:nvGraphicFramePr>
        <p:xfrm>
          <a:off x="228600" y="838080"/>
          <a:ext cx="4876920" cy="548640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</a:tblGrid>
              <a:tr h="743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4th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6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September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78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Cebu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Ceb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October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6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83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Quezon 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Nacionalista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Esperanza Limj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2" name="WordArt 86"/>
          <p:cNvSpPr txBox="1"/>
          <p:nvPr/>
        </p:nvSpPr>
        <p:spPr>
          <a:xfrm>
            <a:off x="5181480" y="1981080"/>
            <a:ext cx="39625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High Tower Text"/>
              </a:rPr>
              <a:t>SERGIO OSMENA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1" name="Picture 2" descr="quezon"/>
          <p:cNvPicPr/>
          <p:nvPr/>
        </p:nvPicPr>
        <p:blipFill>
          <a:blip r:embed="rId1"/>
          <a:stretch/>
        </p:blipFill>
        <p:spPr>
          <a:xfrm>
            <a:off x="2057400" y="380880"/>
            <a:ext cx="4998960" cy="6248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3" name="Picture 2" descr="Gloria Macapagal-Arroy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12840" y="304920"/>
            <a:ext cx="4668840" cy="6248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WordArt 2"/>
          <p:cNvSpPr txBox="1"/>
          <p:nvPr/>
        </p:nvSpPr>
        <p:spPr>
          <a:xfrm>
            <a:off x="295200" y="2133720"/>
            <a:ext cx="884880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GLORIA MACAPAGAL ARROY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KRIS AQU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RIAN RIVER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Rectangle 2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Rectangle 3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Rectangle 4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8" name=""/>
          <p:cNvGraphicFramePr/>
          <p:nvPr/>
        </p:nvGraphicFramePr>
        <p:xfrm>
          <a:off x="3429000" y="533520"/>
          <a:ext cx="3886200" cy="58672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</a:tblGrid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Incumb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ssumed office 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January 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Vice Presi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Noli de Cas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5 Apr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6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n J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Riz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D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2-199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akas-CM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8-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KAMP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7-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Jose Miguel Arro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Econom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9" name="WordArt 25"/>
          <p:cNvSpPr txBox="1"/>
          <p:nvPr/>
        </p:nvSpPr>
        <p:spPr>
          <a:xfrm rot="5400000">
            <a:off x="-543240" y="3210120"/>
            <a:ext cx="63435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skerville Old Face"/>
              </a:rPr>
              <a:t>GLORIA MACAPAGAL ARROYO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skerville Old Face"/>
              <a:ea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3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0" name="Picture 4" descr="Ph_pres_roxas"/>
          <p:cNvPicPr/>
          <p:nvPr/>
        </p:nvPicPr>
        <p:blipFill>
          <a:blip r:embed="rId1"/>
          <a:stretch/>
        </p:blipFill>
        <p:spPr>
          <a:xfrm>
            <a:off x="2057400" y="304920"/>
            <a:ext cx="4998960" cy="6248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WordArt 2"/>
          <p:cNvSpPr txBox="1"/>
          <p:nvPr/>
        </p:nvSpPr>
        <p:spPr>
          <a:xfrm>
            <a:off x="1457280" y="2089080"/>
            <a:ext cx="62294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Rectangle 12"/>
          <p:cNvSpPr/>
          <p:nvPr/>
        </p:nvSpPr>
        <p:spPr>
          <a:xfrm>
            <a:off x="0" y="552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3" name=""/>
          <p:cNvGraphicFramePr/>
          <p:nvPr/>
        </p:nvGraphicFramePr>
        <p:xfrm>
          <a:off x="4267080" y="228600"/>
          <a:ext cx="4581720" cy="6248520"/>
        </p:xfrm>
        <a:graphic>
          <a:graphicData uri="http://schemas.openxmlformats.org/drawingml/2006/table">
            <a:tbl>
              <a:tblPr/>
              <a:tblGrid>
                <a:gridCol w="2336760"/>
                <a:gridCol w="2244960"/>
              </a:tblGrid>
              <a:tr h="1077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5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Commonwealth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3r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5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s Commonwealth President until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ly 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as Republic President thereafter)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0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January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9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Capiz (now Roxas City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Cap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pril 1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56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Clark Air 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Angele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Pampa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Trinidad de Le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4" name="WordArt 70"/>
          <p:cNvSpPr txBox="1"/>
          <p:nvPr/>
        </p:nvSpPr>
        <p:spPr>
          <a:xfrm>
            <a:off x="457200" y="2133720"/>
            <a:ext cx="37339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Berlin Sans FB Demi"/>
              </a:rPr>
              <a:t>MANUEL ROXA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Berlin Sans FB Demi"/>
              <a:ea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3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3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3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5000"/>
                                        <p:tgtEl>
                                          <p:spTgt spid="3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5" name="Picture 4" descr="Ramon Magsaysay"/>
          <p:cNvPicPr/>
          <p:nvPr/>
        </p:nvPicPr>
        <p:blipFill>
          <a:blip r:embed="rId1"/>
          <a:stretch/>
        </p:blipFill>
        <p:spPr>
          <a:xfrm>
            <a:off x="2133720" y="304920"/>
            <a:ext cx="49370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WordArt 2"/>
          <p:cNvSpPr txBox="1"/>
          <p:nvPr/>
        </p:nvSpPr>
        <p:spPr>
          <a:xfrm>
            <a:off x="747720" y="2089080"/>
            <a:ext cx="7648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 RIZ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Rectangle 5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Rectangle 6"/>
          <p:cNvSpPr/>
          <p:nvPr/>
        </p:nvSpPr>
        <p:spPr>
          <a:xfrm>
            <a:off x="1295280" y="1680840"/>
            <a:ext cx="669924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1"/>
              </a:rPr>
              <a:t>31-Aug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2"/>
              </a:rPr>
              <a:t>190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Iba, Zambales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3"/>
              </a:rPr>
              <a:t>17-M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4"/>
              </a:rPr>
              <a:t>195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t. Manunggal, Cebu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5"/>
              </a:rPr>
              <a:t>Accident - Air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7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ilitary servi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 Army (31st Infantry); Western Luzon Guerilla Fo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Exequiel Magsaysay (blacksmith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erfecta del Fierro (schoolteache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6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30-Dec-1953 to 17-Mar-1957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WordArt 7"/>
          <p:cNvSpPr txBox="1"/>
          <p:nvPr/>
        </p:nvSpPr>
        <p:spPr>
          <a:xfrm>
            <a:off x="457200" y="68580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RAMON MAGSAYS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3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0" name="Picture 4" descr="Carlos P. Garcia"/>
          <p:cNvPicPr/>
          <p:nvPr/>
        </p:nvPicPr>
        <p:blipFill>
          <a:blip r:embed="rId1"/>
          <a:stretch/>
        </p:blipFill>
        <p:spPr>
          <a:xfrm>
            <a:off x="2149560" y="304920"/>
            <a:ext cx="49370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WordArt 2"/>
          <p:cNvSpPr txBox="1"/>
          <p:nvPr/>
        </p:nvSpPr>
        <p:spPr>
          <a:xfrm>
            <a:off x="304920" y="1981080"/>
            <a:ext cx="859140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1" name="WordArt 2"/>
          <p:cNvSpPr txBox="1"/>
          <p:nvPr/>
        </p:nvSpPr>
        <p:spPr>
          <a:xfrm>
            <a:off x="276120" y="2089080"/>
            <a:ext cx="85917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POLINARIO MABINI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Rectangle 5"/>
          <p:cNvSpPr/>
          <p:nvPr/>
        </p:nvSpPr>
        <p:spPr>
          <a:xfrm>
            <a:off x="0" y="16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Rectangle 6"/>
          <p:cNvSpPr/>
          <p:nvPr/>
        </p:nvSpPr>
        <p:spPr>
          <a:xfrm>
            <a:off x="1334520" y="2156040"/>
            <a:ext cx="684972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AKA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Carlos Polestico Gar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1"/>
              </a:rPr>
              <a:t>4-Nov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2"/>
              </a:rPr>
              <a:t>189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Talibon, Bohol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3"/>
              </a:rPr>
              <a:t>14-Ju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4"/>
              </a:rPr>
              <a:t>197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Quezon City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ispan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8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olicronio Garcia (mayor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mbrosia Poli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23-Mar-1957 to 30-Dec-1961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WordArt 7"/>
          <p:cNvSpPr txBox="1"/>
          <p:nvPr/>
        </p:nvSpPr>
        <p:spPr>
          <a:xfrm>
            <a:off x="1600200" y="91440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ARLOS P. GARCIA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0"/>
                                        <p:tgtEl>
                                          <p:spTgt spid="3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5" name="Picture 4" descr="Ph_pres_marcos"/>
          <p:cNvPicPr/>
          <p:nvPr/>
        </p:nvPicPr>
        <p:blipFill>
          <a:blip r:embed="rId1"/>
          <a:stretch/>
        </p:blipFill>
        <p:spPr>
          <a:xfrm>
            <a:off x="1965240" y="228600"/>
            <a:ext cx="512136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WordArt 2"/>
          <p:cNvSpPr txBox="1"/>
          <p:nvPr/>
        </p:nvSpPr>
        <p:spPr>
          <a:xfrm>
            <a:off x="42840" y="2089080"/>
            <a:ext cx="905832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NDRES BONIFACI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GRACIANO LOPEZ JA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Rectangle 1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Rectangle 15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Rectangle 20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Rectangle 21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Rectangle 2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2" name=""/>
          <p:cNvGraphicFramePr/>
          <p:nvPr/>
        </p:nvGraphicFramePr>
        <p:xfrm>
          <a:off x="3048120" y="1828800"/>
          <a:ext cx="3276360" cy="4695840"/>
        </p:xfrm>
        <a:graphic>
          <a:graphicData uri="http://schemas.openxmlformats.org/drawingml/2006/table">
            <a:tbl>
              <a:tblPr/>
              <a:tblGrid>
                <a:gridCol w="1638360"/>
                <a:gridCol w="1638000"/>
              </a:tblGrid>
              <a:tr h="2050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0th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6th President of the 3rd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4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600"/>
                      </a:br>
                      <a:r>
                        <a:rPr b="1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1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September 1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1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rra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Ilocos Nor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Imelda Romuald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3" name="WordArt 81"/>
          <p:cNvSpPr txBox="1"/>
          <p:nvPr/>
        </p:nvSpPr>
        <p:spPr>
          <a:xfrm>
            <a:off x="609480" y="45720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ERDINAND MARCOS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3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3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4" name="Picture 2" descr="Aguinaldo"/>
          <p:cNvPicPr/>
          <p:nvPr/>
        </p:nvPicPr>
        <p:blipFill>
          <a:blip r:embed="rId1"/>
          <a:stretch/>
        </p:blipFill>
        <p:spPr>
          <a:xfrm>
            <a:off x="2209680" y="228600"/>
            <a:ext cx="463716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WordArt 2"/>
          <p:cNvSpPr txBox="1"/>
          <p:nvPr/>
        </p:nvSpPr>
        <p:spPr>
          <a:xfrm>
            <a:off x="762120" y="1905120"/>
            <a:ext cx="75628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Rectangle 2"/>
          <p:cNvSpPr/>
          <p:nvPr/>
        </p:nvSpPr>
        <p:spPr>
          <a:xfrm>
            <a:off x="0" y="1159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7" name=""/>
          <p:cNvGraphicFramePr/>
          <p:nvPr/>
        </p:nvGraphicFramePr>
        <p:xfrm>
          <a:off x="2362320" y="152280"/>
          <a:ext cx="5790960" cy="674208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</a:tblGrid>
              <a:tr h="177444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Baskerville Old Face"/>
                          <a:ea typeface="Times New Roman"/>
                        </a:rPr>
                        <a:t>1st </a:t>
                      </a: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Tejeros Convention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Biyak-na-Bato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ctator of the Dictatorial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Revolutionary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1st Philippine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16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rch 2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89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pril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March 2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86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Cavite El Viejo (Kawit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Cav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February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96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94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Quezon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Metro 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gdalo faction of the Katipunan, National Socialist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Hilaria del Rosari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-died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ria Agonci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8" name="WordArt 24"/>
          <p:cNvSpPr txBox="1"/>
          <p:nvPr/>
        </p:nvSpPr>
        <p:spPr>
          <a:xfrm rot="5400000">
            <a:off x="-438120" y="2952720"/>
            <a:ext cx="502920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MILIO AGUINAL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9" name="Picture 4" descr="Fidel V. Ram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380880"/>
            <a:ext cx="491328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WordArt 2"/>
          <p:cNvSpPr txBox="1"/>
          <p:nvPr/>
        </p:nvSpPr>
        <p:spPr>
          <a:xfrm>
            <a:off x="866880" y="2089080"/>
            <a:ext cx="74102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RCELO DEL PILAR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3" name="Rectangle 2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Rectangle 3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5" name="Picture 4" descr="Manuel L. Quezon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5638680"/>
            <a:ext cx="1219320" cy="2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6" name=""/>
          <p:cNvGraphicFramePr/>
          <p:nvPr/>
        </p:nvGraphicFramePr>
        <p:xfrm>
          <a:off x="228600" y="380880"/>
          <a:ext cx="5791320" cy="586764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77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Bal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Aur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ugust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5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Saranac Lak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New Y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Coalición Nacional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Aurora Arag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7" name="WordArt 26"/>
          <p:cNvSpPr txBox="1"/>
          <p:nvPr/>
        </p:nvSpPr>
        <p:spPr>
          <a:xfrm rot="5400000">
            <a:off x="4952520" y="2666880"/>
            <a:ext cx="51055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uhaus 93"/>
              </a:rPr>
              <a:t>MANUEL L. QUEZON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uhaus 93"/>
              <a:ea typeface="Bauhaus 93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3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3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00" fill="hold"/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Rectangle 13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Rectangle 27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3" name="Picture 4" descr="Fidel V. Ramos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6095880"/>
            <a:ext cx="1218960" cy="40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34" name=""/>
          <p:cNvGraphicFramePr/>
          <p:nvPr/>
        </p:nvGraphicFramePr>
        <p:xfrm>
          <a:off x="3657600" y="533520"/>
          <a:ext cx="4343400" cy="60195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1349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2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March 1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2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9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ingay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Pangasin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Lakas-Christian Muslim Democr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melita Martin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United Method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5" name="WordArt 65"/>
          <p:cNvSpPr txBox="1"/>
          <p:nvPr/>
        </p:nvSpPr>
        <p:spPr>
          <a:xfrm rot="5400000">
            <a:off x="-723960" y="2628720"/>
            <a:ext cx="586764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FIDEL V. RAMO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5000" fill="hold"/>
                                        <p:tgtEl>
                                          <p:spTgt spid="3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3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34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6" name="Picture 2" descr="Diosdado Macapagal"/>
          <p:cNvPicPr/>
          <p:nvPr/>
        </p:nvPicPr>
        <p:blipFill>
          <a:blip r:embed="rId1"/>
          <a:stretch/>
        </p:blipFill>
        <p:spPr>
          <a:xfrm>
            <a:off x="2117880" y="380880"/>
            <a:ext cx="481644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WordArt 2"/>
          <p:cNvSpPr txBox="1"/>
          <p:nvPr/>
        </p:nvSpPr>
        <p:spPr>
          <a:xfrm>
            <a:off x="19080" y="2089080"/>
            <a:ext cx="91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8" name="Rectangle 2"/>
          <p:cNvSpPr/>
          <p:nvPr/>
        </p:nvSpPr>
        <p:spPr>
          <a:xfrm>
            <a:off x="662760" y="1754280"/>
            <a:ext cx="772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or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8-Sep-191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irthplace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Lubao, Pampanga,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ied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1-Apr-1997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Location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kati Medical Cente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Cause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rt Failur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mains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Buried, Libingan ng mga Bayani, Taguig, 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Gend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lig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 Catholic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ace or Ethnic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Sexual orient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Occup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National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Executive summar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9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Fa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Urbano Macapag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Mo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a Pang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aught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Gloria Macapagal-Arroyo (President of the Philipp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        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President of the Philippines 30-Dec-1961 to 30-Dec-19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WordArt 3"/>
          <p:cNvSpPr txBox="1"/>
          <p:nvPr/>
        </p:nvSpPr>
        <p:spPr>
          <a:xfrm>
            <a:off x="457200" y="76212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OSDADO MACAPAG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3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3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3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8" name="Picture 2" descr="Corazon Aquino"/>
          <p:cNvPicPr/>
          <p:nvPr/>
        </p:nvPicPr>
        <p:blipFill>
          <a:blip r:embed="rId1"/>
          <a:stretch/>
        </p:blipFill>
        <p:spPr>
          <a:xfrm>
            <a:off x="1833480" y="380880"/>
            <a:ext cx="555804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WordArt 2"/>
          <p:cNvSpPr txBox="1"/>
          <p:nvPr/>
        </p:nvSpPr>
        <p:spPr>
          <a:xfrm>
            <a:off x="919080" y="2089080"/>
            <a:ext cx="73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CORAZON AQU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LOREN LEGAR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IRIAM SANTIAG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Rectangle 2"/>
          <p:cNvSpPr/>
          <p:nvPr/>
        </p:nvSpPr>
        <p:spPr>
          <a:xfrm>
            <a:off x="152280" y="1219320"/>
            <a:ext cx="63248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1"/>
              </a:rPr>
              <a:t>25-Ja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2"/>
              </a:rPr>
              <a:t>193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3"/>
              </a:rPr>
              <a:t>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e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Oth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ormer housewife turned political wid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José Cojuangco, Sr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Husban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4"/>
              </a:rPr>
              <a:t>Benigno Aquino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Philippine Senator, m. 1955, five children, d. 1983 assassinatio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25-Feb-1986 to 30-Jun-199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6"/>
              </a:rPr>
              <a:t>Time Man of the Ye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9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WordArt 3"/>
          <p:cNvSpPr txBox="1"/>
          <p:nvPr/>
        </p:nvSpPr>
        <p:spPr>
          <a:xfrm rot="5400000">
            <a:off x="5143320" y="2933280"/>
            <a:ext cx="525780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"/>
              </a:rPr>
              <a:t>CORAZON AQUIN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"/>
              <a:ea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2" name="Picture 2" descr="jose_laurel"/>
          <p:cNvPicPr/>
          <p:nvPr/>
        </p:nvPicPr>
        <p:blipFill>
          <a:blip r:embed="rId1"/>
          <a:stretch/>
        </p:blipFill>
        <p:spPr>
          <a:xfrm>
            <a:off x="1600200" y="228600"/>
            <a:ext cx="5843520" cy="62485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WordArt 3"/>
          <p:cNvSpPr txBox="1"/>
          <p:nvPr/>
        </p:nvSpPr>
        <p:spPr>
          <a:xfrm>
            <a:off x="304920" y="1981080"/>
            <a:ext cx="8343720" cy="24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03:54:54Z</dcterms:created>
  <dc:creator>Mr Ramos</dc:creator>
  <dc:description/>
  <dc:language>en-US</dc:language>
  <cp:lastModifiedBy>RomaK</cp:lastModifiedBy>
  <dcterms:modified xsi:type="dcterms:W3CDTF">2015-09-04T09:32:36Z</dcterms:modified>
  <cp:revision>7</cp:revision>
  <dc:subject/>
  <dc:title>Presidents of the Phillipines</dc:title>
</cp:coreProperties>
</file>