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43.xml" ContentType="application/vnd.openxmlformats-officedocument.theme+xml"/>
  <Override PartName="/ppt/theme/theme55.xml" ContentType="application/vnd.openxmlformats-officedocument.theme+xml"/>
  <Override PartName="/ppt/theme/theme44.xml" ContentType="application/vnd.openxmlformats-officedocument.theme+xml"/>
  <Override PartName="/ppt/theme/theme56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</p:sldMasterIdLst>
  <p:notesMasterIdLst>
    <p:notesMasterId r:id="rId59"/>
  </p:notesMasterIdLst>
  <p:sldIdLst>
    <p:sldId id="256" r:id="rId60"/>
    <p:sldId id="257" r:id="rId61"/>
    <p:sldId id="258" r:id="rId62"/>
    <p:sldId id="259" r:id="rId63"/>
    <p:sldId id="260" r:id="rId64"/>
    <p:sldId id="261" r:id="rId65"/>
    <p:sldId id="262" r:id="rId66"/>
    <p:sldId id="263" r:id="rId67"/>
    <p:sldId id="264" r:id="rId68"/>
    <p:sldId id="265" r:id="rId69"/>
    <p:sldId id="266" r:id="rId70"/>
    <p:sldId id="267" r:id="rId71"/>
    <p:sldId id="268" r:id="rId72"/>
    <p:sldId id="269" r:id="rId73"/>
    <p:sldId id="270" r:id="rId74"/>
    <p:sldId id="271" r:id="rId75"/>
    <p:sldId id="272" r:id="rId76"/>
    <p:sldId id="273" r:id="rId77"/>
    <p:sldId id="274" r:id="rId78"/>
    <p:sldId id="275" r:id="rId79"/>
    <p:sldId id="276" r:id="rId80"/>
    <p:sldId id="277" r:id="rId81"/>
    <p:sldId id="278" r:id="rId82"/>
    <p:sldId id="279" r:id="rId83"/>
    <p:sldId id="280" r:id="rId84"/>
    <p:sldId id="281" r:id="rId85"/>
    <p:sldId id="282" r:id="rId86"/>
    <p:sldId id="283" r:id="rId87"/>
    <p:sldId id="284" r:id="rId88"/>
    <p:sldId id="285" r:id="rId89"/>
    <p:sldId id="286" r:id="rId90"/>
    <p:sldId id="287" r:id="rId91"/>
    <p:sldId id="288" r:id="rId92"/>
    <p:sldId id="289" r:id="rId93"/>
    <p:sldId id="290" r:id="rId94"/>
    <p:sldId id="291" r:id="rId95"/>
    <p:sldId id="292" r:id="rId96"/>
    <p:sldId id="293" r:id="rId97"/>
    <p:sldId id="294" r:id="rId98"/>
    <p:sldId id="295" r:id="rId99"/>
    <p:sldId id="296" r:id="rId100"/>
    <p:sldId id="297" r:id="rId101"/>
    <p:sldId id="298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notesMaster" Target="notesMasters/notesMaster1.xml"/><Relationship Id="rId60" Type="http://schemas.openxmlformats.org/officeDocument/2006/relationships/slide" Target="slides/slide1.xml"/><Relationship Id="rId61" Type="http://schemas.openxmlformats.org/officeDocument/2006/relationships/slide" Target="slides/slide2.xml"/><Relationship Id="rId62" Type="http://schemas.openxmlformats.org/officeDocument/2006/relationships/slide" Target="slides/slide3.xml"/><Relationship Id="rId63" Type="http://schemas.openxmlformats.org/officeDocument/2006/relationships/slide" Target="slides/slide4.xml"/><Relationship Id="rId64" Type="http://schemas.openxmlformats.org/officeDocument/2006/relationships/slide" Target="slides/slide5.xml"/><Relationship Id="rId65" Type="http://schemas.openxmlformats.org/officeDocument/2006/relationships/slide" Target="slides/slide6.xml"/><Relationship Id="rId66" Type="http://schemas.openxmlformats.org/officeDocument/2006/relationships/slide" Target="slides/slide7.xml"/><Relationship Id="rId67" Type="http://schemas.openxmlformats.org/officeDocument/2006/relationships/slide" Target="slides/slide8.xml"/><Relationship Id="rId68" Type="http://schemas.openxmlformats.org/officeDocument/2006/relationships/slide" Target="slides/slide9.xml"/><Relationship Id="rId69" Type="http://schemas.openxmlformats.org/officeDocument/2006/relationships/slide" Target="slides/slide10.xml"/><Relationship Id="rId70" Type="http://schemas.openxmlformats.org/officeDocument/2006/relationships/slide" Target="slides/slide11.xml"/><Relationship Id="rId71" Type="http://schemas.openxmlformats.org/officeDocument/2006/relationships/slide" Target="slides/slide12.xml"/><Relationship Id="rId72" Type="http://schemas.openxmlformats.org/officeDocument/2006/relationships/slide" Target="slides/slide13.xml"/><Relationship Id="rId73" Type="http://schemas.openxmlformats.org/officeDocument/2006/relationships/slide" Target="slides/slide14.xml"/><Relationship Id="rId74" Type="http://schemas.openxmlformats.org/officeDocument/2006/relationships/slide" Target="slides/slide15.xml"/><Relationship Id="rId75" Type="http://schemas.openxmlformats.org/officeDocument/2006/relationships/slide" Target="slides/slide16.xml"/><Relationship Id="rId76" Type="http://schemas.openxmlformats.org/officeDocument/2006/relationships/slide" Target="slides/slide17.xml"/><Relationship Id="rId77" Type="http://schemas.openxmlformats.org/officeDocument/2006/relationships/slide" Target="slides/slide18.xml"/><Relationship Id="rId78" Type="http://schemas.openxmlformats.org/officeDocument/2006/relationships/slide" Target="slides/slide19.xml"/><Relationship Id="rId79" Type="http://schemas.openxmlformats.org/officeDocument/2006/relationships/slide" Target="slides/slide20.xml"/><Relationship Id="rId80" Type="http://schemas.openxmlformats.org/officeDocument/2006/relationships/slide" Target="slides/slide21.xml"/><Relationship Id="rId81" Type="http://schemas.openxmlformats.org/officeDocument/2006/relationships/slide" Target="slides/slide22.xml"/><Relationship Id="rId82" Type="http://schemas.openxmlformats.org/officeDocument/2006/relationships/slide" Target="slides/slide23.xml"/><Relationship Id="rId83" Type="http://schemas.openxmlformats.org/officeDocument/2006/relationships/slide" Target="slides/slide24.xml"/><Relationship Id="rId84" Type="http://schemas.openxmlformats.org/officeDocument/2006/relationships/slide" Target="slides/slide25.xml"/><Relationship Id="rId85" Type="http://schemas.openxmlformats.org/officeDocument/2006/relationships/slide" Target="slides/slide26.xml"/><Relationship Id="rId86" Type="http://schemas.openxmlformats.org/officeDocument/2006/relationships/slide" Target="slides/slide27.xml"/><Relationship Id="rId87" Type="http://schemas.openxmlformats.org/officeDocument/2006/relationships/slide" Target="slides/slide28.xml"/><Relationship Id="rId88" Type="http://schemas.openxmlformats.org/officeDocument/2006/relationships/slide" Target="slides/slide29.xml"/><Relationship Id="rId89" Type="http://schemas.openxmlformats.org/officeDocument/2006/relationships/slide" Target="slides/slide30.xml"/><Relationship Id="rId90" Type="http://schemas.openxmlformats.org/officeDocument/2006/relationships/slide" Target="slides/slide31.xml"/><Relationship Id="rId91" Type="http://schemas.openxmlformats.org/officeDocument/2006/relationships/slide" Target="slides/slide32.xml"/><Relationship Id="rId92" Type="http://schemas.openxmlformats.org/officeDocument/2006/relationships/slide" Target="slides/slide33.xml"/><Relationship Id="rId93" Type="http://schemas.openxmlformats.org/officeDocument/2006/relationships/slide" Target="slides/slide34.xml"/><Relationship Id="rId94" Type="http://schemas.openxmlformats.org/officeDocument/2006/relationships/slide" Target="slides/slide35.xml"/><Relationship Id="rId95" Type="http://schemas.openxmlformats.org/officeDocument/2006/relationships/slide" Target="slides/slide36.xml"/><Relationship Id="rId96" Type="http://schemas.openxmlformats.org/officeDocument/2006/relationships/slide" Target="slides/slide37.xml"/><Relationship Id="rId97" Type="http://schemas.openxmlformats.org/officeDocument/2006/relationships/slide" Target="slides/slide38.xml"/><Relationship Id="rId98" Type="http://schemas.openxmlformats.org/officeDocument/2006/relationships/slide" Target="slides/slide39.xml"/><Relationship Id="rId99" Type="http://schemas.openxmlformats.org/officeDocument/2006/relationships/slide" Target="slides/slide40.xml"/><Relationship Id="rId100" Type="http://schemas.openxmlformats.org/officeDocument/2006/relationships/slide" Target="slides/slide41.xml"/><Relationship Id="rId101" Type="http://schemas.openxmlformats.org/officeDocument/2006/relationships/slide" Target="slides/slide42.xml"/><Relationship Id="rId102" Type="http://schemas.openxmlformats.org/officeDocument/2006/relationships/slide" Target="slides/slide43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 type="dt" idx="17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PlaceHolder 5"/>
          <p:cNvSpPr>
            <a:spLocks noGrp="1"/>
          </p:cNvSpPr>
          <p:nvPr>
            <p:ph type="ftr" idx="17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PlaceHolder 6"/>
          <p:cNvSpPr>
            <a:spLocks noGrp="1"/>
          </p:cNvSpPr>
          <p:nvPr>
            <p:ph type="sldNum" idx="17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71E7-4112-4614-9D4C-7C2EEA04A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 P.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 P.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. 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. NOLI DE CAS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. 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. NOLI DE CAS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16-Nov-189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Vigan, Ilocos Sur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9-Feb-195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nil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Multiraci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6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ocano (paternal) and Spanish (maternal) desc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Mariano Quirin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Gregoria Rive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President of the Philippines 18-Apr-1948 to 30-Dec-195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16-Nov-189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Vigan, Ilocos Sur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9-Feb-195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nil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Multiraci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6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ocano (paternal) and Spanish (maternal) desc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Mariano Quirin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Gregoria Rive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President of the Philippines 18-Apr-1948 to 30-Dec-195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PIOLO PASC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PIOLO PASC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PH EJERCITO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PH EJERCITO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RIS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MARIAN RIV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RIS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MARIAN RIV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 RIZ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 RIZ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31-Aug-190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Iba, Zambales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t. Manunggal, Cebu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Accident - Air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7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service: Philippine Army (31st Infantry); Western Luzon Guerilla Fo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Exequiel Magsaysay (blacksmith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Perfecta del Fierro (schoolteache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30-Dec-1953 to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31-Aug-190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Iba, Zambales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t. Manunggal, Cebu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Accident - Air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7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service: Philippine Army (31st Infantry); Western Luzon Guerilla Fo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Exequiel Magsaysay (blacksmith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Perfecta del Fierro (schoolteache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30-Dec-1953 to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POLINARIO MAB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POLINARIO MAB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Carlos Polestico Garc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4-Nov-189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Talibon, Bohol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4-Jun-197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Quezon City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Hispan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8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Policronio Garcia (mayo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Ambrosia Poli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(23-Mar-1957 to 30-Dec-1961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LOS P.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Carlos Polestico Garc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4-Nov-189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Talibon, Bohol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4-Jun-197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Quezon City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Hispan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8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Policronio Garcia (mayo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Ambrosia Poli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(23-Mar-1957 to 30-Dec-1961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LOS P.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NDRES BONIFA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GRACIANO LOPEZ JA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NDRES BONIFA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GRACIANO LOPEZ JA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. MARCELO DEL PI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. MARCELO DEL PI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L.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L.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DEL V.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DEL V.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8-Sep-19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Lubao, Pampang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1-Apr-199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kati Medical Cen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s: Buried, Libingan ng mga Bayani, Taguig,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9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Urbano Macapag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Romana Pang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: Gloria Macapagal-Arroyo (President of the Philipp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30-Dec-1961 to 30-Dec-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8-Sep-19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Lubao, Pampang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1-Apr-199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kati Medical Cen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s: Buried, Libingan ng mga Bayani, Taguig,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9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Urbano Macapag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Romana Pang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: Gloria Macapagal-Arroyo (President of the Philipp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30-Dec-1961 to 30-Dec-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LOREN LEGA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IRIAM SANTI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LOREN LEGA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IRIAM SANTI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5-Jan-193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Fe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Oth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Former housewife turned political wi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José Cojuangco, S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sband: Benigno Aquino (Philippine Senator, m. 1955, five children, d. 1983 assassin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25-Feb-1986 to 30-Jun-19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Time Man of the Year 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5-Jan-193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Fe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Oth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Former housewife turned political wi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José Cojuangco, S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sband: Benigno Aquino (Philippine Senator, m. 1955, five children, d. 1983 assassin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25-Feb-1986 to 30-Jun-19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Time Man of the Year 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0C77-71AB-4D6E-AE82-2E9575DDA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AB0F-86B2-4B6A-BB41-1DBBABFA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689D3-184D-4643-81FD-3AC2E11B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3D881-8DD6-4144-9DDD-5D2B8974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B970F-892F-4B7B-BECF-66EA146F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06EF6A-61E8-4179-AB4E-F78E4527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E9F30-34A8-4919-B477-15FD91AC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F14B5-0B7A-4794-A7FF-2608818C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D031AD-76AD-41BC-9E54-C852B5D3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34C1D1-E098-47FB-8AB0-9973528EA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02B8A-33C8-4991-987A-13E42DE69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68E570-1673-4081-859B-B2D0F6717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E888-F8ED-46DC-A5EB-E1658A054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5179B-4072-4124-83CF-EA050E13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4FE525-CF21-4710-B134-F83F664D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9D948C-ADBE-406F-BD8D-898554C0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D5426-F027-4C2A-A655-63D5202B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5BF0CC-DFB6-484A-BD0E-B7EFC945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65A02-8DF0-45DB-A414-0DB81BE1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8E6E1-64DC-48A3-9B7E-D872BC13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C6CDA-67C4-40D3-B9DF-5B3BE08F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E8ABA4-0494-4F94-BFDA-8CEC8E6C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A7A254-6D66-4751-AFDC-3F48F6BFA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43D8-D280-4E62-AF3C-F586C2D96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78A030-82D6-438B-9598-7C1F40DAB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59D55-0118-4915-8E47-4095EBE7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AA686-9AF5-4082-ADDB-5FAC8F39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62A7E-4072-4DC0-B5E2-17C2E617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2BB9B-43AB-42DD-9AEC-30D90A7C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7A873-4FF5-4A0F-A56E-50D98A47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9C115-9E20-4EA8-9219-06505309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51716-BA40-45A5-AFEB-384FE3A3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D4A70-AAC1-481E-86B0-32B34DE0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B1542-AB18-4450-BF65-638492F2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EF90-7193-486D-B9B5-E635C459C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8EEF7-44B1-4463-9C03-057E5068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9F5AE-448C-408D-A71E-A5376EA0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E058D-9110-4850-B917-6CB07902B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726B1-0F93-4674-840D-E440B00F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CD131-B4DE-48C8-A036-603458EB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CED247-63BC-41C7-8FEA-3E9199CA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70A1B2-58B3-4815-8227-90BE9E48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69965B-9336-4DAD-BB24-97CBABD4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2775BF-4D17-4EF9-A89D-E589FFB6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97297A-7147-4FF3-9C59-E97EF743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5072-0873-42DD-8160-B8698430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DA1F7F-2716-40AE-A85C-535D8AD2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5167A-6A49-4175-BA48-DF708B30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EB5979-C45F-4B1F-9A19-14BA9231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658C6C-BA01-4F83-88CB-E638EACEB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02E725-4C2C-41E7-8BAA-909E92B68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A50F65-BEA6-45C1-BFB2-F81CEDEC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6B47AE-D9C0-44BB-A14C-EBF1DEDE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D720EC-07ED-4495-B108-0B127CE8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B3B79C-4750-4E91-8B77-71322F5A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DCAF9E-6D2A-4531-B07F-3D2B4E6A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5BC7-293D-4538-8683-FC49CCB9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3B7EE6-D1E0-43EB-8360-F14D8C14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A230BB-3911-48EB-A5E5-DB301C1C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D14095-134A-4140-B8CE-0BADFE82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5CD424-AF86-4370-97CF-AE824CAA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E2F269-DD2E-455A-9F1E-4ADD114E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CE1EE7-406D-4FBB-A20D-BBC90E6A8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7CD7CA-4201-4965-A35D-23444DFCF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772BD5-84C8-4C12-8D35-E4EDB16FA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D9E720-3AD5-43C7-9AE8-919FCD1C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8FB821-7174-41DE-B879-E9A4FCC2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2C4C-40D1-4744-BCDD-91B916AA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6F19BE-17C1-4CE9-A635-3BB835B3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940395-78D9-474C-9DC8-AD3118B7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55E697-C2A6-481C-A02F-327F7F98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7C23D8-B621-41D1-8692-C67C3062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40531C-832B-4405-A885-BE9FA304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FB863E-B5AC-4835-9F5B-DD6E35EF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571723-1B12-4BFA-9E7D-43C498DD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1381D6-786B-489F-8985-3E0F867BC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13BA74-96C3-4689-BBF7-46DDA3D8C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1455CB-1F52-4280-A66C-BA70AD344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802D-6C86-4508-9E36-EB960817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4B4B77-847D-475C-BC4B-0EF698B0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83B08C-9826-4CF8-9BB7-80099C14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67E240-9DDC-496B-BBAD-30F610A5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0128EF-A941-4616-AC66-5CB69596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61C4DA-56CC-4A02-9580-CCC4E033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D36EE4-9BC3-46F7-93C7-353CA2CD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9D9B06-AED5-4965-A19C-3EFED818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6BEE29-2311-4D75-9FCD-735F5EEB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ABA627-0110-426D-BFED-D37177B8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2455E7-741C-4EDB-B547-BD89DDCF9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2919-CFA1-486E-A1FB-5B37EA0B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67146B-6AE2-4CEA-B9DC-FF5300B81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6BBF69-0BA9-4DEF-8924-1C24971A2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8AFCBB-6567-4B4D-A8C3-358213E6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3667D4-69A9-4AC6-9FCF-BC39F876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AE7A15-9B5D-49DB-8C3B-EBAF0A43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B779B4-2CD7-48A0-9576-51613B41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1521CD-59DC-4E97-B8C7-136C58C3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139A05-0837-4C51-938D-4770ED34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DD78F5-FFBC-4C36-8C8F-3EBA7FB5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38FC94-DE28-4879-A632-AAA2375E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4DA9-2C4A-4E94-B640-CDE99BDB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5CD169-3B55-4CC1-97BA-5D106714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1AB99B-1158-4E1F-9EB6-F34C790AB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37BB56-B327-4AB3-B6A0-1CB970327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C77BDF-FDEE-400F-B702-1FC563CF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E4C348-0584-44BE-8C4E-94BA4FDA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A4D492-897C-4D26-B669-6866863A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F0B3CC-482C-4CD4-B5E2-226255B3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79524C-0177-4E7F-8A04-20D7476D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C04CA1-B2A5-4F5E-A0AE-A0EC5AA8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BF8B40-F1C8-49D6-AEB8-9C0945DB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6CAC-B0C0-4EE7-86FD-9772D22E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19E6-1780-49CD-ABC3-D7AFF78D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CB1D90-7388-4B3D-A727-703F1ED5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0C0C0D-1FF3-482E-9838-A28CB2EB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41AFF5-B886-4914-B2B2-55486C60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77C5D0-1558-4D18-9120-F2F422585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6C2154-A7B7-44FB-8EED-18863501A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0666EE-7430-4FF3-AFC0-7C42857D3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76F429-071D-4000-BFA2-FDE080ED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E82F02-F524-4B05-B677-D5AB062F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86E8A3-4537-4CD0-B861-366C07D2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B51871-B0B1-4648-8A26-72A4E393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FB24-DD34-490B-BC6E-CC56A1BB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7234EB-1C16-449E-9076-6997810C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88239E-433A-46CF-954E-0671EE1F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6438B5-2211-4A2F-B1B4-4C87AF96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DC327A-62D3-448F-9360-E29029E6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C56F94-6B66-4809-A77F-27DFA2AB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3799CD-C1E5-4972-8D8C-AC538BE4D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A61CAC-CC68-49AE-846F-712B7B95B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1623C0-F647-41FD-A5E4-6383955E9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CC0706-8BE4-4683-905F-F9ED2743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4CD3C4-54D3-48EA-BDC9-33EBFB12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C3B7-D5FE-4654-8130-856B0AAC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557290-49B3-4257-A62D-D7B10B9E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F94874-9348-4041-B54A-14970CB2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665648-E8F0-4C97-ABBA-8666707A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085241-4F31-45CC-9C7C-4BA84642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3CC2F7-5068-4132-83BE-4F99EBA9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83BC85-C82F-4425-801A-354AD72B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980C23-D7D7-4A83-8E92-CBA78C50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DD4E70-6286-485E-B145-0763B2C54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128E02-9DD6-472F-92F1-7E0674125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AE0E54-41BB-46A8-B4A1-F99D91AFF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0C3D-E8ED-4B98-82B7-2557FD215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908924-90AB-4736-935D-4852113C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704809-495F-4B1B-AC38-50D697D6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C32570-7EC1-4303-BFAA-BEEFD119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A88F1D-94DD-4F4A-9D6D-B3D9DD92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4FF7B1-9F76-4813-AE21-5F3F152C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910EAF-5C5F-4E44-BE75-6B3E72C9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B2F32C-9EAD-485B-8ECA-56FF7A1F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8D549A-8FC5-44A2-BE6B-E2FC8AB1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0992FA-B15D-402D-B1D4-46B78E9A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348230-A0D4-4FD6-8BAB-7004039BB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7F48-F48F-4379-A0AB-B18D42952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8AB065-AEF7-47C4-85F0-BC2E5ADD7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E650EA-4BFD-4BF1-AD71-2A0D5709D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EB8E50-006E-4258-B0AB-D8A82DB2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86CDFC-18D0-41B6-995A-80B8047E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1654D0-311D-4D40-BE04-1B6AC184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97A979-79B4-4EFE-A5C9-65FE060D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C2E6CC-1FAE-465E-9CA2-8EF8FCD0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BAFD47-850A-4AC7-921A-253F31A9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9069C2-E603-416F-A5EE-2C8924E1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1F2A83-BE97-4AAB-846B-2F9CA2E6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BF9DC-D4CC-4A19-8F97-9F30195D8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845849-ADF9-4850-8A3B-4F875EAD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724465-2718-4923-B630-7262B9AE0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099196-0C60-47CE-844F-B5F0D39C5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49043D-BD6A-485B-AE89-1BC4079EC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7FB453-92D0-4EE5-BA2A-4558DDB6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91C707-9A9E-466D-BA7F-A6252083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1EE4E6-862C-4512-A22F-857A1D78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01560A-DE9E-45BF-9B43-6099D5EC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554773-CD91-43D9-8198-4A495827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A62BD6-4EAE-4DB7-B96C-744B0952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FDC4A-4FF5-4165-B576-BFD345B7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F4E09C-175A-420B-9408-B7B0D0FE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4E9621-75ED-46DC-A52D-A6C8238F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A130FF-FFD1-42EF-A37C-D80B0820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445601-BDFB-4B9F-A4E2-0A2751BB1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7E5748-2C3B-4265-B096-28D6F394E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B55C0B-C03A-4474-9CF9-5169A1E0E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8060BA-E5D3-4EF4-92EB-16DD1D8F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E27BC4-3B65-4D30-80D7-78042408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D80DEB-8B97-4461-8988-0C4EFD44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BF8E53-CAFA-4F43-B939-3FA86B6A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C3CE2-5461-4510-B7F7-24714BBC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0F203F-8807-4814-B1CC-D5C16E52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1FEC2C-3068-4760-B41A-1EB1667B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187431-C301-44D0-BC5E-88587481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83FF93-C433-4A63-A8B6-DEA74E9D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D13007-1C46-4B28-8313-A2AFF6F5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D21065-BDFF-4522-A062-F86A283AF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6240CC-698A-4F8A-81A8-B525CE233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1DA0DD-9E48-439D-A6A3-1C6F09D2A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AAC017-DC84-409B-A30D-EF573DCA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D3DB48-B9A3-417B-AFA2-49A51E48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2AF25-5284-417E-AE18-8106C933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A9D113-021A-464A-BD5F-C3F1A115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42308A-8597-41B2-9A2E-BF27BAEF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84BC7C-9080-425A-9213-64110DFD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168D3E-8469-4056-92CF-E1E11A5F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908737-C934-4A26-8D65-EDE52A97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762154-B7DF-475E-8781-BFA8F9E2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9A70C9-2411-45DC-BC14-8F416B72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2DECF1-4BDA-4F33-86C0-F2A4051E9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5B1AE5-A6D6-474E-8F5E-10B89C1DE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8BD686-9D3E-4D63-89DC-E7174798F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97FDA-4D38-4F55-896D-0E46C108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24523F-7FCF-4E28-B260-65B897F7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CF5CD1B-ACCA-40EE-AA3A-58F2B2F5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43BE01B-8162-4668-8DD8-897C4B56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7FCE3F-F1C7-4833-9538-E82886C0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473719-6EB2-432E-891B-ECBB8374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B0F221-B6CD-41AB-A7FC-A2975CD1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72453CB-4A5B-4857-B3F9-8F5141B8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555426-A61D-49C9-877B-4A8BCAD7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5EF1E8-B101-43C9-A9B3-C42862AE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9B2CCA-4B2E-46ED-A4F8-931CD5633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D670-05EB-442D-9AA9-A5BC8CDD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4292C-71CD-4D30-A2A7-048C735B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07FD72D-8634-45C2-BA1E-2DE0FC0EA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C53AAFB-5F68-45A2-BCDB-673BFD532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9BEC608-D797-48F5-AAD4-FD4DDB68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BEAE86-C004-4450-9769-46810971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3C77B61-A6B7-4F68-8BE0-556121BB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01EC320-3C58-49F9-B2B9-A4B5D03C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FE1157-43E7-40C0-8419-D79BBFD9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092A9D2-ED49-41CC-9F11-D90DA568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FA4B348-6CEB-47FE-8FB1-C6D29A05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FBB07D6-FFDC-4B79-8F90-5FB03D8C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0435F-275F-4919-95A7-84AF4321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AE48AF-7623-41EF-9EFE-2F0194FC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79FAE3E-2FDC-414D-8E2E-98C20B36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4CD055C-96FF-4A91-84DE-A83646AA8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E3697E3-D94D-4CD2-8259-0D9948368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CC1CEA0-3FE8-4964-98E8-2A0238FB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05F59F-61B7-4FB6-BB3D-AB204E54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3378A5D-CBEB-40FC-A066-AD31A851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57B25A8-2799-4172-8D0A-AFCC4684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660DF45-8663-4894-AF44-548DFF54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A518EAD-26DD-40A4-B17C-C1C659B8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33BE0-093E-40E9-A1CC-38DEBABA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7F496AF-4924-40D4-952E-7FC91905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F0C846B-3377-4046-BF2B-5ACC8DC8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8421A86-65F7-4B76-A1F7-0664C70C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E7BBE95-84AC-4155-9DAA-E5FAD17F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DCB1F3D-6C2F-40EF-887C-6A3A49911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883EC46-A56B-4823-A7CD-C5C103910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D5B4C58-886E-47CC-B2A1-FF377231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8CC7FEA-4F86-4790-B854-3FE147FF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8335FE4-0399-462E-9B96-EC650093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78F291E-BDA0-4977-AE52-2656648B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D33FE-7B17-470C-9B66-20CE2918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B62DF61-321A-431A-9A77-02E545DD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E6855CB-2A04-41B6-9215-CC5C2CD3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D209F9-91F0-4275-BF37-3D1BA215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336EB28-18B9-4253-A8F3-912A90D9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ADB918F-A804-40A0-86F0-397EF5F2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25693EA-C28D-4F5E-BC0D-F81C68F52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C0DDFC6-1127-4AD0-BE1F-BEF752B54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B02D98E-A23D-4DCE-8883-1A5990299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66585D1-94CB-4E93-A511-952BD871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7451E5D-B67B-4218-80F5-4A3A042C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562F6-02E6-41B4-8137-32EA01B0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2B7D097-7A0A-4639-A05A-46BD5179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DE1219B-FB1E-461D-8D0A-3855CB2C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777EF06-702B-4DFE-897F-2F5A8EB5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6D651AA-22D2-4621-9BE8-D3025E3D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2379B0E-CB9D-4305-A787-B5E7354D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75B281D-7E3A-4256-9843-1162B099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D444EBD-E322-44D8-ADDB-631A71F7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8911E0E-A1C0-46B2-BC3A-F96608593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A5ED72D-9649-44BD-8C38-568EE7A30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A314479-BD5D-45FA-B474-F0C7E475E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6BB55-6C11-42C1-8EF5-35804F21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A051233-9BC9-4DCC-BF33-6D3933EE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9C2F512-28F2-440F-921A-D8AE0973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FFE2E0D-0A95-4261-B2C5-DD6286B5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22436AA-1088-4F7C-AA17-6B81E5E5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E7E196E-AF25-45C8-855F-0DC975F1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DEFCC13-26D2-4AEC-8C3F-F9B4A37A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C5AA4E3-38B0-420C-B6EE-741901AC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FFF30C9-703F-49E7-8315-6FDA40B1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D7DC305-7DF5-4EB4-A1B6-ED537AD4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631D964-BBB7-46CB-B2CF-B1BDDF182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AAC58-E4C2-4EE1-96B9-BCAE68A0D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583ED5E-191F-41C3-9C4E-CDA549D87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2A91B2D-83AD-4400-8A1C-0C6CD88D6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5ECD279-7C93-4B85-96F1-85DF19BE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40DDEE0-6715-4266-A180-04BFC0CB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057F54D-3C25-4F28-BB29-A6FD0741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8D94AE4-C207-4DF8-90E4-8F2A1E43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BF057AE-FA78-4A0F-95A8-7A7AD306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7EC8480-B67B-4AB4-BAB8-66BDF6E9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ADE4156-9AE8-4F71-A508-F78A6003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36A1488-11C9-4A3C-A482-CA839901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F7615E-701F-4842-B7E7-D87F6A418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258871F-378E-4FAC-AF62-E02BEB5E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919406A-BBD5-4A03-B0CB-8D5C396FC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799E208-F252-4F7F-8836-C4794604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5334672-4758-4842-B9C0-0A52D3566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3A987F7-78B4-4BCC-A8BD-AE367F3F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56627EC-E1B7-4C99-97A5-10683554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C9BB7C2-A114-4CE0-B584-AF352D95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DB172A5-4921-4D8C-8C6D-8007332E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2255786-9C13-4335-878B-FEC7AAE6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4106FDD-62EF-4AEB-9E3D-36E34B0B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21C024-A65A-4499-BB79-35F4409B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AA79197-FBAD-471C-9045-B8AEF5DE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0873801-4208-4592-A240-AE7BC479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8801FE3-A2DE-45A9-89A6-FE05B53E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E79BDC2-68B7-4580-AC6D-F0AB9A1C8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6EFA339-E124-43ED-9AB8-9E067FAB7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067A44F-9334-4EBD-AAFD-7AEA71C49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4ACB314-3107-4012-A918-502D7892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6A35AAA-90B0-4576-B35F-CE481588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5890AC7-2130-4752-A530-BCB1F129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76E76DA-27BD-496C-858C-B2990F83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BCC1DD-306B-4955-902A-FE8D8B01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FA24F64-EA97-49F3-9223-8945DA2A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6556053-A01E-4DAD-B3DF-C89427BB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5DC7052-D959-4904-835E-638F205B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EE7461A-9259-403C-87B6-BB0A8E78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CF70A0A-2494-4D9B-A52A-06EBAF48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5FA2D08-AFE5-4C5A-BB38-FD50D45E7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CEBC8F4-63E7-42FE-B869-28B9AE40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903E292-A327-4410-AC6B-04B88489D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2248677-101F-496F-BDEA-51E6507C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309441B-5E22-41D8-8CB6-B98DFCAA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89E5-1D72-4712-AECD-887D8933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87A794-B6C9-4E76-8F85-DEA3F395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620DCD3-BD7F-4ED5-BCD2-467EF5C2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487B53C-B826-4D3D-A22C-F16E4993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FF22CC3-365C-4D9E-A5F9-C34E9E54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06E7475-BA1B-4DA2-A663-A67AACA3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9EEFD65-BE55-481A-B6B7-1E3C47D3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781693F-7308-4D9F-8A9C-522268FD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91CC5ED-6534-4BFE-937F-1A8D9D12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83CCDDF-B076-42BE-836C-B75FFB2EA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7C30084-A727-46BF-9F3B-7C4581C2D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DD7005B-3542-4595-B06F-6CBAC54C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2E1273-6DF9-43B2-8C6D-74DD70C0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190C24D-8094-4F36-AD7E-47A8C8FE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E7AD6B6-FB50-4536-AC54-186C9A3C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A80FDCA-4D58-456E-929C-98B33339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F4E0C8A-7E89-4B6D-BEC3-51A69BD2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D113B37-DA8E-4470-8959-7691E3BF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EE271BE-2392-43EF-91E4-AE2DB4F0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6A4C7BD-C0B9-4C6A-BD2D-34FB8078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FD62B53-C710-4CC1-B8EA-41C79809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2058937-A315-4FC2-8F61-976AA971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5EA234F-D81B-4A21-923F-0F1D1E1F0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C81326-4B6B-465E-9AE1-166E674E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927F1B5-C6C6-4A84-AAA4-31BD9FAF4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506C86A-FC35-44A0-993A-607547A0B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A6B5DED-43DC-400A-921D-1E601E1B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C70093D-A1BB-4E5B-A37F-F49C460D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5241686-BF56-4161-9643-B4923D0F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CADF0BA-84E2-4092-BB9A-D0F4AE58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4EABD1E-5514-49CA-B984-5EB98192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F124EE6-3BF0-4F5E-B150-419AE6EF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3D9172F-2FE8-4B24-80D2-C77DB2FA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603D04C-6C4F-4730-A5A2-6EFF27B8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4F5A11-4ED2-4557-8377-B3F1C082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1D20C8F-39F9-4DE5-BB7C-D77C1B71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CA3F3DB-A719-4219-B7F9-A76D28D2E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26B8941-5163-4812-9C4E-3FD8D2010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E2E80DE-41D8-423D-9DBD-31456F526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086E118-9199-4D42-B9B8-0FBDFF76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4E1CE7A-355A-4FB8-9647-F3795C30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4271D85-2576-422B-A1DD-299F381E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0A10961-503B-4A88-A2F3-C6657400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081C6E9-9514-412E-B81E-39CD4EEA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41E19D5-1B46-489F-A7B4-6F9F855F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D805B2-AFA4-4253-A93C-A8B430E4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40AA8B9-A858-4C53-8536-D69038C9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9D603AA-E716-4AA5-A821-62BDE67E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902B3C8-2DD0-4EBC-A865-60AC4BB1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842B004-D816-4637-8C3C-EB1EC7351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4C39938-777F-43BE-89AF-9AFD3A3B9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69875DA-B059-41BA-8D11-EAF7DBC53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F503076-3D5A-4BDE-81A2-70343C3A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6B9B4F2-A071-41E9-A874-A8743453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F27A68F-9F41-4C1A-9982-ECA1F785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D640FB1-AD52-4F3A-88B6-C0765A95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B63CC7-0A7C-47AC-B7F4-8064B08E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45D94E3-07C2-4A00-8376-6FB24851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48B0B11-4B8E-4668-9B10-B6929CC3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9D71B6B-9F6F-410B-9792-28531E49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9B68116-FEC0-4031-A4EF-970DDD6F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DCE3743-A8EC-43D7-8B58-1E9D250A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A8969C4-32AE-482D-9190-E77E633A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1545B1E-41E2-4F0C-86C3-21CB703D6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A237207-A741-44DB-90E0-868D80A7F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B6FB784-CD35-4582-AB05-5AB92A0D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94D0F36-07D7-406A-9B9B-79C2D533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8D551E-5B37-4F30-A0A0-21B83F6E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F829A57-13CF-4CD5-878E-5746CA83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95E9FD4-071D-4C6B-9ADA-CC616283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DAE1A40-867D-47E2-8D66-3D38EAB6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3BD2617-C395-4737-8BAA-04CBDC83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3EE3073-E8A4-4C49-ACED-07F416BA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8301B0D-876B-4E14-9476-D194E5E2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E3F4127-03D8-4C40-A2A9-0D57E0AD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AA143C0-5482-4626-9E25-6ED0B35CA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1F4F507-5D36-4A1B-B3A9-CAE8ECA3A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DAF79B7-FE35-4E8C-AB1B-011ACC711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B13C85-4677-4BD2-96C4-D635A0591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DB7F668-E569-4333-96E3-3103DE6E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296FEE9-9CED-4C74-9304-A61FE311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1D9495E-B940-4C06-9D5C-40AAB54F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EB5E03F-D46F-48F9-A85C-CCE9004A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51D53FD-9475-4FBE-9D0E-DB283564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0B11FC9-A4B0-450B-A067-89472A2A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5BC782B-643F-4875-8BF9-06C0C4D2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78A5960-4DE0-40D2-9F30-B09B6A24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97EB706-76C6-44BD-B974-D60F5345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95279C7-C9DC-46CD-B1E5-E6E1ACA18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D174CD-D8BA-45FF-8D87-7139C21F9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F158050-665B-4BEF-9AD8-BBAF64107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83E56EA-5F7D-4498-A8EE-37D72F61B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BAC7766-E157-44AB-B17A-4AD834C9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8F2F80C-2638-47C1-B80B-5C9C74E7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0970756-F3E8-4CA8-9524-7EBA8049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4438BAB-22D4-4E89-9F2C-C3EDF37C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B07F48A-E6F5-4A6F-AAD1-BE9E6AC2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4D28F53-0DBA-4C33-B5AD-F2126EA1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5FDE004-416C-4F34-B053-27646F2D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AED493B-2524-4672-A992-3C13ADAE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B4DF2-DF07-4651-8A80-869140126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172124A-D320-46CA-A422-CE812D16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8D094B1-402C-46D9-B9C5-3EC4D38F3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21B37B9-7C98-4D80-9759-3F123FF6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36ABB51-1703-4016-8423-096E2E5B3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E8EFF8C-295B-4C25-B51A-BF4CCA39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63B110A-8217-44A7-A1B9-1BCD12AE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43A56DE-164C-4072-9666-12FA4A66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CA40DFE-B8BB-4CFC-8137-BD6268FA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1C302C8-1948-4920-A66A-0A264B8B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880D673-BA7E-4FEB-86C9-4D7B3768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60AE-E375-4FF4-8BFF-BF8D78E9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0E53E-EF60-4C60-8DED-8912D3A5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1A6F359-CC5D-4A70-B16B-5299FECA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F100D1C-86B8-4567-8836-947BF9DD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99C3B41-9B16-4B81-923A-69579242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2CAF80B-5C6B-4698-B63B-7DAF620C7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A5B473B-5029-49B5-B823-95123793C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F4432B8-3865-4CF1-A366-5476E186C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C8911B9-217B-4FCF-852D-146A165C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D85AF2F-8C3C-434F-BA14-A4FB9593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A7C4A97-44DF-426E-9FCC-4E04F2AE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F3FD682-9514-40E7-9848-53893A33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0277A-C9ED-4BDA-84CB-1BE0E773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A1C78C4-6B81-42EF-BF4C-0E7D960D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2790480-D2A6-4E12-8399-C9F1DA9E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7A15E93-D12A-4DF8-9568-882A1C49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F60F0C8-2F98-4714-B721-F0043EAA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DD84394-BCAB-4822-8B5A-5EB84E14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5B3402B-807B-4783-BC0B-D653800DE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BB15052-1900-4817-A870-9ED9D6898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BB11EEA-D723-4B2E-8518-A289754B3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3B17174-77B6-48BD-9595-CECD5FB4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D68FD11-7124-41FB-AEFD-17A1C6E2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02DBE-627C-4E22-8DFA-50BA7DDB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7B1A928-EBD5-4C46-83E3-3404B64C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6219D3B-64DE-4028-9797-51C2B25B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3C4FF82-D641-4C7E-8FB1-82935FA4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E5DE713-4583-40BF-8604-157EA6B3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BA5C627-5F7B-453F-ABB1-54F655E0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DCF8ED8-7480-4670-99FA-13D6F1D0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4157712-0463-4CAE-A242-ACDDB274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FADBF99-D32E-4573-AC96-DCEE672C1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E1085ED-D8D6-4426-AA4E-6C053CB17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54DED3A-55D2-4D19-B7BB-2F341D6B1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FCC86-2E81-4CB8-95A6-C71AC03D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33513BC-880F-4462-AB27-9EF612C1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3D88DE4-D4D7-42DE-BC34-EF1E68CC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8657786-7514-4DB7-A58C-042F1410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A0F8DAA-34FB-4D3C-9750-6CADF25B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5E67BF7-C04F-453F-B804-7A7BAD2B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3309235-06EC-42FA-A886-F38F9D57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8833DF8-8031-46A4-947B-B648C527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CCDFF66-D48B-43DD-98D8-F711D144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E9FBA79-BB28-4C09-A935-62DBEEE6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70D1B09-F60F-4018-B681-6FC511BD0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0EF45-6C18-4E52-A56D-5BE0E17E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57201D6-FFDD-4697-900E-4F2783C3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2FDD8E5-51AB-4181-90CE-74453EAD1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F666AC6-A528-4CB4-9001-AC653EA2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2A663A6-BD54-4136-B2AB-81094A57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98FA90A-FD4F-42B0-AF24-7AC1A0C4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98F8040-95DA-42FC-91C6-FDEE25D1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AEEBBE4-2A77-4B67-B95B-9BDFD740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B6DF6E2-D23B-463C-B9B8-34BA0B1A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92ADADE-1752-4FF6-BF12-F5DF53C6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82403B8-42D4-41D6-8CB4-058439D1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385FD-74EB-4225-86CB-51E377DD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682A903-DFD6-4DE8-9034-292165B3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667BCAF-E52F-4F47-83E9-7CB34F778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4434CAC-D783-45B2-89BC-33E11DDD6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826E502-796A-47D0-818D-3269A7C83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E3B5D66-4302-4012-90EC-A518A2CC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36BCF70-6CC5-4BF7-9604-CD2874BB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23F91F2-7B55-4ECC-AA9B-A234F69B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557DEDE-C8D5-4309-B0E9-83E89CCE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FD0BE8E-3FD4-4C49-BEEA-A83410CB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9B07695-FC85-454F-80DF-E7CC1CD3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C52A6-5892-45CF-93A8-0AABB0C3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B89E02F-BD3D-4A3F-92EC-0710BCDB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F027412-FC74-477F-B130-B1543EF5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1A8C960-E82D-40CA-9E8B-2950CAAA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2502220-D94E-4359-8953-D4F62EFEA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F90B55B-AF4B-4F08-9C37-EB5FB6650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CC3BB73-DFE2-4BA3-9441-6E2D1E9B1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A18DC7B-40C4-4D9E-8091-5F8993E8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228C65D-1CEC-4E1C-B7A9-96E12055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45F0A76-0DD9-431F-96EB-ADA4D4C2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CBEFA3A-ED2E-4A99-BDBE-7EF61601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EFAFD-F5D3-49D4-9334-401DC8EE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D551D37-7560-4F5B-BA5C-A2CE0A52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E8D02DD-FFE1-4343-B985-79692595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B08989C-00BD-447A-A832-DB2355BB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7EDF6CB-0A9E-4E66-9F34-24EF5FEB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0932BD4-6FB2-4359-96B8-05D62D2D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A1EE3C6-CD1D-42D8-B21B-96B640940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7456AEB-C300-45D3-9EEA-5BB6B9E4C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4B83054-3C45-406A-A2F0-745DA453E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20A8A14-C5D2-4ACB-A17F-2CF876F3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019FA1B-92C3-43CE-8AE9-E5460300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34EE1-4C21-4149-BB68-2FCB8BB7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19C8BEB-A4A0-4334-8C4D-C8C7EC44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F7150B7-819B-4CC0-BCB9-23D38483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6817B18-D423-4866-B99B-FF4574DA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DA37588-F4D4-4B0B-8DB8-726C81B1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EC2FB01-FEE6-46E9-A084-78F5A881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DCE730D-759A-4915-9B9D-2BAB8126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6AEDADD-D7FF-4C6F-9DA8-CE248483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F740FB7-6C36-4C80-AD04-8FFE92FC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24C9C4C-E00C-4F33-9295-C5E5A0E17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DFB351D-97EA-49E5-A85F-7F249536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D3A83-272F-4208-95ED-47A9AD18B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1B0871E-12DB-416C-BC3B-F1FDDE96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ACFEEA0-B551-4CBB-B30D-6B5A34EF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9063C12-9D0E-4926-8034-4EE4073F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BF9B63F-8789-473B-9DBC-78F2B47A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4C95153-AA1C-4343-ACB1-F1E3B2A4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C2BBB97-3550-4801-9D22-A6DD0AEC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DC78BDF-16AA-40AA-A296-5B73A605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D5B7CDC-912C-4692-BF7A-9BC7E60E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40B5D72-463E-4F63-813A-3FBDBB93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72FE5CB-3065-4AD5-8637-323586B1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1BC8-5FE4-404B-84A9-CC46298F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4F773-336C-497F-9CE1-156EDADCB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CB9F587-51F1-4D6C-AF47-EB5718DD2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A6EAB67F-BF0E-4318-937C-93D0C31FF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D5938636-7873-4E13-927B-92FCE92D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E329A930-D011-4F41-A79E-29B44B27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FE92A9FE-657B-4D2E-AEC9-95FB7498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017B1F13-B615-4F79-A9ED-B8B143A5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1745DEF8-27FC-4DFF-9BE9-02200C96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A527C48B-812D-4F7C-AAA0-5F214866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B95644AE-9937-439A-9603-C690035C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96418F41-2F71-49C2-9605-70FF88F1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48FAA-63BE-4DA2-B62A-D9F93E30A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14B17D33-FC65-4B32-BBEF-E7733A2D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9BAA49E9-B361-4520-BF11-BBDCFBB42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782A2BF6-B751-4F5A-9347-9F529E470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01DE740-889B-41B3-899C-BF6A228BA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B3B3FF6-57DB-478C-A580-1EF66750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66D98B1-E933-437D-BF7C-C770319C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76E5005-B938-4090-8F17-5F3B2749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503A13C-3D5F-4EFF-BA37-C9480DE2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3AC199A-4F35-4693-AD43-94FCD3B2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BC16FF9-171C-4883-AA48-33A48753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3789B-1E64-445F-A90E-291B7B7F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B277034-09AD-4984-99D6-30D105C1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E83EE52-A55B-491B-A8D0-93A1D1BA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2749E91-442C-4524-9A88-EC4EC196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46640B5-1DF3-4317-BB01-5EE3888D3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CCB4AA4-21C5-4E26-AA42-FB514D47C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ED17903-FF94-4C9F-BE12-3FBF1C67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47A73D1-907E-4A27-B3B8-4882172D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4D30B15-EF05-4F40-8EF3-6CC8EDA0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FCEDB70-8DA5-45F6-99EB-5F7A9327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29D765B-5990-4C7D-83E2-6D47230B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6030C-3899-43F4-8325-DAC9EC06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4EFA8FA-A294-4B79-827A-006AED6E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A8AE4D8-ABF4-4253-9472-A3C44CE5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9BF34A1-808D-4E0E-9ACE-6F731811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6E72404-5AB1-4392-BA84-B3CD46BE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97C259E-B69E-43A6-BB61-83CF5F73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B1C7811-39C9-4DED-842E-CA8017AD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E578A36-9154-4A2F-BE6C-EC4B3044B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721E9F4-4AFD-4CDD-9231-17D8E8773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A6C334C-696A-456E-A337-6FA43C63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AC7B674-DE6F-448A-8672-8438580C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0BB57-4CF1-47B3-84A7-51852829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30A49DC-3FB0-4FBF-BDDD-69305C1F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8A30CF9-F721-44BB-B8D0-46016BC6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2E53033-8640-4EE9-B561-5BBEEB6B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E1C8D20-12E8-4CE8-A55E-5D4F4D31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C38C5D2-B240-4A46-ACF8-8C73465A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4EE3D49-FBFD-46E3-BDE5-500DD844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842E110-8A81-493C-9B51-EADE163F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AC9F673-F4E9-471D-9746-0F2C93366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257BF75-3273-437D-B8A9-DF5C0453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6C04566-A542-4A2E-B0D3-CBA805235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3F17B-9B00-45E4-AFE8-67648999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43DEDAA-C56E-4203-8173-8ECCB46C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07EB582-5EB6-43BB-9E06-8791FB2D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0AB68E3-1504-4B8A-9BEE-081AAEA3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4C1728C-1621-4CA3-BC23-42A92C59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F3448ED-E20B-43C3-B0E1-146EECC5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5C78AB3-48F0-4E32-B5CA-F5AFB0B8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B14C376-EA52-447D-80AE-9FC2C524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6271F48-CE73-4DC9-ADD6-74A9EAA9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189535C-5C8C-4008-9E2D-2EFBBA2B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F97887E-3853-4CC3-8BD7-7144239C0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9FCBD-4868-4967-8B7D-B299C500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81C2FDB-A6DA-4191-A9AA-E4055A3A3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F079576-BBF7-4EAB-93AF-279B0C4DC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E407F5F-2E57-41B7-A703-D1FA8884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94E964B-88D7-48BC-A5D1-F571FE2E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56C1632-3360-4DC8-BE4A-3C5DA1E0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067E5A8-2ED5-4440-95DB-9A7DC73D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87D239B-8893-4D2D-95AD-A1A94B74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2A732B3-13DC-4A18-98E0-AC7CDEA2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30D4610-F415-45B7-8E6F-ED8ED260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2D82392-13F7-42E2-85E9-08FC4CE0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F45C9-3850-4A93-AFFD-4394A3A5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0452C58-DFCE-4C96-8D8B-E0853329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8951D90-2A11-47A5-AF84-E0280A9CD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153E20B-308A-47EC-8BD9-8A2CD01A5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9081BA6-C532-4FCB-9F8D-00DF2A16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FD1450D-3886-43A4-8779-52363342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4C1FF2C-91D4-4398-8A9F-A6BC5AF5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6B519BF-A653-41B3-BB40-8DC3537C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A3BABEC-1FD2-460C-8CF7-3BECA9C6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5AA273F-FFD2-4C0F-AF0C-DF3A5D07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318E5D9-83D0-4BCE-B19E-A5269902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E757C-023F-446E-AF80-2F06C1D6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90AA71E-1E89-48BB-87DD-7C9FFC0F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52AE662-A38C-4A74-846D-3499FE6C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BE9F9E2-AB97-4546-9D5A-B97A21DF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CA7AA23-ECD5-4C75-BCD1-78C7A13B0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C2AC689-2EE7-4F9D-925E-53FFEF06C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64643-7825-460E-9393-0F7AAAF6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7F7F-0A14-4E29-A8F1-713EC185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21A4E-ACB7-4000-AE7E-C427C977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9BA71-B826-4179-84F5-ADB1ECF64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B8262-1AC2-40E1-A2AB-6BC0FE0B5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E881C8-C297-4E13-BDAA-21CCEBC73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6AE55A-16A2-4F93-86A3-BEC628F0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3D2500-7C3B-494C-A1F2-2330593D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15532B-2D04-4CED-AC04-E8973216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64DE15-17A9-4F1E-965B-FF7F6B45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0CC935-9556-4CF8-8BEF-C7DA0E57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96094C-A5ED-4B60-B1B0-B1C5C498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E352-AE42-4FB7-8E5C-E5056795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009D63-25D8-4AEC-9815-EBDB937E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646668-D03B-4466-9EE9-A18980DE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C397D7-E12F-4D63-9144-28007534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C890B4-16F2-4B96-A39D-BF07439C6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DF5372-7680-4E9D-A53A-3C64BC761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A6CB8-D53B-42FF-97A9-9758D7FFF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FDA4D-C00B-452C-A80E-ADA23AD9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A8B8B-9B3D-4578-991E-8B94BF98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C9E3B-BB6E-4D74-98CC-3CBD18EF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623E8-3329-4092-BF04-7A7AA44E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997F-1E07-4F79-A254-630C18DB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0A611-F26C-4D96-9E02-B554AA28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844CB-E5C0-49F9-AC44-68BCCBEE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33014-D30A-41A1-9D04-1D371EDF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E998C-9F27-44B4-A63D-6ED07377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07F34-945F-4A81-8474-9958C32A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12F3F-A19C-4A30-8023-4F0A6CE86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937AF-970B-4251-8454-CACE90419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F8800-D98B-4590-AEEB-CEA37BBC6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6DE36-1DD1-4C6D-AB89-27B77043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7B691-8E2D-4882-A928-6E55AE73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541.xml"/><Relationship Id="rId8" Type="http://schemas.openxmlformats.org/officeDocument/2006/relationships/slideLayout" Target="../slideLayouts/slideLayout542.xml"/><Relationship Id="rId9" Type="http://schemas.openxmlformats.org/officeDocument/2006/relationships/slideLayout" Target="../slideLayouts/slideLayout543.xml"/><Relationship Id="rId10" Type="http://schemas.openxmlformats.org/officeDocument/2006/relationships/slideLayout" Target="../slideLayouts/slideLayout544.xml"/><Relationship Id="rId11" Type="http://schemas.openxmlformats.org/officeDocument/2006/relationships/slideLayout" Target="../slideLayouts/slideLayout545.xml"/><Relationship Id="rId12" Type="http://schemas.openxmlformats.org/officeDocument/2006/relationships/slideLayout" Target="../slideLayouts/slideLayout546.xml"/><Relationship Id="rId13" Type="http://schemas.openxmlformats.org/officeDocument/2006/relationships/slideLayout" Target="../slideLayouts/slideLayout547.xml"/><Relationship Id="rId14" Type="http://schemas.openxmlformats.org/officeDocument/2006/relationships/slideLayout" Target="../slideLayouts/slideLayout548.xml"/><Relationship Id="rId15" Type="http://schemas.openxmlformats.org/officeDocument/2006/relationships/slideLayout" Target="../slideLayouts/slideLayout549.xml"/><Relationship Id="rId16" Type="http://schemas.openxmlformats.org/officeDocument/2006/relationships/slideLayout" Target="../slideLayouts/slideLayout550.xml"/><Relationship Id="rId17" Type="http://schemas.openxmlformats.org/officeDocument/2006/relationships/slideLayout" Target="../slideLayouts/slideLayout551.xml"/><Relationship Id="rId18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A0E5-E239-441B-9839-7E4BEFA7C94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6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F052-B12C-499B-881C-005EE35E8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2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2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2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D01B-CD56-4A10-8623-E9992E81A55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7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40B3-42F0-4A55-B2E9-69D6A932BD1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16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6684-D8AF-40EF-AC15-96E71F1F5F0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73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6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77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0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1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02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7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2B0A-A808-4CCC-852B-20DACDBDABE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5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4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4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EDAE-68FD-4FC6-B49D-3F74679D987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27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50F4-7F5B-492D-86B5-BFA4B3A0C43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84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6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897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2987-34D3-46AE-B681-88F5BAB09A8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64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236E-205B-40AF-8407-F5D95B8EB1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013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015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8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9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020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5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026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9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030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34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7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38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D48B-F339-4499-B9C0-956DC42D43C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F515-AD86-4424-9E0C-196AD7ECE3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FD59-024A-427E-88EA-0E3CF4A1AE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8EC4-E749-496E-917E-CB8B9E0838F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8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dt" idx="6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ftr" idx="6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sldNum" idx="6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DD48-4247-4C4C-931E-A5F811A8B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6A2B-A1C2-49B8-835A-014A27386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dt" idx="70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ftr" idx="7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 type="sldNum" idx="7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3EC4-65C2-4B14-85F7-48F7FBBA21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6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31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31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32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32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32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32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0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331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332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4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335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7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338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0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341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3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344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6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347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9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350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2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353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5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356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8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359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1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362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4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365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7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368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0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371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3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374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6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377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9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380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2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383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5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386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8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389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1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392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96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397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9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400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2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403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5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406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8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409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1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412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4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15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7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18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0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21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3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24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6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427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29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0A36-F68C-4DA8-94F5-C88EACB24150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 type="sldNum" idx="7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CBF2-6426-4529-BE50-FC862F960A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7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498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 type="sldNum" idx="8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81E8-C96E-4AB7-8B5C-9B09BC4FD0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4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545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 type="dt" idx="8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 type="ftr" idx="8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 type="sldNum" idx="8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D3E9-590D-4D40-8163-10EAF51E92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 type="ftr" idx="8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 type="sldNum" idx="8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2D5A-2722-4E5D-95F6-5881705BE4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0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641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4" name="PlaceHolder 5"/>
          <p:cNvSpPr>
            <a:spLocks noGrp="1"/>
          </p:cNvSpPr>
          <p:nvPr>
            <p:ph type="dt" idx="8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D5DE-5DA6-4112-9F5F-A1C727FA3C9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1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692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 type="dt" idx="8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50AB-7B3D-4D17-8C24-BA93CC8A21C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7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738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9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7BB6-393B-4E2D-9625-DAC56E52A8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F46E-344B-4CF7-9D4B-886C30CCC87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3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854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855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0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 type="dt" idx="9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 type="ftr" idx="9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5046-16BB-48C3-A553-A5480157FC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 type="dt" idx="10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 type="ftr" idx="10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5"/>
          <p:cNvSpPr>
            <a:spLocks noGrp="1"/>
          </p:cNvSpPr>
          <p:nvPr>
            <p:ph type="sldNum" idx="10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A5A4-BDBE-4999-A52F-9308F4661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8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949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1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2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953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4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55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0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1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62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0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sldNum" idx="10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F97C-5911-49FD-9C20-58C1834FFE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ftr" idx="10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1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 type="dt" idx="10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AA5B-1A52-4D42-9B7E-6ECA0C24CE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4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065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 type="dt" idx="10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31A8-A1F4-493B-AD40-DEDBB37970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11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11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11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 type="dt" idx="11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 type="ftr" idx="11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 type="sldNum" idx="11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2B58-1800-4998-BA9C-E59B55156EB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6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 type="dt" idx="1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A8F1-4564-4576-B634-ADD5101DE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9AB1-87A7-4033-8B42-2A1FCC54F7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6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6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2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223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5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226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 type="dt" idx="11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 type="ftr" idx="11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5"/>
          <p:cNvSpPr>
            <a:spLocks noGrp="1"/>
          </p:cNvSpPr>
          <p:nvPr>
            <p:ph type="sldNum" idx="120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F75D-0A29-4931-B97F-13E25C5168A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9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270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 type="dt" idx="1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 type="ftr" idx="1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1285-BC4B-4296-A635-F5D6F880A66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3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314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 type="dt" idx="1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 type="ftr" idx="1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D1A5-AC4B-4B1A-8BD5-03BF6D42E86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0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371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4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375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8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9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400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5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 type="dt" idx="12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 type="ftr" idx="1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ABFF-8FA5-4D68-80A5-871B2E69880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8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449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 type="dt" idx="13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PlaceHolder 4"/>
          <p:cNvSpPr>
            <a:spLocks noGrp="1"/>
          </p:cNvSpPr>
          <p:nvPr>
            <p:ph type="ftr" idx="13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4892-7CBE-40EB-92A1-072256F3D1D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52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2" name="PlaceHolder 3"/>
          <p:cNvSpPr>
            <a:spLocks noGrp="1"/>
          </p:cNvSpPr>
          <p:nvPr>
            <p:ph type="dt" idx="13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4"/>
          <p:cNvSpPr>
            <a:spLocks noGrp="1"/>
          </p:cNvSpPr>
          <p:nvPr>
            <p:ph type="ftr" idx="1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1010-894D-4A81-B756-F5E411F7ED8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1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582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4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595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2" name="PlaceHolder 3"/>
          <p:cNvSpPr>
            <a:spLocks noGrp="1"/>
          </p:cNvSpPr>
          <p:nvPr>
            <p:ph type="dt" idx="1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PlaceHolder 4"/>
          <p:cNvSpPr>
            <a:spLocks noGrp="1"/>
          </p:cNvSpPr>
          <p:nvPr>
            <p:ph type="ftr" idx="1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473A-702D-48AC-9076-40B4EC0D81E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7"/>
    <p:sldLayoutId id="2147484235" r:id="rId8"/>
    <p:sldLayoutId id="2147484236" r:id="rId9"/>
    <p:sldLayoutId id="2147484237" r:id="rId10"/>
    <p:sldLayoutId id="2147484238" r:id="rId11"/>
    <p:sldLayoutId id="2147484239" r:id="rId12"/>
    <p:sldLayoutId id="2147484240" r:id="rId13"/>
    <p:sldLayoutId id="2147484241" r:id="rId14"/>
    <p:sldLayoutId id="2147484242" r:id="rId15"/>
    <p:sldLayoutId id="2147484243" r:id="rId16"/>
    <p:sldLayoutId id="2147484244" r:id="rId17"/>
    <p:sldLayoutId id="2147484245" r:id="rId18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66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dt" idx="1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ftr" idx="1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8EB2-C73E-41D7-AFC7-F30A15B5E5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0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711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712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9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5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726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9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730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3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734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7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738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1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742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5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4" name="PlaceHolder 3"/>
          <p:cNvSpPr>
            <a:spLocks noGrp="1"/>
          </p:cNvSpPr>
          <p:nvPr>
            <p:ph type="dt" idx="1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PlaceHolder 4"/>
          <p:cNvSpPr>
            <a:spLocks noGrp="1"/>
          </p:cNvSpPr>
          <p:nvPr>
            <p:ph type="ftr" idx="1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9569-1681-46A4-80AF-016C2F0551A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 type="dt" idx="14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PlaceHolder 4"/>
          <p:cNvSpPr>
            <a:spLocks noGrp="1"/>
          </p:cNvSpPr>
          <p:nvPr>
            <p:ph type="ftr" idx="14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0B1E-40FE-4275-BA5C-2698DE9BE2A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6D53-3300-4AFA-BFC0-C9635740A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83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 type="dt" idx="14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PlaceHolder 4"/>
          <p:cNvSpPr>
            <a:spLocks noGrp="1"/>
          </p:cNvSpPr>
          <p:nvPr>
            <p:ph type="ftr" idx="14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PlaceHolder 5"/>
          <p:cNvSpPr>
            <a:spLocks noGrp="1"/>
          </p:cNvSpPr>
          <p:nvPr>
            <p:ph type="sldNum" idx="15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7241-55F3-4F0F-92BA-914597C13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7" name="PlaceHolder 3"/>
          <p:cNvSpPr>
            <a:spLocks noGrp="1"/>
          </p:cNvSpPr>
          <p:nvPr>
            <p:ph type="ftr" idx="15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PlaceHolder 4"/>
          <p:cNvSpPr>
            <a:spLocks noGrp="1"/>
          </p:cNvSpPr>
          <p:nvPr>
            <p:ph type="sldNum" idx="15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8E1B-5CFD-43CF-AB51-FB7121B77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PlaceHolder 5"/>
          <p:cNvSpPr>
            <a:spLocks noGrp="1"/>
          </p:cNvSpPr>
          <p:nvPr>
            <p:ph type="dt" idx="15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6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2927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34" name="PlaceHolder 3"/>
          <p:cNvSpPr>
            <a:spLocks noGrp="1"/>
          </p:cNvSpPr>
          <p:nvPr>
            <p:ph type="dt" idx="15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PlaceHolder 4"/>
          <p:cNvSpPr>
            <a:spLocks noGrp="1"/>
          </p:cNvSpPr>
          <p:nvPr>
            <p:ph type="ftr" idx="1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PlaceHolder 5"/>
          <p:cNvSpPr>
            <a:spLocks noGrp="1"/>
          </p:cNvSpPr>
          <p:nvPr>
            <p:ph type="sldNum" idx="15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2A32-3B70-477F-ACDD-A76D60227E5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3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2974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975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7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2978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979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980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1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82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983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984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5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6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987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8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9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990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1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2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993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4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5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996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7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8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999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0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1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002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3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4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005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6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7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008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9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0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011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2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3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014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5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6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017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8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9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020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1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2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023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4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5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026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7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8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029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0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1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032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3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4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035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6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7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038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9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0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041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2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3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044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5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46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7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48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049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0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1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052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3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4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055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6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7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58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9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0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61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2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3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64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5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6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067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8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9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070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1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2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073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4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5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076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7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8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079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0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081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082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083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4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5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6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7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8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9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90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91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092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8" name="PlaceHolder 3"/>
          <p:cNvSpPr>
            <a:spLocks noGrp="1"/>
          </p:cNvSpPr>
          <p:nvPr>
            <p:ph type="dt" idx="15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PlaceHolder 4"/>
          <p:cNvSpPr>
            <a:spLocks noGrp="1"/>
          </p:cNvSpPr>
          <p:nvPr>
            <p:ph type="ftr" idx="1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PlaceHolder 5"/>
          <p:cNvSpPr>
            <a:spLocks noGrp="1"/>
          </p:cNvSpPr>
          <p:nvPr>
            <p:ph type="sldNum" idx="15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E1EA-1D20-471F-BDFF-887EA7A6434D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31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1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PlaceHolder 3"/>
          <p:cNvSpPr>
            <a:spLocks noGrp="1"/>
          </p:cNvSpPr>
          <p:nvPr>
            <p:ph type="dt" idx="16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PlaceHolder 4"/>
          <p:cNvSpPr>
            <a:spLocks noGrp="1"/>
          </p:cNvSpPr>
          <p:nvPr>
            <p:ph type="ftr" idx="1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PlaceHolder 5"/>
          <p:cNvSpPr>
            <a:spLocks noGrp="1"/>
          </p:cNvSpPr>
          <p:nvPr>
            <p:ph type="sldNum" idx="16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D945-1E5C-4EBB-B4FC-BE30BFCEAE6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7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3198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205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PlaceHolder 3"/>
          <p:cNvSpPr>
            <a:spLocks noGrp="1"/>
          </p:cNvSpPr>
          <p:nvPr>
            <p:ph type="dt" idx="16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PlaceHolder 4"/>
          <p:cNvSpPr>
            <a:spLocks noGrp="1"/>
          </p:cNvSpPr>
          <p:nvPr>
            <p:ph type="ftr" idx="1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PlaceHolder 5"/>
          <p:cNvSpPr>
            <a:spLocks noGrp="1"/>
          </p:cNvSpPr>
          <p:nvPr>
            <p:ph type="sldNum" idx="16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E915-01E1-4E15-8CC2-4138DC040ED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5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246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247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9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3250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2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7" name="PlaceHolder 3"/>
          <p:cNvSpPr>
            <a:spLocks noGrp="1"/>
          </p:cNvSpPr>
          <p:nvPr>
            <p:ph type="dt" idx="16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PlaceHolder 4"/>
          <p:cNvSpPr>
            <a:spLocks noGrp="1"/>
          </p:cNvSpPr>
          <p:nvPr>
            <p:ph type="ftr" idx="16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PlaceHolder 5"/>
          <p:cNvSpPr>
            <a:spLocks noGrp="1"/>
          </p:cNvSpPr>
          <p:nvPr>
            <p:ph type="sldNum" idx="16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837E-BB2D-4725-B5BF-B7C5FE0AF7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7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3298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1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3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4" name="PlaceHolder 3"/>
          <p:cNvSpPr>
            <a:spLocks noGrp="1"/>
          </p:cNvSpPr>
          <p:nvPr>
            <p:ph type="dt" idx="16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PlaceHolder 4"/>
          <p:cNvSpPr>
            <a:spLocks noGrp="1"/>
          </p:cNvSpPr>
          <p:nvPr>
            <p:ph type="ftr" idx="1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PlaceHolder 5"/>
          <p:cNvSpPr>
            <a:spLocks noGrp="1"/>
          </p:cNvSpPr>
          <p:nvPr>
            <p:ph type="sldNum" idx="17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5A53-D28C-4948-9BA1-BEC0E7DAD4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8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2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4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1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079A-7578-4CA5-B0E1-B1F4DD391B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39A6-9579-484D-9EDF-E6426A64B5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7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4B51-E3C8-4669-A024-C5145BDAC73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1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1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D7CA-6380-4CA4-B704-3F515D91EA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October_14" TargetMode="External"/><Relationship Id="rId3" Type="http://schemas.openxmlformats.org/officeDocument/2006/relationships/hyperlink" Target="http://en.wikipedia.org/wiki/1943" TargetMode="External"/><Relationship Id="rId4" Type="http://schemas.openxmlformats.org/officeDocument/2006/relationships/hyperlink" Target="http://en.wikipedia.org/wiki/August_17" TargetMode="External"/><Relationship Id="rId5" Type="http://schemas.openxmlformats.org/officeDocument/2006/relationships/hyperlink" Target="http://en.wikipedia.org/wiki/1945" TargetMode="External"/><Relationship Id="rId6" Type="http://schemas.openxmlformats.org/officeDocument/2006/relationships/hyperlink" Target="http://en.wikipedia.org/wiki/February_29" TargetMode="External"/><Relationship Id="rId7" Type="http://schemas.openxmlformats.org/officeDocument/2006/relationships/hyperlink" Target="http://en.wikipedia.org/wiki/1936" TargetMode="External"/><Relationship Id="rId8" Type="http://schemas.openxmlformats.org/officeDocument/2006/relationships/hyperlink" Target="http://en.wikipedia.org/wiki/February_5" TargetMode="External"/><Relationship Id="rId9" Type="http://schemas.openxmlformats.org/officeDocument/2006/relationships/hyperlink" Target="http://en.wikipedia.org/wiki/1942" TargetMode="External"/><Relationship Id="rId10" Type="http://schemas.openxmlformats.org/officeDocument/2006/relationships/hyperlink" Target="http://en.wikipedia.org/wiki/March_9" TargetMode="External"/><Relationship Id="rId11" Type="http://schemas.openxmlformats.org/officeDocument/2006/relationships/hyperlink" Target="http://en.wikipedia.org/wiki/1891" TargetMode="External"/><Relationship Id="rId12" Type="http://schemas.openxmlformats.org/officeDocument/2006/relationships/hyperlink" Target="http://en.wikipedia.org/wiki/Tanauan_City" TargetMode="External"/><Relationship Id="rId13" Type="http://schemas.openxmlformats.org/officeDocument/2006/relationships/hyperlink" Target="http://en.wikipedia.org/wiki/Batangas" TargetMode="External"/><Relationship Id="rId14" Type="http://schemas.openxmlformats.org/officeDocument/2006/relationships/hyperlink" Target="http://en.wikipedia.org/wiki/November_6" TargetMode="External"/><Relationship Id="rId15" Type="http://schemas.openxmlformats.org/officeDocument/2006/relationships/hyperlink" Target="http://en.wikipedia.org/wiki/1959" TargetMode="External"/><Relationship Id="rId16" Type="http://schemas.openxmlformats.org/officeDocument/2006/relationships/hyperlink" Target="http://en.wikipedia.org/wiki/Manila" TargetMode="External"/><Relationship Id="rId17" Type="http://schemas.openxmlformats.org/officeDocument/2006/relationships/hyperlink" Target="http://en.wikipedia.org/wiki/Kapisanan_ng_Paglilingkod_sa_Bagong_Pilipinas" TargetMode="External"/><Relationship Id="rId18" Type="http://schemas.openxmlformats.org/officeDocument/2006/relationships/hyperlink" Target="http://en.wikipedia.org/wiki/Pacencia_Laurel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145.xml"/><Relationship Id="rId2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ndb.com/lists/838/000106520/" TargetMode="External"/><Relationship Id="rId2" Type="http://schemas.openxmlformats.org/officeDocument/2006/relationships/hyperlink" Target="http://www.nndb.com/lists/889/000105574/" TargetMode="External"/><Relationship Id="rId3" Type="http://schemas.openxmlformats.org/officeDocument/2006/relationships/hyperlink" Target="http://www.nndb.com/lists/943/000106625/" TargetMode="External"/><Relationship Id="rId4" Type="http://schemas.openxmlformats.org/officeDocument/2006/relationships/hyperlink" Target="http://www.nndb.com/lists/466/000106148/" TargetMode="External"/><Relationship Id="rId5" Type="http://schemas.openxmlformats.org/officeDocument/2006/relationships/hyperlink" Target="http://www.nndb.com/geo/878/000069671/" TargetMode="External"/><Relationship Id="rId6" Type="http://schemas.openxmlformats.org/officeDocument/2006/relationships/hyperlink" Target="http://www.nndb.com/lists/758/000094476/" TargetMode="External"/><Relationship Id="rId7" Type="http://schemas.openxmlformats.org/officeDocument/2006/relationships/hyperlink" Target="http://www.nndb.com/gov/072/000051916/" TargetMode="External"/><Relationship Id="rId8" Type="http://schemas.openxmlformats.org/officeDocument/2006/relationships/slideLayout" Target="../slideLayouts/slideLayout157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estrada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June_30" TargetMode="External"/><Relationship Id="rId3" Type="http://schemas.openxmlformats.org/officeDocument/2006/relationships/hyperlink" Target="http://en.wikipedia.org/wiki/1992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98" TargetMode="External"/><Relationship Id="rId6" Type="http://schemas.openxmlformats.org/officeDocument/2006/relationships/hyperlink" Target="http://en.wikipedia.org/wiki/April_19" TargetMode="External"/><Relationship Id="rId7" Type="http://schemas.openxmlformats.org/officeDocument/2006/relationships/hyperlink" Target="http://en.wikipedia.org/wiki/1937" TargetMode="External"/><Relationship Id="rId8" Type="http://schemas.openxmlformats.org/officeDocument/2006/relationships/hyperlink" Target="http://en.wikipedia.org/wiki/Tondo" TargetMode="External"/><Relationship Id="rId9" Type="http://schemas.openxmlformats.org/officeDocument/2006/relationships/hyperlink" Target="http://en.wikipedia.org/wiki/Manila" TargetMode="External"/><Relationship Id="rId10" Type="http://schemas.openxmlformats.org/officeDocument/2006/relationships/hyperlink" Target="http://en.wikipedia.org/wiki/Partido_ng_Masang_Pilipino" TargetMode="External"/><Relationship Id="rId11" Type="http://schemas.openxmlformats.org/officeDocument/2006/relationships/hyperlink" Target="http://en.wikipedia.org/wiki/Loi_Estrada" TargetMode="External"/><Relationship Id="rId12" Type="http://schemas.openxmlformats.org/officeDocument/2006/relationships/hyperlink" Target="http://en.wikipedia.org/wiki/Actor" TargetMode="External"/><Relationship Id="rId13" Type="http://schemas.openxmlformats.org/officeDocument/2006/relationships/hyperlink" Target="http://en.wikipedia.org/wiki/Roman_Catholic_Church" TargetMode="External"/><Relationship Id="rId14" Type="http://schemas.openxmlformats.org/officeDocument/2006/relationships/image" Target="../media/image14.jpeg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169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August_1" TargetMode="External"/><Relationship Id="rId3" Type="http://schemas.openxmlformats.org/officeDocument/2006/relationships/hyperlink" Target="http://en.wikipedia.org/wiki/1944" TargetMode="External"/><Relationship Id="rId4" Type="http://schemas.openxmlformats.org/officeDocument/2006/relationships/hyperlink" Target="http://en.wikipedia.org/wiki/May_28" TargetMode="External"/><Relationship Id="rId5" Type="http://schemas.openxmlformats.org/officeDocument/2006/relationships/hyperlink" Target="http://en.wikipedia.org/wiki/1946" TargetMode="External"/><Relationship Id="rId6" Type="http://schemas.openxmlformats.org/officeDocument/2006/relationships/hyperlink" Target="http://en.wikipedia.org/wiki/November_15" TargetMode="External"/><Relationship Id="rId7" Type="http://schemas.openxmlformats.org/officeDocument/2006/relationships/hyperlink" Target="http://en.wikipedia.org/wiki/1935" TargetMode="External"/><Relationship Id="rId8" Type="http://schemas.openxmlformats.org/officeDocument/2006/relationships/hyperlink" Target="http://en.wikipedia.org/wiki/August_1" TargetMode="External"/><Relationship Id="rId9" Type="http://schemas.openxmlformats.org/officeDocument/2006/relationships/hyperlink" Target="http://en.wikipedia.org/wiki/1944" TargetMode="External"/><Relationship Id="rId10" Type="http://schemas.openxmlformats.org/officeDocument/2006/relationships/hyperlink" Target="http://en.wikipedia.org/wiki/September_9" TargetMode="External"/><Relationship Id="rId11" Type="http://schemas.openxmlformats.org/officeDocument/2006/relationships/hyperlink" Target="http://en.wikipedia.org/wiki/1878" TargetMode="External"/><Relationship Id="rId12" Type="http://schemas.openxmlformats.org/officeDocument/2006/relationships/hyperlink" Target="http://en.wikipedia.org/wiki/Cebu_City" TargetMode="External"/><Relationship Id="rId13" Type="http://schemas.openxmlformats.org/officeDocument/2006/relationships/hyperlink" Target="http://en.wikipedia.org/wiki/Cebu_Province" TargetMode="External"/><Relationship Id="rId14" Type="http://schemas.openxmlformats.org/officeDocument/2006/relationships/hyperlink" Target="http://en.wikipedia.org/wiki/October_19" TargetMode="External"/><Relationship Id="rId15" Type="http://schemas.openxmlformats.org/officeDocument/2006/relationships/hyperlink" Target="http://en.wikipedia.org/wiki/1961" TargetMode="External"/><Relationship Id="rId16" Type="http://schemas.openxmlformats.org/officeDocument/2006/relationships/hyperlink" Target="http://en.wikipedia.org/wiki/Quezon_City" TargetMode="External"/><Relationship Id="rId17" Type="http://schemas.openxmlformats.org/officeDocument/2006/relationships/hyperlink" Target="http://en.wikipedia.org/wiki/Nacionalista_Party_(Philippines)" TargetMode="External"/><Relationship Id="rId18" Type="http://schemas.openxmlformats.org/officeDocument/2006/relationships/hyperlink" Target="http://en.wikipedia.org/wiki/Esperanza_Osme&#241;a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181.xml"/><Relationship Id="rId2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arroyo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Incumbent" TargetMode="External"/><Relationship Id="rId3" Type="http://schemas.openxmlformats.org/officeDocument/2006/relationships/hyperlink" Target="http://en.wikipedia.org/wiki/January_20" TargetMode="External"/><Relationship Id="rId4" Type="http://schemas.openxmlformats.org/officeDocument/2006/relationships/hyperlink" Target="http://en.wikipedia.org/wiki/2001" TargetMode="External"/><Relationship Id="rId5" Type="http://schemas.openxmlformats.org/officeDocument/2006/relationships/hyperlink" Target="http://en.wikipedia.org/wiki/Noli_de_Castro" TargetMode="External"/><Relationship Id="rId6" Type="http://schemas.openxmlformats.org/officeDocument/2006/relationships/hyperlink" Target="http://en.wikipedia.org/wiki/April_5" TargetMode="External"/><Relationship Id="rId7" Type="http://schemas.openxmlformats.org/officeDocument/2006/relationships/hyperlink" Target="http://en.wikipedia.org/wiki/1947" TargetMode="External"/><Relationship Id="rId8" Type="http://schemas.openxmlformats.org/officeDocument/2006/relationships/hyperlink" Target="http://en.wikipedia.org/wiki/San_Juan,_Metro_Manila" TargetMode="External"/><Relationship Id="rId9" Type="http://schemas.openxmlformats.org/officeDocument/2006/relationships/hyperlink" Target="http://en.wikipedia.org/wiki/Rizal" TargetMode="External"/><Relationship Id="rId10" Type="http://schemas.openxmlformats.org/officeDocument/2006/relationships/hyperlink" Target="http://en.wikipedia.org/wiki/Laban_ng_Demokratikong_Pilipino" TargetMode="External"/><Relationship Id="rId11" Type="http://schemas.openxmlformats.org/officeDocument/2006/relationships/hyperlink" Target="http://en.wikipedia.org/wiki/Lakas-Christian_Muslim_Democrats" TargetMode="External"/><Relationship Id="rId12" Type="http://schemas.openxmlformats.org/officeDocument/2006/relationships/hyperlink" Target="http://en.wikipedia.org/wiki/Kabalikat_ng_Malayang_Pilipino" TargetMode="External"/><Relationship Id="rId13" Type="http://schemas.openxmlformats.org/officeDocument/2006/relationships/hyperlink" Target="http://en.wikipedia.org/wiki/Jose_Miguel_Arroyo" TargetMode="External"/><Relationship Id="rId14" Type="http://schemas.openxmlformats.org/officeDocument/2006/relationships/hyperlink" Target="http://en.wikipedia.org/wiki/Economist" TargetMode="External"/><Relationship Id="rId15" Type="http://schemas.openxmlformats.org/officeDocument/2006/relationships/hyperlink" Target="http://en.wikipedia.org/wiki/Roman_Catholic" TargetMode="External"/><Relationship Id="rId16" Type="http://schemas.openxmlformats.org/officeDocument/2006/relationships/slideLayout" Target="../slideLayouts/slideLayout193.xml"/><Relationship Id="rId1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May_28" TargetMode="External"/><Relationship Id="rId3" Type="http://schemas.openxmlformats.org/officeDocument/2006/relationships/hyperlink" Target="http://en.wikipedia.org/wiki/1946" TargetMode="External"/><Relationship Id="rId4" Type="http://schemas.openxmlformats.org/officeDocument/2006/relationships/hyperlink" Target="http://en.wikipedia.org/wiki/July_4" TargetMode="External"/><Relationship Id="rId5" Type="http://schemas.openxmlformats.org/officeDocument/2006/relationships/hyperlink" Target="http://en.wikipedia.org/wiki/1946" TargetMode="External"/><Relationship Id="rId6" Type="http://schemas.openxmlformats.org/officeDocument/2006/relationships/hyperlink" Target="http://en.wikipedia.org/wiki/April_15" TargetMode="External"/><Relationship Id="rId7" Type="http://schemas.openxmlformats.org/officeDocument/2006/relationships/hyperlink" Target="http://en.wikipedia.org/wiki/1948" TargetMode="External"/><Relationship Id="rId8" Type="http://schemas.openxmlformats.org/officeDocument/2006/relationships/hyperlink" Target="http://en.wikipedia.org/wiki/January_1" TargetMode="External"/><Relationship Id="rId9" Type="http://schemas.openxmlformats.org/officeDocument/2006/relationships/hyperlink" Target="http://en.wikipedia.org/wiki/1892" TargetMode="External"/><Relationship Id="rId10" Type="http://schemas.openxmlformats.org/officeDocument/2006/relationships/hyperlink" Target="http://en.wikipedia.org/wiki/Roxas_City" TargetMode="External"/><Relationship Id="rId11" Type="http://schemas.openxmlformats.org/officeDocument/2006/relationships/hyperlink" Target="http://en.wikipedia.org/wiki/Capiz" TargetMode="External"/><Relationship Id="rId12" Type="http://schemas.openxmlformats.org/officeDocument/2006/relationships/hyperlink" Target="http://en.wikipedia.org/wiki/April_15" TargetMode="External"/><Relationship Id="rId13" Type="http://schemas.openxmlformats.org/officeDocument/2006/relationships/hyperlink" Target="http://en.wikipedia.org/wiki/1948" TargetMode="External"/><Relationship Id="rId14" Type="http://schemas.openxmlformats.org/officeDocument/2006/relationships/hyperlink" Target="http://en.wikipedia.org/wiki/Clark_Air_Base" TargetMode="External"/><Relationship Id="rId15" Type="http://schemas.openxmlformats.org/officeDocument/2006/relationships/hyperlink" Target="http://en.wikipedia.org/wiki/Angeles" TargetMode="External"/><Relationship Id="rId16" Type="http://schemas.openxmlformats.org/officeDocument/2006/relationships/hyperlink" Target="http://en.wikipedia.org/wiki/Pampanga" TargetMode="External"/><Relationship Id="rId17" Type="http://schemas.openxmlformats.org/officeDocument/2006/relationships/hyperlink" Target="http://en.wikipedia.org/wiki/Trinidad_Roxas" TargetMode="External"/><Relationship Id="rId18" Type="http://schemas.openxmlformats.org/officeDocument/2006/relationships/hyperlink" Target="http://en.wikipedia.org/wiki/Lawyer" TargetMode="External"/><Relationship Id="rId19" Type="http://schemas.openxmlformats.org/officeDocument/2006/relationships/hyperlink" Target="http://en.wikipedia.org/wiki/Roman_Catholic_Church" TargetMode="External"/><Relationship Id="rId20" Type="http://schemas.openxmlformats.org/officeDocument/2006/relationships/image" Target="../media/image18.jpeg"/><Relationship Id="rId21" Type="http://schemas.openxmlformats.org/officeDocument/2006/relationships/image" Target="../media/image18.jpeg"/><Relationship Id="rId22" Type="http://schemas.openxmlformats.org/officeDocument/2006/relationships/slideLayout" Target="../slideLayouts/slideLayout205.xml"/><Relationship Id="rId2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nndb.com/lists/761/000106443/" TargetMode="External"/><Relationship Id="rId2" Type="http://schemas.openxmlformats.org/officeDocument/2006/relationships/hyperlink" Target="http://www.nndb.com/lists/906/000105591/" TargetMode="External"/><Relationship Id="rId3" Type="http://schemas.openxmlformats.org/officeDocument/2006/relationships/hyperlink" Target="http://www.nndb.com/lists/960/000106642/" TargetMode="External"/><Relationship Id="rId4" Type="http://schemas.openxmlformats.org/officeDocument/2006/relationships/hyperlink" Target="http://www.nndb.com/lists/467/000106149/" TargetMode="External"/><Relationship Id="rId5" Type="http://schemas.openxmlformats.org/officeDocument/2006/relationships/hyperlink" Target="http://www.nndb.com/lists/332/000069125/" TargetMode="External"/><Relationship Id="rId6" Type="http://schemas.openxmlformats.org/officeDocument/2006/relationships/hyperlink" Target="http://www.nndb.com/gov/072/000051916/" TargetMode="External"/><Relationship Id="rId7" Type="http://schemas.openxmlformats.org/officeDocument/2006/relationships/image" Target="../media/image20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229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nndb.com/lists/826/000106508/" TargetMode="External"/><Relationship Id="rId2" Type="http://schemas.openxmlformats.org/officeDocument/2006/relationships/hyperlink" Target="http://www.nndb.com/lists/895/000105580/" TargetMode="External"/><Relationship Id="rId3" Type="http://schemas.openxmlformats.org/officeDocument/2006/relationships/hyperlink" Target="http://www.nndb.com/lists/052/000106731/" TargetMode="External"/><Relationship Id="rId4" Type="http://schemas.openxmlformats.org/officeDocument/2006/relationships/hyperlink" Target="http://www.nndb.com/lists/481/000106163/" TargetMode="External"/><Relationship Id="rId5" Type="http://schemas.openxmlformats.org/officeDocument/2006/relationships/hyperlink" Target="http://www.nndb.com/gov/072/000051916/" TargetMode="External"/><Relationship Id="rId6" Type="http://schemas.openxmlformats.org/officeDocument/2006/relationships/slideLayout" Target="../slideLayouts/slideLayout253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June_12" TargetMode="External"/><Relationship Id="rId3" Type="http://schemas.openxmlformats.org/officeDocument/2006/relationships/hyperlink" Target="http://en.wikipedia.org/wiki/1978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81" TargetMode="External"/><Relationship Id="rId6" Type="http://schemas.openxmlformats.org/officeDocument/2006/relationships/hyperlink" Target="http://en.wikipedia.org/wiki/September_11" TargetMode="External"/><Relationship Id="rId7" Type="http://schemas.openxmlformats.org/officeDocument/2006/relationships/hyperlink" Target="http://en.wikipedia.org/wiki/1917" TargetMode="External"/><Relationship Id="rId8" Type="http://schemas.openxmlformats.org/officeDocument/2006/relationships/hyperlink" Target="http://en.wikipedia.org/wiki/Sarrat,_Ilocos_Norte" TargetMode="External"/><Relationship Id="rId9" Type="http://schemas.openxmlformats.org/officeDocument/2006/relationships/hyperlink" Target="http://en.wikipedia.org/wiki/Ilocos_Norte" TargetMode="External"/><Relationship Id="rId10" Type="http://schemas.openxmlformats.org/officeDocument/2006/relationships/hyperlink" Target="http://en.wikipedia.org/wiki/Philippines" TargetMode="External"/><Relationship Id="rId11" Type="http://schemas.openxmlformats.org/officeDocument/2006/relationships/hyperlink" Target="http://en.wikipedia.org/wiki/Imelda_Marcos" TargetMode="External"/><Relationship Id="rId12" Type="http://schemas.openxmlformats.org/officeDocument/2006/relationships/slideLayout" Target="../slideLayouts/slideLayout265.xml"/><Relationship Id="rId1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March_22" TargetMode="External"/><Relationship Id="rId3" Type="http://schemas.openxmlformats.org/officeDocument/2006/relationships/hyperlink" Target="http://en.wikipedia.org/wiki/1897" TargetMode="External"/><Relationship Id="rId4" Type="http://schemas.openxmlformats.org/officeDocument/2006/relationships/hyperlink" Target="http://en.wikipedia.org/wiki/April_1" TargetMode="External"/><Relationship Id="rId5" Type="http://schemas.openxmlformats.org/officeDocument/2006/relationships/hyperlink" Target="http://en.wikipedia.org/wiki/1901" TargetMode="External"/><Relationship Id="rId6" Type="http://schemas.openxmlformats.org/officeDocument/2006/relationships/hyperlink" Target="http://en.wikipedia.org/wiki/March_22" TargetMode="External"/><Relationship Id="rId7" Type="http://schemas.openxmlformats.org/officeDocument/2006/relationships/hyperlink" Target="http://en.wikipedia.org/wiki/1869" TargetMode="External"/><Relationship Id="rId8" Type="http://schemas.openxmlformats.org/officeDocument/2006/relationships/hyperlink" Target="http://en.wikipedia.org/wiki/Kawit,_Cavite" TargetMode="External"/><Relationship Id="rId9" Type="http://schemas.openxmlformats.org/officeDocument/2006/relationships/hyperlink" Target="http://en.wikipedia.org/wiki/Cavite" TargetMode="External"/><Relationship Id="rId10" Type="http://schemas.openxmlformats.org/officeDocument/2006/relationships/hyperlink" Target="http://en.wikipedia.org/wiki/February_6" TargetMode="External"/><Relationship Id="rId11" Type="http://schemas.openxmlformats.org/officeDocument/2006/relationships/hyperlink" Target="http://en.wikipedia.org/wiki/1964" TargetMode="External"/><Relationship Id="rId12" Type="http://schemas.openxmlformats.org/officeDocument/2006/relationships/hyperlink" Target="http://en.wikipedia.org/wiki/Quezon_City" TargetMode="External"/><Relationship Id="rId13" Type="http://schemas.openxmlformats.org/officeDocument/2006/relationships/hyperlink" Target="http://en.wikipedia.org/wiki/Metro_Manila" TargetMode="External"/><Relationship Id="rId14" Type="http://schemas.openxmlformats.org/officeDocument/2006/relationships/hyperlink" Target="http://en.wikipedia.org/wiki/Hilaria_Aguinaldo" TargetMode="External"/><Relationship Id="rId15" Type="http://schemas.openxmlformats.org/officeDocument/2006/relationships/hyperlink" Target="http://en.wikipedia.org/wiki/Military" TargetMode="External"/><Relationship Id="rId16" Type="http://schemas.openxmlformats.org/officeDocument/2006/relationships/hyperlink" Target="http://en.wikipedia.org/wiki/Roman_Catholic_Church" TargetMode="External"/><Relationship Id="rId17" Type="http://schemas.openxmlformats.org/officeDocument/2006/relationships/slideLayout" Target="../slideLayouts/slideLayout289.xml"/><Relationship Id="rId18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ramos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0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Quezon_Sig.png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en.wikipedia.org/wiki/President_of_the_Philippines" TargetMode="External"/><Relationship Id="rId4" Type="http://schemas.openxmlformats.org/officeDocument/2006/relationships/hyperlink" Target="http://en.wikipedia.org/wiki/November_15" TargetMode="External"/><Relationship Id="rId5" Type="http://schemas.openxmlformats.org/officeDocument/2006/relationships/hyperlink" Target="http://en.wikipedia.org/wiki/1935" TargetMode="External"/><Relationship Id="rId6" Type="http://schemas.openxmlformats.org/officeDocument/2006/relationships/hyperlink" Target="http://en.wikipedia.org/wiki/August_1" TargetMode="External"/><Relationship Id="rId7" Type="http://schemas.openxmlformats.org/officeDocument/2006/relationships/hyperlink" Target="http://en.wikipedia.org/wiki/1944" TargetMode="External"/><Relationship Id="rId8" Type="http://schemas.openxmlformats.org/officeDocument/2006/relationships/hyperlink" Target="http://en.wikipedia.org/wiki/August_19" TargetMode="External"/><Relationship Id="rId9" Type="http://schemas.openxmlformats.org/officeDocument/2006/relationships/hyperlink" Target="http://en.wikipedia.org/wiki/1878" TargetMode="External"/><Relationship Id="rId10" Type="http://schemas.openxmlformats.org/officeDocument/2006/relationships/hyperlink" Target="http://en.wikipedia.org/wiki/Baler,_Aurora" TargetMode="External"/><Relationship Id="rId11" Type="http://schemas.openxmlformats.org/officeDocument/2006/relationships/hyperlink" Target="http://en.wikipedia.org/wiki/Aurora_province" TargetMode="External"/><Relationship Id="rId12" Type="http://schemas.openxmlformats.org/officeDocument/2006/relationships/hyperlink" Target="http://en.wikipedia.org/wiki/August_1" TargetMode="External"/><Relationship Id="rId13" Type="http://schemas.openxmlformats.org/officeDocument/2006/relationships/hyperlink" Target="http://en.wikipedia.org/wiki/1944" TargetMode="External"/><Relationship Id="rId14" Type="http://schemas.openxmlformats.org/officeDocument/2006/relationships/hyperlink" Target="http://en.wikipedia.org/wiki/Saranac_Lake,_New_York" TargetMode="External"/><Relationship Id="rId15" Type="http://schemas.openxmlformats.org/officeDocument/2006/relationships/hyperlink" Target="http://en.wikipedia.org/wiki/New_York" TargetMode="External"/><Relationship Id="rId16" Type="http://schemas.openxmlformats.org/officeDocument/2006/relationships/hyperlink" Target="http://en.wikipedia.org/wiki/United_States" TargetMode="External"/><Relationship Id="rId17" Type="http://schemas.openxmlformats.org/officeDocument/2006/relationships/hyperlink" Target="http://en.wikipedia.org/wiki/Nacionalista_Party_(Philippines)" TargetMode="External"/><Relationship Id="rId18" Type="http://schemas.openxmlformats.org/officeDocument/2006/relationships/hyperlink" Target="http://en.wikipedia.org/wiki/Aurora_Quezon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61.xml"/><Relationship Id="rId2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Ramos_Sig.png" TargetMode="External"/><Relationship Id="rId2" Type="http://schemas.openxmlformats.org/officeDocument/2006/relationships/image" Target="../media/image25.png"/><Relationship Id="rId3" Type="http://schemas.openxmlformats.org/officeDocument/2006/relationships/hyperlink" Target="http://en.wikipedia.org/wiki/President_of_the_Philippines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92" TargetMode="External"/><Relationship Id="rId6" Type="http://schemas.openxmlformats.org/officeDocument/2006/relationships/hyperlink" Target="http://en.wikipedia.org/wiki/June_30" TargetMode="External"/><Relationship Id="rId7" Type="http://schemas.openxmlformats.org/officeDocument/2006/relationships/hyperlink" Target="http://en.wikipedia.org/wiki/1998" TargetMode="External"/><Relationship Id="rId8" Type="http://schemas.openxmlformats.org/officeDocument/2006/relationships/hyperlink" Target="http://en.wikipedia.org/wiki/March_18" TargetMode="External"/><Relationship Id="rId9" Type="http://schemas.openxmlformats.org/officeDocument/2006/relationships/hyperlink" Target="http://en.wikipedia.org/wiki/1928" TargetMode="External"/><Relationship Id="rId10" Type="http://schemas.openxmlformats.org/officeDocument/2006/relationships/hyperlink" Target="http://en.wikipedia.org/wiki/Lingayen,_Pangasinan" TargetMode="External"/><Relationship Id="rId11" Type="http://schemas.openxmlformats.org/officeDocument/2006/relationships/hyperlink" Target="http://en.wikipedia.org/wiki/Pangasinan" TargetMode="External"/><Relationship Id="rId12" Type="http://schemas.openxmlformats.org/officeDocument/2006/relationships/hyperlink" Target="http://en.wikipedia.org/wiki/Philippines" TargetMode="External"/><Relationship Id="rId13" Type="http://schemas.openxmlformats.org/officeDocument/2006/relationships/slideLayout" Target="../slideLayouts/slideLayout109.xml"/><Relationship Id="rId1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ndb.com/lists/542/000106224/" TargetMode="External"/><Relationship Id="rId2" Type="http://schemas.openxmlformats.org/officeDocument/2006/relationships/hyperlink" Target="http://www.nndb.com/lists/932/000105617/" TargetMode="External"/><Relationship Id="rId3" Type="http://schemas.openxmlformats.org/officeDocument/2006/relationships/hyperlink" Target="http://www.nndb.com/geo/878/000069671/" TargetMode="External"/><Relationship Id="rId4" Type="http://schemas.openxmlformats.org/officeDocument/2006/relationships/hyperlink" Target="http://www.nndb.com/people/237/000112898/" TargetMode="External"/><Relationship Id="rId5" Type="http://schemas.openxmlformats.org/officeDocument/2006/relationships/hyperlink" Target="http://www.nndb.com/gov/072/000051916/" TargetMode="External"/><Relationship Id="rId6" Type="http://schemas.openxmlformats.org/officeDocument/2006/relationships/hyperlink" Target="http://www.nndb.com/honors/347/000059170/" TargetMode="External"/><Relationship Id="rId7" Type="http://schemas.openxmlformats.org/officeDocument/2006/relationships/slideLayout" Target="../slideLayouts/slideLayout13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WordArt 6"/>
          <p:cNvSpPr txBox="1"/>
          <p:nvPr/>
        </p:nvSpPr>
        <p:spPr>
          <a:xfrm>
            <a:off x="762120" y="990720"/>
            <a:ext cx="7191360" cy="44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14 PRESIDENTS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OF THE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PHILIPPINES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4" name=""/>
          <p:cNvGraphicFramePr/>
          <p:nvPr/>
        </p:nvGraphicFramePr>
        <p:xfrm>
          <a:off x="1600200" y="1295280"/>
          <a:ext cx="6172200" cy="5386680"/>
        </p:xfrm>
        <a:graphic>
          <a:graphicData uri="http://schemas.openxmlformats.org/drawingml/2006/table">
            <a:tbl>
              <a:tblPr/>
              <a:tblGrid>
                <a:gridCol w="3124080"/>
                <a:gridCol w="3048120"/>
              </a:tblGrid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2nd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October 1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August 1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February 2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February 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March 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89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Tanau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Batang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November 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195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68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Kapisanan ng Paglilingkod sa Bagong Pilipina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KALIBAP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Pacencia Hidal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5" name="WordArt 24"/>
          <p:cNvSpPr txBox="1"/>
          <p:nvPr/>
        </p:nvSpPr>
        <p:spPr>
          <a:xfrm>
            <a:off x="1600200" y="457200"/>
            <a:ext cx="6095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JOSE P. LAUREL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</p:spTree>
  </p:cSld>
  <p:transition spd="slow"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3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6" name="Picture 2" descr="Elpidio Quirino"/>
          <p:cNvPicPr/>
          <p:nvPr/>
        </p:nvPicPr>
        <p:blipFill>
          <a:blip r:embed="rId1"/>
          <a:stretch/>
        </p:blipFill>
        <p:spPr>
          <a:xfrm>
            <a:off x="2057400" y="228600"/>
            <a:ext cx="512136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7" name="WordArt 2"/>
          <p:cNvSpPr txBox="1"/>
          <p:nvPr/>
        </p:nvSpPr>
        <p:spPr>
          <a:xfrm>
            <a:off x="1324080" y="2089080"/>
            <a:ext cx="649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LPIDIO QUIRIN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 LAURE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NOLI DE CASTR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Rectangle 2"/>
          <p:cNvSpPr/>
          <p:nvPr/>
        </p:nvSpPr>
        <p:spPr>
          <a:xfrm>
            <a:off x="0" y="14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Rectangle 3"/>
          <p:cNvSpPr/>
          <p:nvPr/>
        </p:nvSpPr>
        <p:spPr>
          <a:xfrm>
            <a:off x="2590920" y="1468800"/>
            <a:ext cx="434340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1"/>
              </a:rPr>
              <a:t>16-Nov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2"/>
              </a:rPr>
              <a:t>1890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Vigan, Ilocos Sur,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3"/>
              </a:rPr>
              <a:t>29-Feb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4"/>
              </a:rPr>
              <a:t>1956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5"/>
              </a:rPr>
              <a:t>Manila,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rt 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elig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6"/>
              </a:rPr>
              <a:t>Roman Catholi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ultiracia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6th President of the Philippi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Ilocano (paternal) and Spanish (maternal) desc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riano Quirin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Gregoria River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   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7"/>
              </a:rPr>
              <a:t>President of the Philippines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18-Apr-1948 to 30-Dec-1953</a:t>
            </a:r>
            <a:br>
              <a:rPr sz="16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WordArt 4"/>
          <p:cNvSpPr txBox="1"/>
          <p:nvPr/>
        </p:nvSpPr>
        <p:spPr>
          <a:xfrm>
            <a:off x="1828800" y="304920"/>
            <a:ext cx="5867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ELPIDIO QUIRIN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1" name="Picture 2" descr="Joseph Estrad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304920"/>
            <a:ext cx="493884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2" name="WordArt 2"/>
          <p:cNvSpPr txBox="1"/>
          <p:nvPr/>
        </p:nvSpPr>
        <p:spPr>
          <a:xfrm>
            <a:off x="1490760" y="2089080"/>
            <a:ext cx="616248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PIOLO PASCU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CARLOS GARCI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Rectangle 2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Rectangle 3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Rectangle 4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6" name=""/>
          <p:cNvGraphicFramePr/>
          <p:nvPr/>
        </p:nvGraphicFramePr>
        <p:xfrm>
          <a:off x="1676520" y="304920"/>
          <a:ext cx="3962160" cy="624816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</a:tblGrid>
              <a:tr h="165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3th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President of the 5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2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9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9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pril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70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Tond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48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Partido ng Masang Pilipin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PM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Luisa Pimen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7" name="WordArt 22"/>
          <p:cNvSpPr txBox="1"/>
          <p:nvPr/>
        </p:nvSpPr>
        <p:spPr>
          <a:xfrm rot="5400000">
            <a:off x="4152240" y="3162240"/>
            <a:ext cx="556272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JOSEPH EJERCITO ESTRADA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925"/>
                                        <p:tgtEl>
                                          <p:spTgt spid="33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1925" fill="hold"/>
                                        <p:tgtEl>
                                          <p:spTgt spid="33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1925" fill="hold"/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1925" fill="hold"/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8" name="Picture 4" descr="sergio_osmena"/>
          <p:cNvPicPr/>
          <p:nvPr/>
        </p:nvPicPr>
        <p:blipFill>
          <a:blip r:embed="rId1"/>
          <a:stretch/>
        </p:blipFill>
        <p:spPr>
          <a:xfrm>
            <a:off x="1600200" y="228600"/>
            <a:ext cx="598788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WordArt 2"/>
          <p:cNvSpPr txBox="1"/>
          <p:nvPr/>
        </p:nvSpPr>
        <p:spPr>
          <a:xfrm>
            <a:off x="909720" y="2089080"/>
            <a:ext cx="73245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MANUEL ROXA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SERGIO OSM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0" name="Rectangle 4"/>
          <p:cNvSpPr/>
          <p:nvPr/>
        </p:nvSpPr>
        <p:spPr>
          <a:xfrm>
            <a:off x="0" y="34308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1" name=""/>
          <p:cNvGraphicFramePr/>
          <p:nvPr/>
        </p:nvGraphicFramePr>
        <p:xfrm>
          <a:off x="228600" y="838080"/>
          <a:ext cx="4876920" cy="5486400"/>
        </p:xfrm>
        <a:graphic>
          <a:graphicData uri="http://schemas.openxmlformats.org/drawingml/2006/table">
            <a:tbl>
              <a:tblPr/>
              <a:tblGrid>
                <a:gridCol w="2438280"/>
                <a:gridCol w="2438640"/>
              </a:tblGrid>
              <a:tr h="743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4th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President of the Commonw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5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May 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6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November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September 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878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Cebu Cit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Ceb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66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October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196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83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Quezon 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Nacionalista 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Esperanza Limj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2" name="WordArt 86"/>
          <p:cNvSpPr txBox="1"/>
          <p:nvPr/>
        </p:nvSpPr>
        <p:spPr>
          <a:xfrm>
            <a:off x="5181480" y="1981080"/>
            <a:ext cx="396252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High Tower Text"/>
              </a:rPr>
              <a:t>SERGIO OSMENA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3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3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3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3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3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3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1" name="Picture 2" descr="quezon"/>
          <p:cNvPicPr/>
          <p:nvPr/>
        </p:nvPicPr>
        <p:blipFill>
          <a:blip r:embed="rId1"/>
          <a:stretch/>
        </p:blipFill>
        <p:spPr>
          <a:xfrm>
            <a:off x="2057400" y="380880"/>
            <a:ext cx="4998960" cy="62485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3" name="Picture 2" descr="Gloria Macapagal-Arroy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12840" y="304920"/>
            <a:ext cx="4668840" cy="6248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4" name="WordArt 2"/>
          <p:cNvSpPr txBox="1"/>
          <p:nvPr/>
        </p:nvSpPr>
        <p:spPr>
          <a:xfrm>
            <a:off x="295200" y="2133720"/>
            <a:ext cx="8848800" cy="22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GLORIA MACAPAGAL ARROY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KRIS AQUIN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ARIAN RIVERA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5" name="Rectangle 2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Rectangle 3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Rectangle 4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8" name=""/>
          <p:cNvGraphicFramePr/>
          <p:nvPr/>
        </p:nvGraphicFramePr>
        <p:xfrm>
          <a:off x="3429000" y="533520"/>
          <a:ext cx="3886200" cy="586728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</a:tblGrid>
              <a:tr h="41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Incumb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Assumed office 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January 2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Vice Presid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Noli de Cast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5 Apri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</a:t>
                      </a: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60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San Ju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Riz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17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LD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2-1998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Lakas-CM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8-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KAMP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7-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Jose Miguel Arro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Econom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9" name="WordArt 25"/>
          <p:cNvSpPr txBox="1"/>
          <p:nvPr/>
        </p:nvSpPr>
        <p:spPr>
          <a:xfrm rot="5400000">
            <a:off x="-543240" y="3210120"/>
            <a:ext cx="634356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askerville Old Face"/>
              </a:rPr>
              <a:t>GLORIA MACAPAGAL ARROYO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askerville Old Face"/>
              <a:ea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5000"/>
                                        <p:tgtEl>
                                          <p:spTgt spid="3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0" name="Picture 4" descr="Ph_pres_roxas"/>
          <p:cNvPicPr/>
          <p:nvPr/>
        </p:nvPicPr>
        <p:blipFill>
          <a:blip r:embed="rId1"/>
          <a:stretch/>
        </p:blipFill>
        <p:spPr>
          <a:xfrm>
            <a:off x="2057400" y="304920"/>
            <a:ext cx="4998960" cy="6248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1" name="WordArt 2"/>
          <p:cNvSpPr txBox="1"/>
          <p:nvPr/>
        </p:nvSpPr>
        <p:spPr>
          <a:xfrm>
            <a:off x="1457280" y="2089080"/>
            <a:ext cx="62294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IDEL RAM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ROXA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2" name="Rectangle 12"/>
          <p:cNvSpPr/>
          <p:nvPr/>
        </p:nvSpPr>
        <p:spPr>
          <a:xfrm>
            <a:off x="0" y="552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3" name=""/>
          <p:cNvGraphicFramePr/>
          <p:nvPr/>
        </p:nvGraphicFramePr>
        <p:xfrm>
          <a:off x="4267080" y="228600"/>
          <a:ext cx="4581720" cy="6248520"/>
        </p:xfrm>
        <a:graphic>
          <a:graphicData uri="http://schemas.openxmlformats.org/drawingml/2006/table">
            <a:tbl>
              <a:tblPr/>
              <a:tblGrid>
                <a:gridCol w="2336760"/>
                <a:gridCol w="2244960"/>
              </a:tblGrid>
              <a:tr h="1077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5th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President of the Commonwealth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3rd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5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May 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s Commonwealth President until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ly 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as Republic President thereafter) – 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pril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0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January 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89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Capiz (now Roxas City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Cap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pril 1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194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56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Clark Air 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Angele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Pampan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Trinidad de Le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4" name="WordArt 70"/>
          <p:cNvSpPr txBox="1"/>
          <p:nvPr/>
        </p:nvSpPr>
        <p:spPr>
          <a:xfrm>
            <a:off x="457200" y="2133720"/>
            <a:ext cx="37339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Berlin Sans FB Demi"/>
              </a:rPr>
              <a:t>MANUEL ROXAS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Berlin Sans FB Demi"/>
              <a:ea typeface="Berlin Sans FB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3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3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3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3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3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5000"/>
                                        <p:tgtEl>
                                          <p:spTgt spid="3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5" name="Picture 4" descr="Ramon Magsaysay"/>
          <p:cNvPicPr/>
          <p:nvPr/>
        </p:nvPicPr>
        <p:blipFill>
          <a:blip r:embed="rId1"/>
          <a:stretch/>
        </p:blipFill>
        <p:spPr>
          <a:xfrm>
            <a:off x="2133720" y="304920"/>
            <a:ext cx="493704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WordArt 2"/>
          <p:cNvSpPr txBox="1"/>
          <p:nvPr/>
        </p:nvSpPr>
        <p:spPr>
          <a:xfrm>
            <a:off x="747720" y="2089080"/>
            <a:ext cx="76485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RAMON MAGSAYSAY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 RIZ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Rectangle 5"/>
          <p:cNvSpPr/>
          <p:nvPr/>
        </p:nvSpPr>
        <p:spPr>
          <a:xfrm>
            <a:off x="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Rectangle 6"/>
          <p:cNvSpPr/>
          <p:nvPr/>
        </p:nvSpPr>
        <p:spPr>
          <a:xfrm>
            <a:off x="1295280" y="1680840"/>
            <a:ext cx="669924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1"/>
              </a:rPr>
              <a:t>31-Aug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2"/>
              </a:rPr>
              <a:t>190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Iba, Zambales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3"/>
              </a:rPr>
              <a:t>17-Mar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4"/>
              </a:rPr>
              <a:t>195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t. Manunggal, Cebu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5"/>
              </a:rPr>
              <a:t>Accident - Air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Asia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7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ilitary servi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 Army (31st Infantry); Western Luzon Guerilla For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Exequiel Magsaysay (blacksmith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erfecta del Fierro (schoolteache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6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30-Dec-1953 to 17-Mar-1957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WordArt 7"/>
          <p:cNvSpPr txBox="1"/>
          <p:nvPr/>
        </p:nvSpPr>
        <p:spPr>
          <a:xfrm>
            <a:off x="457200" y="685800"/>
            <a:ext cx="8077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RAMON MAGSAYS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3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3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3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0"/>
                                        <p:tgtEl>
                                          <p:spTgt spid="3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0" name="Picture 4" descr="Carlos P. Garcia"/>
          <p:cNvPicPr/>
          <p:nvPr/>
        </p:nvPicPr>
        <p:blipFill>
          <a:blip r:embed="rId1"/>
          <a:stretch/>
        </p:blipFill>
        <p:spPr>
          <a:xfrm>
            <a:off x="2149560" y="304920"/>
            <a:ext cx="493704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WordArt 2"/>
          <p:cNvSpPr txBox="1"/>
          <p:nvPr/>
        </p:nvSpPr>
        <p:spPr>
          <a:xfrm>
            <a:off x="304920" y="1981080"/>
            <a:ext cx="8591400" cy="268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SERGIO OSM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1" name="WordArt 2"/>
          <p:cNvSpPr txBox="1"/>
          <p:nvPr/>
        </p:nvSpPr>
        <p:spPr>
          <a:xfrm>
            <a:off x="276120" y="2089080"/>
            <a:ext cx="85917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APOLINARIO MABINI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CARLOS GARCI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Rectangle 5"/>
          <p:cNvSpPr/>
          <p:nvPr/>
        </p:nvSpPr>
        <p:spPr>
          <a:xfrm>
            <a:off x="0" y="16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Rectangle 6"/>
          <p:cNvSpPr/>
          <p:nvPr/>
        </p:nvSpPr>
        <p:spPr>
          <a:xfrm>
            <a:off x="1334520" y="2156040"/>
            <a:ext cx="684972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AKA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Carlos Polestico Gar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1"/>
              </a:rPr>
              <a:t>4-Nov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2"/>
              </a:rPr>
              <a:t>189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Talibon, Bohol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3"/>
              </a:rPr>
              <a:t>14-Jun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4"/>
              </a:rPr>
              <a:t>197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Quezon City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rt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ispani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8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olicronio Garcia (mayor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Ambrosia Poli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   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5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(23-Mar-1957 to 30-Dec-1961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WordArt 7"/>
          <p:cNvSpPr txBox="1"/>
          <p:nvPr/>
        </p:nvSpPr>
        <p:spPr>
          <a:xfrm>
            <a:off x="1600200" y="914400"/>
            <a:ext cx="6324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ARLOS P. GARCIA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3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3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0"/>
                                        <p:tgtEl>
                                          <p:spTgt spid="3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3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5" name="Picture 4" descr="Ph_pres_marcos"/>
          <p:cNvPicPr/>
          <p:nvPr/>
        </p:nvPicPr>
        <p:blipFill>
          <a:blip r:embed="rId1"/>
          <a:stretch/>
        </p:blipFill>
        <p:spPr>
          <a:xfrm>
            <a:off x="1965240" y="228600"/>
            <a:ext cx="512136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WordArt 2"/>
          <p:cNvSpPr txBox="1"/>
          <p:nvPr/>
        </p:nvSpPr>
        <p:spPr>
          <a:xfrm>
            <a:off x="42840" y="2089080"/>
            <a:ext cx="905832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ANDRES BONIFACI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GRACIANO LOPEZ JA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over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Rectangle 14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Rectangle 15"/>
          <p:cNvSpPr/>
          <p:nvPr/>
        </p:nvSpPr>
        <p:spPr>
          <a:xfrm>
            <a:off x="0" y="-228600"/>
            <a:ext cx="9144000" cy="1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Rectangle 20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Rectangle 21"/>
          <p:cNvSpPr/>
          <p:nvPr/>
        </p:nvSpPr>
        <p:spPr>
          <a:xfrm>
            <a:off x="0" y="-228600"/>
            <a:ext cx="9144000" cy="1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Rectangle 24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2" name=""/>
          <p:cNvGraphicFramePr/>
          <p:nvPr/>
        </p:nvGraphicFramePr>
        <p:xfrm>
          <a:off x="3048120" y="1828800"/>
          <a:ext cx="3276360" cy="4695840"/>
        </p:xfrm>
        <a:graphic>
          <a:graphicData uri="http://schemas.openxmlformats.org/drawingml/2006/table">
            <a:tbl>
              <a:tblPr/>
              <a:tblGrid>
                <a:gridCol w="1638360"/>
                <a:gridCol w="1638000"/>
              </a:tblGrid>
              <a:tr h="20509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0th </a:t>
                      </a:r>
                      <a:r>
                        <a:rPr b="0" lang="en-US" sz="18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6th President of the 3rd Republic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4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8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600"/>
                      </a:br>
                      <a:r>
                        <a:rPr b="1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June 1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7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September 1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1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Sarra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Ilocos Nort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Philipp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Imelda Romualde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3" name="WordArt 81"/>
          <p:cNvSpPr txBox="1"/>
          <p:nvPr/>
        </p:nvSpPr>
        <p:spPr>
          <a:xfrm>
            <a:off x="609480" y="457200"/>
            <a:ext cx="7620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ERDINAND MARCOS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3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3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4" name="Picture 2" descr="Aguinaldo"/>
          <p:cNvPicPr/>
          <p:nvPr/>
        </p:nvPicPr>
        <p:blipFill>
          <a:blip r:embed="rId1"/>
          <a:stretch/>
        </p:blipFill>
        <p:spPr>
          <a:xfrm>
            <a:off x="2209680" y="228600"/>
            <a:ext cx="463716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WordArt 2"/>
          <p:cNvSpPr txBox="1"/>
          <p:nvPr/>
        </p:nvSpPr>
        <p:spPr>
          <a:xfrm>
            <a:off x="762120" y="1905120"/>
            <a:ext cx="756288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RAMON MAGSAYSAY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plus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6" name="Rectangle 2"/>
          <p:cNvSpPr/>
          <p:nvPr/>
        </p:nvSpPr>
        <p:spPr>
          <a:xfrm>
            <a:off x="0" y="1159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7" name=""/>
          <p:cNvGraphicFramePr/>
          <p:nvPr/>
        </p:nvGraphicFramePr>
        <p:xfrm>
          <a:off x="2362320" y="152280"/>
          <a:ext cx="5790960" cy="6742080"/>
        </p:xfrm>
        <a:graphic>
          <a:graphicData uri="http://schemas.openxmlformats.org/drawingml/2006/table">
            <a:tbl>
              <a:tblPr/>
              <a:tblGrid>
                <a:gridCol w="2895480"/>
                <a:gridCol w="2895480"/>
              </a:tblGrid>
              <a:tr h="1774440"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Baskerville Old Face"/>
                          <a:ea typeface="Times New Roman"/>
                        </a:rPr>
                        <a:t>1st </a:t>
                      </a:r>
                      <a:r>
                        <a:rPr b="1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Tejeros Convention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Biyak-na-Bato Republic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ctator of the Dictatorial Government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Revolutionary Government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1st Philippine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7160"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March 2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89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April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March 2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86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Cavite El Viejo (Kawit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Cav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February 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96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94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Quezon Cit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Metro 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agdalo faction of the Katipunan, National Socialist 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09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Hilaria del Rosari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-died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aria Agoncil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Mili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8" name="WordArt 24"/>
          <p:cNvSpPr txBox="1"/>
          <p:nvPr/>
        </p:nvSpPr>
        <p:spPr>
          <a:xfrm rot="5400000">
            <a:off x="-438120" y="2952720"/>
            <a:ext cx="502920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EMILIO AGUINAL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9" name="Picture 4" descr="Fidel V. Ramo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380880"/>
            <a:ext cx="491328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0" name="WordArt 2"/>
          <p:cNvSpPr txBox="1"/>
          <p:nvPr/>
        </p:nvSpPr>
        <p:spPr>
          <a:xfrm>
            <a:off x="866880" y="2089080"/>
            <a:ext cx="74102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RCELO DEL PILAR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FIDEL RAM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3" name="Rectangle 2"/>
          <p:cNvSpPr/>
          <p:nvPr/>
        </p:nvSpPr>
        <p:spPr>
          <a:xfrm>
            <a:off x="0" y="9558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Rectangle 3"/>
          <p:cNvSpPr/>
          <p:nvPr/>
        </p:nvSpPr>
        <p:spPr>
          <a:xfrm>
            <a:off x="0" y="9558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5" name="Picture 4" descr="Manuel L. Quezon's signa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5638680"/>
            <a:ext cx="1219320" cy="2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66" name=""/>
          <p:cNvGraphicFramePr/>
          <p:nvPr/>
        </p:nvGraphicFramePr>
        <p:xfrm>
          <a:off x="228600" y="380880"/>
          <a:ext cx="5791320" cy="586764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</a:tblGrid>
              <a:tr h="770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Commonw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21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November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3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August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87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Bal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Auro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ugust 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194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65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Saranac Lak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New Yor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United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Coalición Nacionali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Aurora Arag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67" name="WordArt 26"/>
          <p:cNvSpPr txBox="1"/>
          <p:nvPr/>
        </p:nvSpPr>
        <p:spPr>
          <a:xfrm rot="5400000">
            <a:off x="4952520" y="2666880"/>
            <a:ext cx="510552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auhaus 93"/>
              </a:rPr>
              <a:t>MANUEL L. QUEZON</a:t>
            </a:r>
            <a:endParaRPr b="0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auhaus 93"/>
              <a:ea typeface="Bauhaus 93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3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3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0"/>
                                        <p:tgtEl>
                                          <p:spTgt spid="3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500" fill="hold"/>
                                        <p:tgtEl>
                                          <p:spTgt spid="3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3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1" name="Rectangle 13"/>
          <p:cNvSpPr/>
          <p:nvPr/>
        </p:nvSpPr>
        <p:spPr>
          <a:xfrm>
            <a:off x="0" y="107964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Rectangle 27"/>
          <p:cNvSpPr/>
          <p:nvPr/>
        </p:nvSpPr>
        <p:spPr>
          <a:xfrm>
            <a:off x="0" y="107964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3" name="Picture 4" descr="Fidel V. Ramos's signa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6095880"/>
            <a:ext cx="1218960" cy="40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34" name=""/>
          <p:cNvGraphicFramePr/>
          <p:nvPr/>
        </p:nvGraphicFramePr>
        <p:xfrm>
          <a:off x="3657600" y="533520"/>
          <a:ext cx="4343400" cy="601956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</a:tblGrid>
              <a:tr h="1349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2th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President of the 5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9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March 1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2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79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Lingay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Pangasin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Philipp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Lakas-Christian Muslim Democr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Amelita Martine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ili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United Method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5" name="WordArt 65"/>
          <p:cNvSpPr txBox="1"/>
          <p:nvPr/>
        </p:nvSpPr>
        <p:spPr>
          <a:xfrm rot="5400000">
            <a:off x="-723960" y="2628720"/>
            <a:ext cx="586764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FIDEL V. RAMO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5000" fill="hold"/>
                                        <p:tgtEl>
                                          <p:spTgt spid="3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5000" fill="hold"/>
                                        <p:tgtEl>
                                          <p:spTgt spid="3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3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1" dur="2000" fill="hold"/>
                                        <p:tgtEl>
                                          <p:spTgt spid="34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5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247" dur="5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6" name="Picture 2" descr="Diosdado Macapagal"/>
          <p:cNvPicPr/>
          <p:nvPr/>
        </p:nvPicPr>
        <p:blipFill>
          <a:blip r:embed="rId1"/>
          <a:stretch/>
        </p:blipFill>
        <p:spPr>
          <a:xfrm>
            <a:off x="2117880" y="380880"/>
            <a:ext cx="4816440" cy="6019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WordArt 2"/>
          <p:cNvSpPr txBox="1"/>
          <p:nvPr/>
        </p:nvSpPr>
        <p:spPr>
          <a:xfrm>
            <a:off x="19080" y="2089080"/>
            <a:ext cx="910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split dir="out" orient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8" name="Rectangle 2"/>
          <p:cNvSpPr/>
          <p:nvPr/>
        </p:nvSpPr>
        <p:spPr>
          <a:xfrm>
            <a:off x="662760" y="1754280"/>
            <a:ext cx="7723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Bor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28-Sep-1910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Birthplace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Lubao, Pampanga, Philippin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Died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21-Apr-1997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Location of death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Makati Medical Cente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Cause of death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Heart Failur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emains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Buried, Libingan ng mga Bayani, Taguig, Manila,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Gend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elig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Roman Catholic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ace or Ethnicit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Asia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Sexual orientat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Occupat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Nationalit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Executive summar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9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Fath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Urbano Macapaga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Moth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Romana Panga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Daught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Gloria Macapagal-Arroyo (President of the Philippi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        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President of the Philippines 30-Dec-1961 to 30-Dec-19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WordArt 3"/>
          <p:cNvSpPr txBox="1"/>
          <p:nvPr/>
        </p:nvSpPr>
        <p:spPr>
          <a:xfrm>
            <a:off x="457200" y="762120"/>
            <a:ext cx="8077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IOSDADO MACAPAGA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3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3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3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3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3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0"/>
                                        <p:tgtEl>
                                          <p:spTgt spid="3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8" name="Picture 2" descr="Corazon Aquino"/>
          <p:cNvPicPr/>
          <p:nvPr/>
        </p:nvPicPr>
        <p:blipFill>
          <a:blip r:embed="rId1"/>
          <a:stretch/>
        </p:blipFill>
        <p:spPr>
          <a:xfrm>
            <a:off x="1833480" y="380880"/>
            <a:ext cx="5558040" cy="6096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WordArt 2"/>
          <p:cNvSpPr txBox="1"/>
          <p:nvPr/>
        </p:nvSpPr>
        <p:spPr>
          <a:xfrm>
            <a:off x="919080" y="2089080"/>
            <a:ext cx="730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CORAZON AQUIN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LOREN LEGAR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IRIAM SANTIAG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0" name="Rectangle 2"/>
          <p:cNvSpPr/>
          <p:nvPr/>
        </p:nvSpPr>
        <p:spPr>
          <a:xfrm>
            <a:off x="152280" y="1219320"/>
            <a:ext cx="63248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1"/>
              </a:rPr>
              <a:t>25-Jan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2"/>
              </a:rPr>
              <a:t>193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3"/>
              </a:rPr>
              <a:t>Manila,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Fe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Oth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Former housewife turned political wid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José Cojuangco, Sr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Husban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4"/>
              </a:rPr>
              <a:t>Benigno Aquino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(Philippine Senator, m. 1955, five children, d. 1983 assassinatio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5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25-Feb-1986 to 30-Jun-199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6"/>
              </a:rPr>
              <a:t>Time Man of the Year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19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WordArt 3"/>
          <p:cNvSpPr txBox="1"/>
          <p:nvPr/>
        </p:nvSpPr>
        <p:spPr>
          <a:xfrm rot="5400000">
            <a:off x="5143320" y="2933280"/>
            <a:ext cx="5257800" cy="609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"/>
              </a:rPr>
              <a:t>CORAZON AQUIN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"/>
              <a:ea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3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3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2" name="Picture 2" descr="jose_laurel"/>
          <p:cNvPicPr/>
          <p:nvPr/>
        </p:nvPicPr>
        <p:blipFill>
          <a:blip r:embed="rId1"/>
          <a:stretch/>
        </p:blipFill>
        <p:spPr>
          <a:xfrm>
            <a:off x="1600200" y="228600"/>
            <a:ext cx="5843520" cy="62485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3" name="WordArt 3"/>
          <p:cNvSpPr txBox="1"/>
          <p:nvPr/>
        </p:nvSpPr>
        <p:spPr>
          <a:xfrm>
            <a:off x="304920" y="1981080"/>
            <a:ext cx="8343720" cy="245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 LAURE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03:54:54Z</dcterms:created>
  <dc:creator>Mr Ramos</dc:creator>
  <dc:description/>
  <dc:language>en-US</dc:language>
  <cp:lastModifiedBy>RomaK</cp:lastModifiedBy>
  <dcterms:modified xsi:type="dcterms:W3CDTF">2015-09-04T09:32:36Z</dcterms:modified>
  <cp:revision>7</cp:revision>
  <dc:subject/>
  <dc:title>Presidents of the Phillipines</dc:title>
</cp:coreProperties>
</file>