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BD84-B26D-4642-ACC2-3AA0E4E96E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Understanding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Lesson: Bonds &amp; Energ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: Bonds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LEVEL DIAGRAM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e can show the energy transfers in reactions on an energy level diagram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show us the energy stored in the reactants compared to the energy stored in the product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how the energy transfers in reactions on an energy level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how us the energy stored in the reactants compared to the energy stored in the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H (‘delta H’) is the symbol for the ‘change in energy’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an exothermic reaction the products have less energy than the reactant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H is negative for an exothermic reactio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(‘delta H’) is the symbol for the ‘change in energy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xothermic reaction the products have less energy than the reac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is negative for an exotherm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End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do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an endothermic reaction the products have more energy than the reactant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H is positive for an endothermic reactio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dothermic reaction the products have more energy than the reac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is positive for an endotherm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Making and breaking bond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e have seen how bonds are formed (both ionic and covalent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Do you think energy is needed to break bonds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nd breaking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seen how bonds are formed (both ionic and coval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energy is needed to break b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Making new bonds gives out energy. It is exothermic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new bonds gives out energy. It is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or a chemical reaction to occur, bonds must be both formed and broke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e  +  CuSO4               Cu    +  FeSO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chemical reaction to occur, bonds must be both formed and bro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  +  CuSO4               Cu    +  Fe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Chemical reactions always involve energy change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Making and breaking bonds involves energy change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lways involve energy chan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nd breaking bonds involves energ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xothermic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reactions give out heat energy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Combustion is an exothermic reactio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herm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eactions give out hea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ustion is an exotherm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dothermic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reactions take in heat energy from their surrounding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cause temperatures to fall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eactions take in heat energy from their surroun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use temperatures to f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Use the apparatus as show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ork with 20ml of each substance in tur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Copy the results table before you star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pparatus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with 20ml of each substance in 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results table before you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You will be using acids so wear safety goggle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ipe up spills immediatel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Replace stopper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Do not put solids down the sink – use the bowl at the front!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using acids so wear safety gog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pe up spills immedi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 st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put solids down the sink – use the bowl at the fro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E4F1-911B-4D48-95AB-A0334293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51C5-5415-4213-91B9-8C26A882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604C-B303-4A37-84C8-06FBB9EF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46B-8E97-4EE7-8EE2-A4FDA700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09F1-24A9-480C-8DEA-A8D5A511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286D-EEB0-484F-8B73-F9D0FBF1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B369-1F24-46B8-A6C6-AFCD39D0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56FC-6141-47E8-8712-603995C2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96A3-8ED7-4A7A-A388-FE19551F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4161-BDBD-4C5B-B4BB-D7072887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9E2A-A82F-4F52-9123-BBDC7B05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243B-242C-4EE7-BCE1-FD032914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8C28-6B06-45F3-882C-446D63CF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32B1-0216-4CDA-880B-15865856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5A87-651F-47E3-8C83-8CC403EF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2F98-49F2-41EC-ACDA-2D49762A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795B-7947-4F44-8DB4-462D6078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63E1-820F-449B-B823-1DB2D7CE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A65-9DBE-4EA0-A58D-38D1C133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1995-4D28-4474-BDFE-2410CB97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EF6D-B969-4AFC-958C-6D1378F0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CE41-D601-41B2-9E41-A55449A6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F2C0-FEBC-4896-8FA2-56E0665B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C679-5CEA-41A4-9D12-BC173AE7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48B6-65D8-4E36-9C49-6C5B99128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B520-AE85-4013-987A-FDC3DD750664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200" spc="-1" strike="noStrike">
                <a:solidFill>
                  <a:srgbClr val="006666"/>
                </a:solidFill>
                <a:latin typeface="Verdana"/>
              </a:rPr>
              <a:t>Understanding Chemical Reactions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Lesson: Bonds &amp; Energ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LEVEL DIAGRAM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We can show the energy transfers in reactions on an </a:t>
            </a: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energy level diagram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These show us the energy stored in the reactants compared to the energy stored in the product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x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6" name="Picture 9" descr="exo"/>
          <p:cNvPicPr/>
          <p:nvPr/>
        </p:nvPicPr>
        <p:blipFill>
          <a:blip r:embed="rId1"/>
          <a:stretch/>
        </p:blipFill>
        <p:spPr>
          <a:xfrm>
            <a:off x="250920" y="1484280"/>
            <a:ext cx="8497800" cy="4969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x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 (‘delta H’) is the symbol for the ‘change in energy’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In an exothermic reaction the products have </a:t>
            </a: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less</a:t>
            </a: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 energy than the reactant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 is negative for an exothermic reactio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Picture 7" descr="exo"/>
          <p:cNvPicPr/>
          <p:nvPr/>
        </p:nvPicPr>
        <p:blipFill>
          <a:blip r:embed="rId1"/>
          <a:stretch/>
        </p:blipFill>
        <p:spPr>
          <a:xfrm>
            <a:off x="250920" y="1628640"/>
            <a:ext cx="4105080" cy="4321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nd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1" name="Picture 5" descr="endo"/>
          <p:cNvPicPr/>
          <p:nvPr/>
        </p:nvPicPr>
        <p:blipFill>
          <a:blip r:embed="rId1"/>
          <a:stretch/>
        </p:blipFill>
        <p:spPr>
          <a:xfrm>
            <a:off x="468360" y="1700280"/>
            <a:ext cx="8207280" cy="4681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ndo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Verdana"/>
              </a:rPr>
              <a:t>In an endothermic reaction the products have </a:t>
            </a:r>
            <a:r>
              <a:rPr b="1" lang="en-GB" sz="2800" spc="-1" strike="noStrike">
                <a:solidFill>
                  <a:srgbClr val="006699"/>
                </a:solidFill>
                <a:latin typeface="Verdana"/>
              </a:rPr>
              <a:t>more</a:t>
            </a:r>
            <a:r>
              <a:rPr b="0" lang="en-GB" sz="2800" spc="-1" strike="noStrike">
                <a:solidFill>
                  <a:srgbClr val="006699"/>
                </a:solidFill>
                <a:latin typeface="Verdana"/>
              </a:rPr>
              <a:t> energy than the reactant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 is positive for an endothermic reactio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6" descr="endo"/>
          <p:cNvPicPr/>
          <p:nvPr/>
        </p:nvPicPr>
        <p:blipFill>
          <a:blip r:embed="rId1"/>
          <a:stretch/>
        </p:blipFill>
        <p:spPr>
          <a:xfrm>
            <a:off x="324000" y="1628640"/>
            <a:ext cx="3887640" cy="4392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Making and breaking bond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We have seen how bonds are formed (both ionic and covalent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Do you think energy is needed to break bonds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bonds"/>
          <p:cNvPicPr/>
          <p:nvPr/>
        </p:nvPicPr>
        <p:blipFill>
          <a:blip r:embed="rId1"/>
          <a:stretch/>
        </p:blipFill>
        <p:spPr>
          <a:xfrm>
            <a:off x="1619280" y="0"/>
            <a:ext cx="5761080" cy="6597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Breaking bonds requires energy. It is endotherm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Breaking bonds requires energy. It is endotherm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Making new bonds gives out energy. It is exotherm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bonds2"/>
          <p:cNvPicPr/>
          <p:nvPr/>
        </p:nvPicPr>
        <p:blipFill>
          <a:blip r:embed="rId1"/>
          <a:stretch/>
        </p:blipFill>
        <p:spPr>
          <a:xfrm>
            <a:off x="179280" y="260280"/>
            <a:ext cx="8496360" cy="6337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Verdana"/>
              </a:rPr>
              <a:t>Basic Revis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For a chemical reaction to occur, bonds must be both formed and broke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Fe  +  CuSO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Verdana"/>
              </a:rPr>
              <a:t>4               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Cu    +  FeSO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3635280" y="4076640"/>
            <a:ext cx="1224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Verdana"/>
              </a:rPr>
              <a:t>Basic Revis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Chemical reactions always involve energy chang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Making and breaking bonds involves energy chang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99"/>
                </a:solidFill>
                <a:uFillTx/>
                <a:latin typeface="Verdana"/>
              </a:rPr>
              <a:t>Exothermic reac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These reactions give out heat energ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Combustion is an exothermic reac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99"/>
                </a:solidFill>
                <a:uFillTx/>
                <a:latin typeface="Verdana"/>
              </a:rPr>
              <a:t>Endothermic reac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These reactions take in heat energy from their surrounding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These cause temperatures to fall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temp1"/>
          <p:cNvPicPr/>
          <p:nvPr/>
        </p:nvPicPr>
        <p:blipFill>
          <a:blip r:embed="rId1"/>
          <a:stretch/>
        </p:blipFill>
        <p:spPr>
          <a:xfrm>
            <a:off x="212400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Use the apparatus as show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Work with 20ml of each substance in tur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opy the results table before you star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7" descr="temp2"/>
          <p:cNvPicPr/>
          <p:nvPr/>
        </p:nvPicPr>
        <p:blipFill>
          <a:blip r:embed="rId1"/>
          <a:stretch/>
        </p:blipFill>
        <p:spPr>
          <a:xfrm>
            <a:off x="324000" y="1628640"/>
            <a:ext cx="3960720" cy="4608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Verdana"/>
              </a:rPr>
              <a:t>RISK ASSESSMEN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You will be using acids so wear safety goggl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Wipe up spills immediatel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Replace stopper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Do not put solids down the sink – use the bowl at the front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5072040"/>
        </p:xfrm>
        <a:graphic>
          <a:graphicData uri="http://schemas.openxmlformats.org/drawingml/2006/table">
            <a:tbl>
              <a:tblPr/>
              <a:tblGrid>
                <a:gridCol w="3178080"/>
                <a:gridCol w="1513080"/>
                <a:gridCol w="1481040"/>
                <a:gridCol w="20574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Reaction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mp. before mixing (</a:t>
                      </a:r>
                      <a:r>
                        <a:rPr b="1" lang="en-GB" sz="18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)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mp. after mixing (</a:t>
                      </a:r>
                      <a:r>
                        <a:rPr b="1" lang="en-GB" sz="18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)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Exothermic or Endothermic?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odium hydroxide sol’n + hydrochloric acid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odium hydrogen carbonate sol’n + citric acid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opper sulphate sol’n + magnesium powder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ulphuric acid + magnesium ribbon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barium chloride + sodium sulphate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8:50:28Z</dcterms:created>
  <dc:creator>Keith Hicks</dc:creator>
  <dc:description/>
  <dc:language>en-US</dc:language>
  <cp:lastModifiedBy>LEGION</cp:lastModifiedBy>
  <dcterms:modified xsi:type="dcterms:W3CDTF">2015-09-04T10:11:37Z</dcterms:modified>
  <cp:revision>17</cp:revision>
  <dc:subject/>
  <dc:title>Understanding Chemical Reactions</dc:title>
</cp:coreProperties>
</file>