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68C7-C905-4F51-8553-95C6B6506F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6F0-B08C-420B-BB02-A763B3A7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12C-F0F4-469F-88EB-8476963E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6A5-2280-42F5-BB30-418468A9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1AC-941C-430A-9879-D793AEA5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4551-1ADE-40DF-B3A3-B43AC093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525D-AEC4-4EE0-8DAF-D3697C0F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FA1B-48DE-4E28-9C55-FFDA8C49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3E3C-A1B1-4B1D-8317-7722591F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3365-A91F-4542-AFE6-C3EBCB31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6082-431D-410A-B93D-5C996322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C41A-6ECC-45EA-8AA3-CD2D3410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5B4-5050-4CE2-B48A-ACF0F4FE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4CFB-537C-4F28-AE7D-F2F10A10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306D-7818-4340-9ED4-89FAD3FA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BE6B-D00F-4E44-8943-4B3CBA27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AB71-B721-4844-8C13-BA6C388F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D691-D70A-44B7-ABEF-2E59AFAC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DB9-C6CD-4D88-8FD4-232B349D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2A1-8DB2-47EF-B4FB-033EA11F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DAE-D44B-4806-86A9-17D40C97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E87-3D4E-4CF6-A00F-ED67D1B9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8FB-9CE7-4E22-A8E6-F86381FF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8DA-B52D-4259-83BF-AF021117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142-84F5-42C0-B4E5-A051851E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DEBA-55DE-41C3-A10D-C138D72A3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BB21-BB5D-461D-B7C8-92A4BA539FD7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006666"/>
                </a:solidFill>
                <a:latin typeface="Verdana"/>
              </a:rPr>
              <a:t>Understanding Chemical Reaction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Lesson: Bonds &amp; Ener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LEVEL DIAGRA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can show the energy transfers in reactions on an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level diagra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These show us the energy stored in the reactants compared to the energy stored in the produc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9" descr="exo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(‘delta H’) is the symbol for the ‘change in energy’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In an exothermic reaction the products have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less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is negative for an exothermic reac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7" descr="exo"/>
          <p:cNvPicPr/>
          <p:nvPr/>
        </p:nvPicPr>
        <p:blipFill>
          <a:blip r:embed="rId1"/>
          <a:stretch/>
        </p:blipFill>
        <p:spPr>
          <a:xfrm>
            <a:off x="250920" y="1628640"/>
            <a:ext cx="4105080" cy="432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5" descr="endo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In an endothermic reaction the products have </a:t>
            </a: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more</a:t>
            </a: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 is positive for an endothermic re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endo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Making and breaking bon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have seen how bonds are formed (both ionic and covalen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you think energy is needed to break bond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bonds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6597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Making new bonds gives out energy. It is ex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bonds2"/>
          <p:cNvPicPr/>
          <p:nvPr/>
        </p:nvPicPr>
        <p:blipFill>
          <a:blip r:embed="rId1"/>
          <a:stretch/>
        </p:blipFill>
        <p:spPr>
          <a:xfrm>
            <a:off x="179280" y="260280"/>
            <a:ext cx="8496360" cy="6337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or a chemical reaction to occur, bonds must be both formed and brok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e  +  Cu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              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u    +  Fe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635280" y="4076640"/>
            <a:ext cx="1224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hemical reactions always involve energy chang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Making and breaking bonds involves energy chang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x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give out heat energ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Combustion is an exothermic rea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nd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take in heat energy from their surrounding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cause temperatures to fal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temp1"/>
          <p:cNvPicPr/>
          <p:nvPr/>
        </p:nvPicPr>
        <p:blipFill>
          <a:blip r:embed="rId1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Use the apparatus as show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Work with 20ml of each substance in tur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opy the results table before you st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temp2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4608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RISK ASSESS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You will be using acids so wear safety gog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ipe up spills immediate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Replace stopp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not put solids down the sink – use the bowl at the front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72040"/>
        </p:xfrm>
        <a:graphic>
          <a:graphicData uri="http://schemas.openxmlformats.org/drawingml/2006/table">
            <a:tbl>
              <a:tblPr/>
              <a:tblGrid>
                <a:gridCol w="3178080"/>
                <a:gridCol w="1513080"/>
                <a:gridCol w="1481040"/>
                <a:gridCol w="2057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before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after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Exothermic or Endothermic?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xide sol’n + hydrochloric acid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gen carbonate sol’n + citric aci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pper sulphate sol’n + magnesium powd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ulphuric acid + magnesium ribb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rium chloride + sodium sulphat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8:50:28Z</dcterms:created>
  <dc:creator>Keith Hicks</dc:creator>
  <dc:description/>
  <dc:language>en-US</dc:language>
  <cp:lastModifiedBy>LEGION</cp:lastModifiedBy>
  <dcterms:modified xsi:type="dcterms:W3CDTF">2015-09-04T10:11:37Z</dcterms:modified>
  <cp:revision>17</cp:revision>
  <dc:subject/>
  <dc:title>Understanding Chemical Reactions</dc:title>
</cp:coreProperties>
</file>