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B813-818C-449F-8AA9-FD699A1AA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5F4-E404-4C8D-96A0-97CCD605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A04-5A45-4606-B09D-60971FD1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972-7E3E-4F59-9224-448DC3FC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E5F-0CFD-4733-952D-B48D5048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16FC-06CF-49F0-801E-9BECA91E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2F66-B50E-40F0-B442-F0490044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1F73-F7E4-40A3-A433-A0EF7156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42B5-3B83-44E2-AE86-0A8497DA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750E-9415-400D-8C42-AAD98D30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119A-A0BC-45B9-8DAD-ACA2201A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E051-EF28-4D03-9FD7-E00244DB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9BC-2841-429B-8CC5-A133C17E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FF2D-D9CC-4F4B-91A2-A87A398C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DE94-9998-4203-8E4F-2FA2628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FCB2-D733-4E50-8CC8-21C0B75A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84A9-2324-4F6F-984F-6D581B9E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83AB-0C1C-4B9B-B78A-236EDC39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B87-9163-431F-AE9D-55B3B882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D3A-A670-40FB-8BE6-E418B217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67D-8024-46F8-A4D5-60324406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06B-1892-47B2-917A-B57D92A7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3E9-1406-4452-B2D3-80688566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267-1980-42F4-836D-458E900A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6E1-7D18-4B9E-9F3A-247317A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1D0-924F-4D14-8F3D-04F4E7F84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DBCF-957B-488E-A9B8-8A1F35227600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6666"/>
                </a:solidFill>
                <a:latin typeface="Verdana"/>
              </a:rPr>
              <a:t>Understanding Chemical Reac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Lesson: Bonds &amp; Ener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LEVEL DIAGRA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can show the energy transfers in reactions on an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level diagra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These show us the energy stored in the reactants compared to the energy stored in the produc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9" descr="exo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(‘delta H’) is the symbol for the ‘change in energy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In an exothermic reaction the products have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ess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is negative for an exothermic re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exo"/>
          <p:cNvPicPr/>
          <p:nvPr/>
        </p:nvPicPr>
        <p:blipFill>
          <a:blip r:embed="rId1"/>
          <a:stretch/>
        </p:blipFill>
        <p:spPr>
          <a:xfrm>
            <a:off x="250920" y="1628640"/>
            <a:ext cx="4105080" cy="432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5" descr="endo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In an endothermic reaction the products have 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more</a:t>
            </a: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 is positive for an endothermic re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endo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Making and breaking bon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have seen how bonds are formed (both ionic and covalen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you think energy is needed to break bond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bonds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6597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king new bonds gives out energy. It is ex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onds2"/>
          <p:cNvPicPr/>
          <p:nvPr/>
        </p:nvPicPr>
        <p:blipFill>
          <a:blip r:embed="rId1"/>
          <a:stretch/>
        </p:blipFill>
        <p:spPr>
          <a:xfrm>
            <a:off x="179280" y="260280"/>
            <a:ext cx="8496360" cy="633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or a chemical reaction to occur, bonds must be both formed and brok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e  +  Cu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              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u    +  Fe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635280" y="4076640"/>
            <a:ext cx="1224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hemical reactions always involve energy chang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Making and breaking bonds involves energy chan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x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give out heat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Combustion is an exothermic rea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nd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take in heat energy from their surrounding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cause temperatures to fal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temp1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Use the apparatus as show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Work with 20ml of each substance in tu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opy the results table before you st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temp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RISK ASSESS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You will be using acids so wear safety gog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ipe up spills immediate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Replace stopp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not put solids down the sink – use the bowl at the fron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72040"/>
        </p:xfrm>
        <a:graphic>
          <a:graphicData uri="http://schemas.openxmlformats.org/drawingml/2006/table">
            <a:tbl>
              <a:tblPr/>
              <a:tblGrid>
                <a:gridCol w="3178080"/>
                <a:gridCol w="1513080"/>
                <a:gridCol w="1481040"/>
                <a:gridCol w="2057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before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after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xothermic or Endothermic?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xide sol’n + hydrochloric acid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gen carbonate sol’n + citric aci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pper sulphate sol’n + magnesium powd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ulphuric acid + magnesium ribb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rium chloride + sodium sulphat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50:28Z</dcterms:created>
  <dc:creator>Keith Hicks</dc:creator>
  <dc:description/>
  <dc:language>en-US</dc:language>
  <cp:lastModifiedBy>LEGION</cp:lastModifiedBy>
  <dcterms:modified xsi:type="dcterms:W3CDTF">2015-09-04T10:11:37Z</dcterms:modified>
  <cp:revision>17</cp:revision>
  <dc:subject/>
  <dc:title>Understanding Chemical Reactions</dc:title>
</cp:coreProperties>
</file>