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B833-B35E-4FD7-A0D9-86EAC2C326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F4B-4689-43AC-B2C5-6E009C46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189-3B42-468E-828B-A9E4916B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F94-FB6E-4920-8D64-F17F8A2A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18D-96CE-467B-9A8D-8F892A30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16E-2519-43DE-9C91-E0E0E41E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57D-421E-4D31-9BBB-02D2A06E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C27-5D2B-4DDA-9CF8-31715911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C69-7711-44F9-B14B-66CD1A45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045-DC75-4844-9348-7462A17E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8BC-A42A-498C-B396-13CD79E7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7FA-B262-4825-9ECF-02EBA253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7C1-5807-4C43-B01F-BD3D98E5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3826-8364-41E3-908E-81B6D760E1F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RomaK</cp:lastModifiedBy>
  <dcterms:modified xsi:type="dcterms:W3CDTF">2015-09-04T09:32:01Z</dcterms:modified>
  <cp:revision>7</cp:revision>
  <dc:subject>Why did the Mormons Manage to survive Salt Lake City?</dc:subject>
  <dc:title>Why did the Mormons Manage to survive Salt Lake City?</dc:title>
</cp:coreProperties>
</file>