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349C-627C-4992-A58E-EBC9C7EC5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437-9971-4DD8-A474-3BD833C3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0CF-784B-4B6E-84FE-D622D8F4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466-2D0E-471F-ADF0-F508675D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C48-2857-421B-B409-9EF27430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E59-1A87-4D89-8B29-5E0F6A60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65B-234A-41BA-A0A0-3D51F464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F12-76E7-4188-85A9-C6EFEA36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EBE-45DB-4E9C-8276-CE43431A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FB1-38AE-40FC-B081-ABD1CD5D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F58-D91C-49BF-BE97-CBEE831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CEA-CBD1-4BE1-A54E-D3411D9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273-BB7B-48C6-BB0E-3DFD0387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3810-BF86-4149-93DE-9811259819C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RomaK</cp:lastModifiedBy>
  <dcterms:modified xsi:type="dcterms:W3CDTF">2015-09-04T09:32:01Z</dcterms:modified>
  <cp:revision>7</cp:revision>
  <dc:subject>Why did the Mormons Manage to survive Salt Lake City?</dc:subject>
  <dc:title>Why did the Mormons Manage to survive Salt Lake City?</dc:title>
</cp:coreProperties>
</file>