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png" ContentType="image/pn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5DDE7-E865-4737-BC8B-147E9FBF75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noans and Mycenae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were the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id they come fro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id they accomplis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id they g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noans and Mycenae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were the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id they come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id they accomplis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id they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id they e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one is certain why Minoan civilization came to an end.  But about 1400 B.C., control of the sea and Crete passed to the Mycenae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id they 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one is certain why Minoan civilization came to an end.  But about 1400 B.C., control of the sea and Crete passed to the Mycenae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id they come fr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came from the grasslands of southern Russia to the lowlands of Greece.  They traded with and learned much from the Mino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id they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came from the grasslands of southern Russia to the lowlands of Greece.  They traded with and learned much from the Mino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jan War/Homer’s Ili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went to war with Troy because Troy was controlling a trade route and unfairly taxing ships going from southern Russia to Gree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jan War/Homer’s Ili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went to war with Troy because Troy was controlling a trade route and unfairly taxing ships going from southern Russia to Gree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li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500 years later, a blind Greek poet, Homer, told the story of the Trojan war - but not quite exactly as it happen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li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500 years later, a blind Greek poet, Homer, told the story of the Trojan war - but not quite exactly as it happe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er’s ver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ojan prince Paris fell in love with Helen, the wife of the Mycenaean king.  He kidnapped her, taking her to Troy.  The Mycenaeans followed to get her ba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en years of fighting, Odysseus suggested they build a large wooden horse and place their best soldiers in it.  Then the rest of the Mycenaeans returned to their ships and sailed a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er’s ver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ojan prince Paris fell in love with Helen, the wife of the Mycenaean king.  He kidnapped her, taking her to Troy.  The Mycenaeans followed to get her b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en years of fighting, Odysseus suggested they build a large wooden horse and place their best soldiers in it.  Then the rest of the Mycenaeans returned to their ships and sailed a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Trojans saw the ho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soldiers leaving, they thought it was a gift and pulled it into the city.  Once out of sight, Odysseus turned the ships around and began to sail back toward Troy.  During the night, the soldiers inside the horse climbed out, opened the gate and let the returning soldiers into Tro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Trojans saw the ho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soldiers leaving, they thought it was a gift and pulled it into the city.  Once out of sight, Odysseus turned the ships around and began to sail back toward Troy.  During the night, the soldiers inside the horse climbed out, opened the gate and let the returning soldiers into Tro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ed. .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killed the king of Troy and burned the 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they returned to their homes with Hel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ed. .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killed the king of Troy and burned the 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they returned to their homes with Hel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oan civilization arose on the island of Cre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oan civilization arose on the island of Cre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ark 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never returned to a peaceful existence.  The Dorians drove them out of Gree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ark 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never returned to a peaceful existence.  The Dorians drove them out of Gree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rk 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settled in the Aegean islands and on the western shore of Asia Minor.  Later, this was known as Ion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rk 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settled in the Aegean islands and on the western shore of Asia Minor.  Later, this was known as Ion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tep back.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egan a time of wandering and killing.  Trade stopped.  Many skills were forgotten including how to read and write, fresco painting, working with ivory and gold, et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tep back.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egan a time of wandering and killing.  Trade stopped.  Many skills were forgotten including how to read and write, fresco painting, working with ivory and gold,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go again.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ople had to create a new civilization on their own beginning with herding and farm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go again.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ople had to create a new civilization on their own beginning with herding and far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Na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y developed independent communities and began calling themselves Hellenes, or Gree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y developed independent communities and began calling themselves Hellenes, or Gre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t is his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st is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cy (or gift from the pa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legacy was as masters of the sea and great shipbuild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cy (or gift from the p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legacy was as masters of the sea and great shipbuil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 Leap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 leaping or bull fighting was both a sport and a religious ceremony.  Don’t try this at ho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 Leap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 leaping or bull fighting was both a sport and a religious ceremony.  Don’t try this at h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l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largest cities on Crete was Knossos.  A great palace was located there - the Palace of Knossos where the legendary King Minos liv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l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largest cities on Crete was Knossos.  A great palace was located there - the Palace of Knossos where the legendary King Minos li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lace had several passagewa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lace had several passagew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yrin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lace had a network of paths through which it was difficult to find one’s 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yrinth means double ax so the palace was called the “House of the Double Ax.”</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labyrinth, it is said, lived a Minotaur - a beast that was half man and half bul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onstruct a labyrinth, go t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puzzles.com/PuzzlePlayground/KnossosLabyrinth/KnossosLabyrinth.ht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yrin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lace had a network of paths through which it was difficult to find one’s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yrinth means double ax so the palace was called the “House of the Double A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labyrinth, it is said, lived a Minotaur - a beast that was half man and half bu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onstruct a labyrinth, go 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puzzles.com/PuzzlePlayground/KnossosLabyrinth/KnossosLabyrinth.ht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year for nine years, seven youths and maidens came as tribute from Athens. These young people were also locked in the labyrinth for the Minotaur to feast up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Greek hero Theseus reached Athens, he learned of the Minotaur and the sacrifices, and wanted to end this. He volunteered to go to Crete as one of the victims. Upon his arrival in Crete, he met Ariadne, Minos's daughter, who fell in love with him. She promised she would provide the means to escape from the maze if he agreed to marry her. When Theseus did, she gave him a simple ball of thread, which he was to fasten close to the entrance of the maze. He made his way through the maze, while unwinding the thread, and he stumbled upon the sleeping Minotaur. He beat it to death and led the others back to the entrance by following the thre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year for nine years, seven youths and maidens came as tribute from Athens. These young people were also locked in the labyrinth for the Minotaur to feast up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Greek hero Theseus reached Athens, he learned of the Minotaur and the sacrifices, and wanted to end this. He volunteered to go to Crete as one of the victims. Upon his arrival in Crete, he met Ariadne, Minos's daughter, who fell in love with him. She promised she would provide the means to escape from the maze if he agreed to marry her. When Theseus did, she gave him a simple ball of thread, which he was to fasten close to the entrance of the maze. He made his way through the maze, while unwinding the thread, and he stumbled upon the sleeping Minotaur. He beat it to death and led the others back to the entrance by following the thr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87B880-59BB-4F17-9FBB-DF997138A9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A43469-6863-4E2F-8040-7038CA8504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DCB6B5-1AEE-431A-8899-1622DB07CE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09B070-CFCE-4CD0-84EE-79C2FE4435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94ADB6-999C-453B-B1E2-88F61FDD2E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32C977-9FC4-4C60-92EB-ADCE1A10CF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3EC509-CF07-4F34-9D1D-9E974C715E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D3C96D-C758-4F96-938A-402DDD4EF9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A883E1-F235-4D6A-AB33-834DC48064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858EED-2C27-4133-B8B2-958FE57BEC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2B6FC-B260-4C95-AE4E-8E38925422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6895E-AA4F-4B52-AF05-24B0CDD6DF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FC03F-FFD1-48E5-948B-3FD8627442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Minoans and Mycenaeans</a:t>
            </a:r>
            <a:endParaRPr b="0" lang="en-US" sz="4400" spc="-1" strike="noStrike">
              <a:solidFill>
                <a:srgbClr val="000000"/>
              </a:solidFill>
              <a:latin typeface="Times New Roman"/>
            </a:endParaRPr>
          </a:p>
        </p:txBody>
      </p:sp>
      <p:sp>
        <p:nvSpPr>
          <p:cNvPr id="49" name="Text Box 7"/>
          <p:cNvSpPr/>
          <p:nvPr/>
        </p:nvSpPr>
        <p:spPr>
          <a:xfrm>
            <a:off x="2514600" y="228600"/>
            <a:ext cx="48769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o were they?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did they come from?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did they accomplish?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did they g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3" descr=""/>
          <p:cNvPicPr/>
          <p:nvPr/>
        </p:nvPicPr>
        <p:blipFill>
          <a:blip r:embed="rId1"/>
          <a:stretch/>
        </p:blipFill>
        <p:spPr>
          <a:xfrm>
            <a:off x="2513160" y="609480"/>
            <a:ext cx="4116240" cy="5486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did they end?</a:t>
            </a:r>
            <a:endParaRPr b="0" lang="en-US" sz="4400" spc="-1" strike="noStrike">
              <a:solidFill>
                <a:srgbClr val="000000"/>
              </a:solidFill>
              <a:latin typeface="Times New Roman"/>
            </a:endParaRPr>
          </a:p>
        </p:txBody>
      </p:sp>
      <p:sp>
        <p:nvSpPr>
          <p:cNvPr id="73"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one is certain why Minoan civilization came to an end.  But about 1400 B.C., control of the sea and Crete passed to the Mycenaeans.</a:t>
            </a:r>
            <a:endParaRPr b="0" lang="en-US" sz="2800" spc="-1" strike="noStrike">
              <a:solidFill>
                <a:srgbClr val="000000"/>
              </a:solidFill>
              <a:latin typeface="Times New Roman"/>
            </a:endParaRPr>
          </a:p>
        </p:txBody>
      </p:sp>
      <p:pic>
        <p:nvPicPr>
          <p:cNvPr id="74" name="Picture 7" descr=""/>
          <p:cNvPicPr/>
          <p:nvPr/>
        </p:nvPicPr>
        <p:blipFill>
          <a:blip r:embed="rId1"/>
          <a:stretch/>
        </p:blipFill>
        <p:spPr>
          <a:xfrm>
            <a:off x="4648320" y="2293920"/>
            <a:ext cx="3809880" cy="3487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ere did they come from?</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198144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ycenaeans came from the grasslands of southern Russia to the lowlands of Greece.  They traded with and learned much from the Minoans.</a:t>
            </a:r>
            <a:endParaRPr b="0" lang="en-US" sz="2800" spc="-1" strike="noStrike">
              <a:solidFill>
                <a:srgbClr val="000000"/>
              </a:solidFill>
              <a:latin typeface="Times New Roman"/>
            </a:endParaRPr>
          </a:p>
        </p:txBody>
      </p:sp>
      <p:pic>
        <p:nvPicPr>
          <p:cNvPr id="77" name="Picture 5" descr=""/>
          <p:cNvPicPr/>
          <p:nvPr/>
        </p:nvPicPr>
        <p:blipFill>
          <a:blip r:embed="rId1"/>
          <a:stretch/>
        </p:blipFill>
        <p:spPr>
          <a:xfrm>
            <a:off x="2496960" y="4114800"/>
            <a:ext cx="4148280" cy="1981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ojan War/Homer’s Iliad</a:t>
            </a:r>
            <a:endParaRPr b="0" lang="en-US" sz="4400" spc="-1" strike="noStrike">
              <a:solidFill>
                <a:srgbClr val="000000"/>
              </a:solidFill>
              <a:latin typeface="Times New Roman"/>
            </a:endParaRPr>
          </a:p>
        </p:txBody>
      </p:sp>
      <p:sp>
        <p:nvSpPr>
          <p:cNvPr id="79"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ycenaeans went to war with Troy because Troy was controlling a trade route and unfairly taxing ships going from southern Russia to Greece.</a:t>
            </a:r>
            <a:endParaRPr b="0" lang="en-US" sz="2800" spc="-1" strike="noStrike">
              <a:solidFill>
                <a:srgbClr val="000000"/>
              </a:solidFill>
              <a:latin typeface="Times New Roman"/>
            </a:endParaRPr>
          </a:p>
        </p:txBody>
      </p:sp>
      <p:pic>
        <p:nvPicPr>
          <p:cNvPr id="80" name="Picture 4" descr=""/>
          <p:cNvPicPr/>
          <p:nvPr/>
        </p:nvPicPr>
        <p:blipFill>
          <a:blip r:embed="rId1"/>
          <a:stretch/>
        </p:blipFill>
        <p:spPr>
          <a:xfrm>
            <a:off x="685800" y="2779560"/>
            <a:ext cx="3809880" cy="2517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Iliad</a:t>
            </a:r>
            <a:endParaRPr b="0" lang="en-US" sz="4400" spc="-1" strike="noStrike">
              <a:solidFill>
                <a:srgbClr val="000000"/>
              </a:solidFill>
              <a:latin typeface="Times New Roman"/>
            </a:endParaRPr>
          </a:p>
        </p:txBody>
      </p:sp>
      <p:sp>
        <p:nvSpPr>
          <p:cNvPr id="82"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out 500 years later, a blind Greek poet, Homer, told the story of the Trojan war - but not quite exactly as it happened.</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3" name="Picture 5" descr=""/>
          <p:cNvPicPr/>
          <p:nvPr/>
        </p:nvPicPr>
        <p:blipFill>
          <a:blip r:embed="rId1"/>
          <a:stretch/>
        </p:blipFill>
        <p:spPr>
          <a:xfrm>
            <a:off x="5241960" y="1981080"/>
            <a:ext cx="2620800" cy="4114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mer’s version</a:t>
            </a:r>
            <a:endParaRPr b="0" lang="en-US" sz="4400" spc="-1" strike="noStrike">
              <a:solidFill>
                <a:srgbClr val="000000"/>
              </a:solidFill>
              <a:latin typeface="Times New Roman"/>
            </a:endParaRPr>
          </a:p>
        </p:txBody>
      </p:sp>
      <p:sp>
        <p:nvSpPr>
          <p:cNvPr id="85"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rojan prince Paris fell in love with Helen, the wife of the Mycenaean king.  He kidnapped her, taking her to Troy.  The Mycenaeans followed to get her back.</a:t>
            </a:r>
            <a:endParaRPr b="0" lang="en-US" sz="2800" spc="-1" strike="noStrike">
              <a:solidFill>
                <a:srgbClr val="000000"/>
              </a:solidFill>
              <a:latin typeface="Times New Roman"/>
            </a:endParaRPr>
          </a:p>
        </p:txBody>
      </p:sp>
      <p:sp>
        <p:nvSpPr>
          <p:cNvPr id="86" name="PlaceHolder 3"/>
          <p:cNvSpPr>
            <a:spLocks noGrp="1"/>
          </p:cNvSpPr>
          <p:nvPr>
            <p:ph/>
          </p:nvPr>
        </p:nvSpPr>
        <p:spPr>
          <a:xfrm>
            <a:off x="4647960" y="1981080"/>
            <a:ext cx="3809880" cy="4114800"/>
          </a:xfrm>
          <a:prstGeom prst="rect">
            <a:avLst/>
          </a:prstGeom>
          <a:noFill/>
          <a:ln w="0">
            <a:noFill/>
          </a:ln>
        </p:spPr>
        <p:txBody>
          <a:bodyPr anchor="t">
            <a:normAutofit fontScale="97000"/>
          </a:bodyPr>
          <a:p>
            <a:pPr marL="332640" indent="-3326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ter ten years of fighting, Odysseus suggested they build a large wooden horse and place their best soldiers in it.  Then the rest of the Mycenaeans returned to their ships and sailed awa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en the Trojans saw the horse</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d the soldiers leaving, they thought it was a gift and pulled it into the city.  Once out of sight, Odysseus turned the ships around and began to sail back toward Troy.  During the night, the soldiers inside the horse climbed out, opened the gate and let the returning soldiers into Tro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10" descr=""/>
          <p:cNvPicPr/>
          <p:nvPr/>
        </p:nvPicPr>
        <p:blipFill>
          <a:blip r:embed="rId1"/>
          <a:stretch/>
        </p:blipFill>
        <p:spPr>
          <a:xfrm>
            <a:off x="2540160" y="609480"/>
            <a:ext cx="4063680" cy="5486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1031" descr=""/>
          <p:cNvPicPr/>
          <p:nvPr/>
        </p:nvPicPr>
        <p:blipFill>
          <a:blip r:embed="rId1"/>
          <a:stretch/>
        </p:blipFill>
        <p:spPr>
          <a:xfrm>
            <a:off x="2784600" y="609480"/>
            <a:ext cx="3573360" cy="5486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happened. . .</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2"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ycenaeans killed the king of Troy and burned the city.</a:t>
            </a:r>
            <a:endParaRPr b="0" lang="en-US" sz="2800" spc="-1" strike="noStrike">
              <a:solidFill>
                <a:srgbClr val="000000"/>
              </a:solidFill>
              <a:latin typeface="Times New Roman"/>
            </a:endParaRPr>
          </a:p>
        </p:txBody>
      </p:sp>
      <p:sp>
        <p:nvSpPr>
          <p:cNvPr id="93"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n they returned to their homes with Hel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3" descr=""/>
          <p:cNvPicPr/>
          <p:nvPr/>
        </p:nvPicPr>
        <p:blipFill>
          <a:blip r:embed="rId1"/>
          <a:stretch/>
        </p:blipFill>
        <p:spPr>
          <a:xfrm>
            <a:off x="947880" y="609480"/>
            <a:ext cx="7246800" cy="5486400"/>
          </a:xfrm>
          <a:prstGeom prst="rect">
            <a:avLst/>
          </a:prstGeom>
          <a:ln w="0">
            <a:noFill/>
          </a:ln>
        </p:spPr>
      </p:pic>
      <p:sp>
        <p:nvSpPr>
          <p:cNvPr id="51" name="Text Box 4"/>
          <p:cNvSpPr/>
          <p:nvPr/>
        </p:nvSpPr>
        <p:spPr>
          <a:xfrm>
            <a:off x="1371600" y="6248520"/>
            <a:ext cx="6629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oan civilization arose on the island of Cre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3" descr=""/>
          <p:cNvPicPr/>
          <p:nvPr/>
        </p:nvPicPr>
        <p:blipFill>
          <a:blip r:embed="rId1"/>
          <a:stretch/>
        </p:blipFill>
        <p:spPr>
          <a:xfrm>
            <a:off x="961920" y="609480"/>
            <a:ext cx="7218360" cy="5486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Dark Age</a:t>
            </a:r>
            <a:endParaRPr b="0" lang="en-US" sz="4400" spc="-1" strike="noStrike">
              <a:solidFill>
                <a:srgbClr val="000000"/>
              </a:solidFill>
              <a:latin typeface="Times New Roman"/>
            </a:endParaRPr>
          </a:p>
        </p:txBody>
      </p:sp>
      <p:sp>
        <p:nvSpPr>
          <p:cNvPr id="9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ycenaeans never returned to a peaceful existence.  The Dorians drove them out of Gree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Dark Age</a:t>
            </a: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7772400" cy="198144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ycenaeans settled in the Aegean islands and on the western shore of Asia Minor.  Later, this was known as Ionia.</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9" name="Picture 5" descr=""/>
          <p:cNvPicPr/>
          <p:nvPr/>
        </p:nvPicPr>
        <p:blipFill>
          <a:blip r:embed="rId1"/>
          <a:stretch/>
        </p:blipFill>
        <p:spPr>
          <a:xfrm>
            <a:off x="3086280" y="4114800"/>
            <a:ext cx="2971800" cy="1981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ne step back. . .</a:t>
            </a: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began a time of wandering and killing.  Trade stopped.  Many skills were forgotten including how to read and write, fresco painting, working with ivory and gold, etc.</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02" name="Picture 5" descr=""/>
          <p:cNvPicPr/>
          <p:nvPr/>
        </p:nvPicPr>
        <p:blipFill>
          <a:blip r:embed="rId1"/>
          <a:stretch/>
        </p:blipFill>
        <p:spPr>
          <a:xfrm>
            <a:off x="5181480" y="1981080"/>
            <a:ext cx="2743200" cy="4114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ere we go again. . .</a:t>
            </a:r>
            <a:endParaRPr b="0" lang="en-US" sz="4400" spc="-1" strike="noStrike">
              <a:solidFill>
                <a:srgbClr val="000000"/>
              </a:solidFill>
              <a:latin typeface="Times New Roman"/>
            </a:endParaRPr>
          </a:p>
        </p:txBody>
      </p:sp>
      <p:sp>
        <p:nvSpPr>
          <p:cNvPr id="104"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eople had to create a new civilization on their own beginning with herding and farming.</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05" name="Picture 5" descr=""/>
          <p:cNvPicPr/>
          <p:nvPr/>
        </p:nvPicPr>
        <p:blipFill>
          <a:blip r:embed="rId1"/>
          <a:stretch/>
        </p:blipFill>
        <p:spPr>
          <a:xfrm>
            <a:off x="685800" y="2781360"/>
            <a:ext cx="3809880" cy="2512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New Name:</a:t>
            </a: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7772400" cy="198144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ntually they developed independent communities and began calling themselves Hellenes, or Greek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08" name="Picture 5" descr=""/>
          <p:cNvPicPr/>
          <p:nvPr/>
        </p:nvPicPr>
        <p:blipFill>
          <a:blip r:embed="rId1"/>
          <a:stretch/>
        </p:blipFill>
        <p:spPr>
          <a:xfrm>
            <a:off x="3924360" y="4114800"/>
            <a:ext cx="1295280" cy="1981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rest is history.</a:t>
            </a:r>
            <a:endParaRPr b="0" lang="en-US" sz="4400" spc="-1" strike="noStrike">
              <a:solidFill>
                <a:srgbClr val="000000"/>
              </a:solidFill>
              <a:latin typeface="Times New Roman"/>
            </a:endParaRPr>
          </a:p>
        </p:txBody>
      </p:sp>
      <p:pic>
        <p:nvPicPr>
          <p:cNvPr id="110" name="Picture 4" descr=""/>
          <p:cNvPicPr/>
          <p:nvPr/>
        </p:nvPicPr>
        <p:blipFill>
          <a:blip r:embed="rId1"/>
          <a:stretch/>
        </p:blipFill>
        <p:spPr>
          <a:xfrm>
            <a:off x="1623960" y="1981080"/>
            <a:ext cx="5894280" cy="411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gacy (or gift from the past)</a:t>
            </a:r>
            <a:endParaRPr b="0" lang="en-US" sz="4400" spc="-1" strike="noStrike">
              <a:solidFill>
                <a:srgbClr val="000000"/>
              </a:solidFill>
              <a:latin typeface="Times New Roman"/>
            </a:endParaRPr>
          </a:p>
        </p:txBody>
      </p:sp>
      <p:sp>
        <p:nvSpPr>
          <p:cNvPr id="53"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ir legacy was as masters of the sea and great shipbuilders.</a:t>
            </a:r>
            <a:endParaRPr b="0" lang="en-US" sz="2800" spc="-1" strike="noStrike">
              <a:solidFill>
                <a:srgbClr val="000000"/>
              </a:solidFill>
              <a:latin typeface="Times New Roman"/>
            </a:endParaRPr>
          </a:p>
        </p:txBody>
      </p:sp>
      <p:pic>
        <p:nvPicPr>
          <p:cNvPr id="54" name="Picture 7" descr=""/>
          <p:cNvPicPr/>
          <p:nvPr/>
        </p:nvPicPr>
        <p:blipFill>
          <a:blip r:embed="rId1"/>
          <a:stretch/>
        </p:blipFill>
        <p:spPr>
          <a:xfrm>
            <a:off x="685800" y="3071880"/>
            <a:ext cx="3809880" cy="1933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ll Leaping</a:t>
            </a: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ll leaping or bull fighting was both a sport and a religious ceremony.  Don’t try this at home.</a:t>
            </a:r>
            <a:endParaRPr b="0" lang="en-US" sz="2800" spc="-1" strike="noStrike">
              <a:solidFill>
                <a:srgbClr val="000000"/>
              </a:solidFill>
              <a:latin typeface="Times New Roman"/>
            </a:endParaRPr>
          </a:p>
        </p:txBody>
      </p:sp>
      <p:pic>
        <p:nvPicPr>
          <p:cNvPr id="57" name="Picture 6" descr=""/>
          <p:cNvPicPr/>
          <p:nvPr/>
        </p:nvPicPr>
        <p:blipFill>
          <a:blip r:embed="rId1"/>
          <a:stretch/>
        </p:blipFill>
        <p:spPr>
          <a:xfrm>
            <a:off x="5051520" y="1981080"/>
            <a:ext cx="3003480" cy="1981440"/>
          </a:xfrm>
          <a:prstGeom prst="rect">
            <a:avLst/>
          </a:prstGeom>
          <a:ln w="0">
            <a:noFill/>
          </a:ln>
        </p:spPr>
      </p:pic>
      <p:pic>
        <p:nvPicPr>
          <p:cNvPr id="58" name="Picture 7" descr=""/>
          <p:cNvPicPr/>
          <p:nvPr/>
        </p:nvPicPr>
        <p:blipFill>
          <a:blip r:embed="rId2"/>
          <a:stretch/>
        </p:blipFill>
        <p:spPr>
          <a:xfrm>
            <a:off x="4846680" y="4114800"/>
            <a:ext cx="3411360" cy="198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alac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of the largest cities on Crete was Knossos.  A great palace was located there - the Palace of Knossos where the legendary King Minos lived.</a:t>
            </a:r>
            <a:endParaRPr b="0" lang="en-US" sz="2800" spc="-1" strike="noStrike">
              <a:solidFill>
                <a:srgbClr val="000000"/>
              </a:solidFill>
              <a:latin typeface="Times New Roman"/>
            </a:endParaRPr>
          </a:p>
        </p:txBody>
      </p:sp>
      <p:pic>
        <p:nvPicPr>
          <p:cNvPr id="61" name="Picture 5" descr=""/>
          <p:cNvPicPr/>
          <p:nvPr/>
        </p:nvPicPr>
        <p:blipFill>
          <a:blip r:embed="rId1"/>
          <a:stretch/>
        </p:blipFill>
        <p:spPr>
          <a:xfrm>
            <a:off x="3065400" y="1981080"/>
            <a:ext cx="3011400" cy="1981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alace had several passageways.</a:t>
            </a:r>
            <a:endParaRPr b="0" lang="en-US" sz="4400" spc="-1" strike="noStrike">
              <a:solidFill>
                <a:srgbClr val="000000"/>
              </a:solidFill>
              <a:latin typeface="Times New Roman"/>
            </a:endParaRPr>
          </a:p>
        </p:txBody>
      </p:sp>
      <p:pic>
        <p:nvPicPr>
          <p:cNvPr id="63" name="Picture 6" descr=""/>
          <p:cNvPicPr/>
          <p:nvPr/>
        </p:nvPicPr>
        <p:blipFill>
          <a:blip r:embed="rId1"/>
          <a:stretch/>
        </p:blipFill>
        <p:spPr>
          <a:xfrm>
            <a:off x="1590840" y="1981080"/>
            <a:ext cx="5960880" cy="4114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byrinth </a:t>
            </a:r>
            <a:endParaRPr b="0" lang="en-US" sz="4400" spc="-1" strike="noStrike">
              <a:solidFill>
                <a:srgbClr val="000000"/>
              </a:solidFill>
              <a:latin typeface="Times New Roman"/>
            </a:endParaRPr>
          </a:p>
        </p:txBody>
      </p:sp>
      <p:sp>
        <p:nvSpPr>
          <p:cNvPr id="65"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alace had a network of paths through which it was difficult to find one’s way.</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byrinth means double ax so the palace was called the “House of the Double Ax.”</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is labyrinth, it is said, lived a Minotaur - a beast that was half man and half bull. </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construct a labyrinth, go to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ww.puzzles.com/PuzzlePlayground/KnossosLabyrinth/KnossosLabyrinth.htm</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5" descr=""/>
          <p:cNvPicPr/>
          <p:nvPr/>
        </p:nvPicPr>
        <p:blipFill>
          <a:blip r:embed="rId1"/>
          <a:stretch/>
        </p:blipFill>
        <p:spPr>
          <a:xfrm>
            <a:off x="1695600" y="609480"/>
            <a:ext cx="5751360" cy="5486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Every year for nine years, seven youths and maidens came as tribute from Athens. These young people were also locked in the labyrinth for the Minotaur to feast upon.</a:t>
            </a:r>
            <a:endParaRPr b="0" lang="en-US" sz="1300" spc="-1" strike="noStrike">
              <a:solidFill>
                <a:srgbClr val="000000"/>
              </a:solidFill>
              <a:latin typeface="Times New Roman"/>
            </a:endParaRPr>
          </a:p>
        </p:txBody>
      </p:sp>
      <p:sp>
        <p:nvSpPr>
          <p:cNvPr id="69"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lnSpc>
                <a:spcPct val="1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hen the Greek hero Theseus reached Athens, he learned of the Minotaur and the sacrifices, and wanted to end this. He volunteered to go to Crete as one of the victims. Upon his arrival in Crete, he met Ariadne, Minos's daughter, who fell in love with him. She promised she would provide the means to escape from the maze if he agreed to marry her. When Theseus did, she gave him a simple ball of thread, which he was to fasten close to the entrance of the maze. He made his way through the maze, while unwinding the thread, and he stumbled upon the sleeping Minotaur. He beat it to death and led the others back to the entrance by following the thread.</a:t>
            </a:r>
            <a:endParaRPr b="0" lang="en-US" sz="1300" spc="-1" strike="noStrike">
              <a:solidFill>
                <a:srgbClr val="000000"/>
              </a:solidFill>
              <a:latin typeface="Times New Roman"/>
            </a:endParaRPr>
          </a:p>
        </p:txBody>
      </p:sp>
      <p:pic>
        <p:nvPicPr>
          <p:cNvPr id="70" name="Picture 13" descr=""/>
          <p:cNvPicPr/>
          <p:nvPr/>
        </p:nvPicPr>
        <p:blipFill>
          <a:blip r:embed="rId1"/>
          <a:stretch/>
        </p:blipFill>
        <p:spPr>
          <a:xfrm>
            <a:off x="3470400" y="1981080"/>
            <a:ext cx="2201760" cy="1981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6T13:53:51Z</dcterms:created>
  <dc:creator>acsd acsd</dc:creator>
  <dc:description/>
  <dc:language>en-US</dc:language>
  <cp:lastModifiedBy>RomaK</cp:lastModifiedBy>
  <dcterms:modified xsi:type="dcterms:W3CDTF">2015-09-04T09:31:55Z</dcterms:modified>
  <cp:revision>41</cp:revision>
  <dc:subject/>
  <dc:title>The Minoans and Mycenaeans</dc:title>
</cp:coreProperties>
</file>