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4673-E10B-4979-89B5-3FBBB2B257B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012-26A6-4E5D-A894-9CF5F906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B96-163E-410C-91D6-BC00BF7A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F78-757A-491D-A7B1-68AD92C4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666-9006-4EEB-BEE5-DB6C1764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0A8-B1B7-4C2F-BAB4-FB561DDD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9000-E5E8-4768-A7FB-7FAA91F1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556-D422-4E7A-B861-B46517F3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7C0-7863-437B-9B9C-D86F8A9A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0D8-B133-4767-B33A-5AF456B7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57F7-2A7F-4D91-8072-469DDDA2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FFB-CE5A-4CF9-B3C3-B8498F6A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639-4EA1-48BE-B502-1BD6541D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F743-7A38-4D7F-A165-C55C28896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10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15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22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28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2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2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78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RomaK</cp:lastModifiedBy>
  <dcterms:modified xsi:type="dcterms:W3CDTF">2015-09-04T09:31:50Z</dcterms:modified>
  <cp:revision>45</cp:revision>
  <dc:subject/>
  <dc:title>Middle Ages of Europe</dc:title>
</cp:coreProperties>
</file>