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8CA2-6AAB-451E-A427-1D9FA64673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RomaK</cp:lastModifiedBy>
  <dcterms:modified xsi:type="dcterms:W3CDTF">2015-09-04T09:31:42Z</dcterms:modified>
  <cp:revision>15</cp:revision>
  <dc:subject>Dr Martin Luther King</dc:subject>
  <dc:title>Dr Martin Luther King</dc:title>
</cp:coreProperties>
</file>