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D2F5-8392-4C01-A7B0-E737F6F92A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E07-29B2-4385-8411-1C5F82AF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102-7A23-43ED-8777-1E176E34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733-BC45-46AD-91BF-35E22BF5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B0F-7CC0-4EBD-8CE3-4D1BC341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DF8-47B2-4692-91E5-292F0EB2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38A-BDC0-49A1-9F03-EE2011C8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587-27A1-4248-A6A2-37B2434C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098-9EF0-4866-9F69-72E3031E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733-3D38-4D3C-8152-EDFF0D4A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5C1-651F-4727-B887-782C1D7A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1DB-CBF1-4B51-AD30-DCDF16BC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27E-EDAB-4F3C-ADC8-46D297E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1D3F-FECE-4485-A231-B5B2AE89C45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RomaK</cp:lastModifiedBy>
  <dcterms:modified xsi:type="dcterms:W3CDTF">2015-09-04T09:31:26Z</dcterms:modified>
  <cp:revision>9</cp:revision>
  <dc:subject>Louis Pasteur &amp; Germ Theory</dc:subject>
  <dc:title>Louis Pasteur &amp; Germ Theory</dc:title>
</cp:coreProperties>
</file>