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D7CB-501C-430E-B9C4-F0C9CB78B4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9CF-E428-495F-AAAE-BF811D2D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D56-F8D2-44C4-83CF-6CBF1576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77D-CEF6-423D-85B8-AAC706F7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8ED-BD24-4463-B5BB-E2874729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CAF-3643-4AD9-BB7F-79F97789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3A6-9220-4EB1-A78B-35E3C420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DC2-8EB7-4303-8D30-9452B219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EC9-3336-4993-B0EF-AA7E57F0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4A3-CC0E-4EC6-A8B9-8CA382B4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7C1-362C-4D5B-B228-E282F356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621-6D7D-407F-B967-16C58FF2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03E-2C3B-4906-9D85-F875028A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5527-F0B9-47E1-A2F8-F920D20A8C0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RomaK</cp:lastModifiedBy>
  <dcterms:modified xsi:type="dcterms:W3CDTF">2015-09-04T09:31:26Z</dcterms:modified>
  <cp:revision>9</cp:revision>
  <dc:subject>Louis Pasteur &amp; Germ Theory</dc:subject>
  <dc:title>Louis Pasteur &amp; Germ Theory</dc:title>
</cp:coreProperties>
</file>