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969-8764-47A4-A6D0-2617E03C1C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C88-94E0-4D12-B49E-A2208769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659-448C-4B15-A7CE-703E82E8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3AF-FB4E-47F6-B97C-4602AB60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240-2431-4F43-802D-1A0AC29B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D3B-4F15-4784-A3A5-394D2241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EEA-AC4C-49F6-99B2-994386E5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9B4-A78B-4A6D-9A4B-DAE3C146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327-543A-4511-A57B-E4337A9C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79E-BEAE-41B7-A4E3-1423DB2B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D7F-C89A-4A14-A232-4455E697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1A2-4BBC-421A-9285-183B33D2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C7F-B9C4-4C69-AE61-591DAE7B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3B97-3078-4AA0-B564-8BE9DB8D2E2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RomaK</cp:lastModifiedBy>
  <dcterms:modified xsi:type="dcterms:W3CDTF">2015-09-04T09:31:26Z</dcterms:modified>
  <cp:revision>9</cp:revision>
  <dc:subject>Louis Pasteur &amp; Germ Theory</dc:subject>
  <dc:title>Louis Pasteur &amp; Germ Theory</dc:title>
</cp:coreProperties>
</file>