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5F02-29F7-4C15-BC92-C76C76B2EF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124-E4F9-409C-8A4D-5E4B6E6E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99A-D24B-440F-9D9C-D357BF7C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B51-C28C-438B-BBF9-ABD489B8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FF9-A24E-486A-ADDD-D7D734C8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520-7276-4883-BC68-347A7300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96B-E2B2-4DC1-AEEB-25C4F381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E6D-894A-4E8B-B160-8CE1F5F4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3A8-B5E0-4A05-B7E6-D6C0097E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257-8791-43D0-B24E-3833D08F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1D8-7C6A-4F81-A0FD-8545955B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4EB-A650-4933-8177-3DAB845A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E76-F52E-4AB4-BA64-60CBCAFA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EB83-A910-4CB9-A044-F1C1530D1FE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RomaK</cp:lastModifiedBy>
  <dcterms:modified xsi:type="dcterms:W3CDTF">2015-09-04T09:31:26Z</dcterms:modified>
  <cp:revision>9</cp:revision>
  <dc:subject>Louis Pasteur &amp; Germ Theory</dc:subject>
  <dc:title>Louis Pasteur &amp; Germ Theory</dc:title>
</cp:coreProperties>
</file>