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F5B2-5C20-4871-BFE1-A058C3CB9E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8CE-CA7E-49DE-A0AA-C4A5DC4C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295-9DA6-479A-8DD6-5DA95AA8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212-94C6-4A39-A7CA-6A336204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156-20AA-464A-A208-FD3119A1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6BD9-343B-4950-BCBC-78F3B669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C02C-3AE6-41ED-A66B-C06BBF67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859E-C129-4C41-AF45-0452AFA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1A54-8A5E-4A93-A6CB-7BEC96F1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2783-B714-4DCF-A808-EE97E2B0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D66E-0C36-42E4-A264-996B117E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5E35-348A-4B62-A2F8-0BDE5A6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2B2-636A-4AEB-B674-30EE7AF7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859A-D02B-46B4-9CC1-1220F960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BB8F-803C-4C95-B675-39122DB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8BD-630F-479A-98FE-542CD17B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A172-ABF4-4C0A-B091-88BFDB9A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F73E-C583-45B4-BE49-B367B977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C50-8BB0-4F3C-9D52-5E77420D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B7C-09CA-44B3-933E-AFC3FC66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3AA-55D4-4859-9AA8-BFDC057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D42-9ACF-4641-96BB-5481C038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F1C-6310-4B43-96A3-5DA0F88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1CE-A615-4862-82FF-9526358B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EEE-D064-46AA-8E4E-5E29FD8F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1024-EE2D-4B67-8EFA-86245E87CFC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E965-2BF2-4124-A129-4990900FEEC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RomaK</cp:lastModifiedBy>
  <dcterms:modified xsi:type="dcterms:W3CDTF">2015-09-04T09:31:16Z</dcterms:modified>
  <cp:revision>10</cp:revision>
  <dc:subject>Lincoln and the Emancipation Proclamation</dc:subject>
  <dc:title>Lincoln and the Emancipation Proclamation</dc:title>
</cp:coreProperties>
</file>