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A8A0-D958-4E25-982C-00230E6E6F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 and the Emancipation Procla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ce Relations in the South 1863-19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 and the Emancipation Procla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Relations in the South 1863-19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motives lay behind Lincoln’s issuing of the Emancipation Proclam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erlying question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as the Emancipation Proclam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effects did the Emancipation Proclamation have on slav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was the Emancipation Proclamation issu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otives lay behind Lincoln’s issuing of the Emancipation Procla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lying 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as the Emancipation Procla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s did the Emancipation Proclamation have on slav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the Emancipation Proclamation issu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handou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car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in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loughby p.19-2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paratcus.schoolnet.co.uk/USASproclamation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archives.gov/exhibits/featured_documents/emancipation_proclamation/index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a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oughby p.19-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aratcus.schoolnet.co.uk/USASproclama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rchives.gov/exhibits/featured_documents/emancipation_proclamation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d ma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ssay ques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nuary 20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ay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as the Emancipation Procla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liminary proclamation issued  22nd Sept 186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d all slaves who were in Confederate states fighting against the Un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d not free all slaves!  Was very limi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as the Emancipation Procla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 proclamation issued  22nd Sept 18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 all slaves who were in Confederate states fighting against the U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not free all slaves!  Was very limi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61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break of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y 1861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ittenden Re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March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ulment of Fugitive Slav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 April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ess agree to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ensate slave own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 June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ess rule slavery is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egal in U.S. territo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6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break of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186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tenden Re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March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lment of Fugitive Slav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April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agree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e slave ow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June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rule slavery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egal in U.S. terri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y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fiscation A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7 Sept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on victory at Antiet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2 Sept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liminary Emancip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clamation issu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Jan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ancipation Proclamatio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su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1 Jan 1865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th Amendment to th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itu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scat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Sept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on victory at Antiet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Sept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 Emancip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lamation iss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Jan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ncipation Proclam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 Jan 186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th Amendment to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id Lincoln issue the Emancipation Proclamation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ideas on slav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Lincoln issue the Emancipation Proclamation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ideas on 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views on slav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views on 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765D-ECB6-4582-A3EE-B6D2B0BF8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166C-6E1A-4700-9A85-DF254466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9F8A-F71E-4F55-A4D9-FC083B6CC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93A6-EBA9-480D-A156-37DABB48D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2B7F-CCE0-48D0-91AC-D5D03A0CF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9DD9-E0F0-477C-90FE-58F708DC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3CE1-0570-44AC-8185-179B7FCE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B8A0-3AD6-4A06-88C6-9D2D5A89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8510-2593-4CBE-80F8-CCF97392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C8D8-E016-4153-AF40-762BA76B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BBE4-FD29-4F81-82AC-8DE0E918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EE23-7FF4-4617-B16D-8C85EF68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E9CC-4C26-4C36-99BB-E2D52289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5CEF-0771-4A39-BD93-00C04581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1B1F-4E40-4FF5-A3C5-4D952696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893C-7DD8-41A7-ADFC-784C871D4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82D6-28F7-4262-B5B1-5508D562F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A2AF-7E9C-4D16-95D6-22724B78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9C8C-C20E-4C4F-B846-7540F256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3153-F3AA-46C5-A1B1-43E1701E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9CF9-55E1-480A-97AC-42E569B1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D11B-1C9D-4885-8976-9720D7C4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D920-F9CD-40DF-8109-B0A4790E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4923-A011-441D-A666-4761FD75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B310-7259-4F98-916D-C4CFFFD6B95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04C4-1099-4259-83F5-43F598A1560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Lincoln and the Emancipation Proclam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ace Relations in the South 1863-19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Unit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motives lay behind Lincoln’s issuing of the Emancipation Proclam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278080"/>
            <a:ext cx="822960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derlying ques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was the Emancipation Proclam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effects did the Emancipation Proclamation have on slav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was the Emancipation Proclamation issu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4 hando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ca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Zi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og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lloughby p.19-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ww.sparatcus.schoolnet.co.uk/USASproclamation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ww.archives.gov/exhibits/featured_documents/emancipation_proclamation/index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ind ma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say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anuary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was the Emancipation Proclam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liminary proclamation issued  22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Sept 186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reed all slaves who were in Confederate states fighting against the Un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d not free all slaves!  Was very limi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6" descr="Emancipation Proclamation, page 1"/>
          <p:cNvPicPr/>
          <p:nvPr/>
        </p:nvPicPr>
        <p:blipFill>
          <a:blip r:embed="rId4"/>
          <a:stretch/>
        </p:blipFill>
        <p:spPr>
          <a:xfrm>
            <a:off x="684360" y="1557360"/>
            <a:ext cx="3527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861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utbreak of Civil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uly 1861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rittenden Re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3 March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ulment of Fugitive Slave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 April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gress agree to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pensate slave ow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9 June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gress rule slavery is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llegal in U.S. terri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uly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fiscation 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7 Sept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ion victory at Antiet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2 Sept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liminary Emancip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clamation iss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 Jan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mancipation Proclamation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ss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1 Jan 1865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GB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Amendment to the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tit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y did Lincoln issue the Emancipation Proclamation?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Lincoln’s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3848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coln’s ideas on sla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8" descr="Abraham%20Lincoln%20(06-1831a)"/>
          <p:cNvPicPr/>
          <p:nvPr/>
        </p:nvPicPr>
        <p:blipFill>
          <a:blip r:embed="rId5"/>
          <a:stretch/>
        </p:blipFill>
        <p:spPr>
          <a:xfrm>
            <a:off x="4859280" y="2133720"/>
            <a:ext cx="306072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coln’s views on sla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0:09:19Z</dcterms:created>
  <dc:creator>cjames</dc:creator>
  <dc:description>Lincoln and the Emancipation Proclamation</dc:description>
  <cp:keywords>Lincoln and the Emancipation Proclamation</cp:keywords>
  <dc:language>en-US</dc:language>
  <cp:lastModifiedBy>RomaK</cp:lastModifiedBy>
  <dcterms:modified xsi:type="dcterms:W3CDTF">2015-09-04T09:31:16Z</dcterms:modified>
  <cp:revision>10</cp:revision>
  <dc:subject>Lincoln and the Emancipation Proclamation</dc:subject>
  <dc:title>Lincoln and the Emancipation Proclamation</dc:title>
</cp:coreProperties>
</file>