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ED88-680F-489A-AB41-9FC3EAE7E5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561-F278-46A6-9939-4E5C3867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036-1F06-4B10-8319-FC4C68F4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E7A-CA76-4176-B399-D6FC9320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D9D-953A-4771-AADB-3782FB9A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B2A6-93A1-4DDE-908F-DEF4F8CA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A07B-1BF1-421D-971C-1F858316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B44E-9CFA-49C6-87CB-39F88ECB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C72C-41B4-4290-9BD6-AAA981D5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F1A0-59A4-49CB-8746-378A922A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0A92-BBCA-4790-B3A2-64A18667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A256-F72B-4F0E-A789-A564AFA7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541-AC3A-4F63-89E4-0A2DDE36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D2A4-7ED9-4674-9B2E-0B70D0B1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51A5-9C94-4618-80FE-6DCFE43B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0987-B599-44C3-BE1B-5DC1F3C4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FDBF-3A42-47CF-B6F8-09E9BC91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F1E5-6444-457E-9131-7EE6B857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350-CAF3-4AEF-8172-ABCE673B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4CC-1842-4C12-A97A-20128629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68C-4122-4E79-BAF8-CD240499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98C-CF43-4E43-9CF6-8526BD31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3D1-1780-4B81-B8EF-95042BF4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B82-0975-44F3-B46F-D4AB2960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1DA-5C5B-4690-AA0D-016B2AED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2F7F-3A6C-402E-BF20-4C05448EE76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CAB7-4BB2-459F-9C53-AC520BEF96E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RomaK</cp:lastModifiedBy>
  <dcterms:modified xsi:type="dcterms:W3CDTF">2015-09-04T09:31:16Z</dcterms:modified>
  <cp:revision>10</cp:revision>
  <dc:subject>Lincoln and the Emancipation Proclamation</dc:subject>
  <dc:title>Lincoln and the Emancipation Proclamation</dc:title>
</cp:coreProperties>
</file>