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647D-80F0-4C14-B456-563E1CC6F8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 and the Emancipation Procla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ce Relations in the South 1863-19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 and the Emancipation Procla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Relations in the South 1863-19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motives lay behind Lincoln’s issuing of the Emancipation Proclama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erlying question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was the Emancipation Proclama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effects did the Emancipation Proclamation have on slav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was the Emancipation Proclamation issu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otives lay behind Lincoln’s issuing of the Emancipation Procla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lying qu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as the Emancipation Procla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ffects did the Emancipation Proclamation have on slav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the Emancipation Proclamation issu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handou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car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rm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in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lloughby p.19-2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paratcus.schoolnet.co.uk/USASproclamation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archives.gov/exhibits/featured_documents/emancipation_proclamation/index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a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i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oughby p.19-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aratcus.schoolnet.co.uk/USASproclamat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rchives.gov/exhibits/featured_documents/emancipation_proclamation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d ma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ssay ques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what extent was Lincoln’s Emancipation Proclamation (1863) the result of a genuine desire to free black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nuary 20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ay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what extent was Lincoln’s Emancipation Proclamation (1863) the result of a genuine desire to free black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was the Emancipation Procla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liminary proclamation issued  22nd Sept 186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ed all slaves who were in Confederate states fighting against the Un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d not free all slaves!  Was very limi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as the Emancipation Procla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 proclamation issued  22nd Sept 18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d all slaves who were in Confederate states fighting against the Un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not free all slaves!  Was very limi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61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break of Civil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y 1861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ittenden Re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March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ulment of Fugitive Slav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 April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ess agree to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ensate slave own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 June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ess rule slavery is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egal in U.S. territo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6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break of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186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tenden Re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March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lment of Fugitive Slav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April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ess agree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nsate slave ow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 June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ess rule slavery 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egal in U.S. terri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y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fiscation A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7 Sept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on victory at Antiet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2 Sept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liminary Emancip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clamation issu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Jan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ancipation Proclamatio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su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1 Jan 1865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th Amendment to th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itu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scatio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Sept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on victory at Antiet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 Sept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 Emancip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lamation iss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Jan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ncipation Proclam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s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 Jan 186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th Amendment to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did Lincoln issue the Emancipation Proclamation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’s vie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’s ideas on slav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id Lincoln issue the Emancipation Proclamation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’s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’s ideas on 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ing extracts from Lincoln’s letters and speeches brainstorm his views on slavery and the rights of Blacks under the following heading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’s views on slav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extracts from Lincoln’s letters and speeches brainstorm his views on slavery and the rights of Blacks under the following head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’s views on 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7C9B-5EC0-4A74-8F9F-D77CB022A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A6ED-ED6D-4809-B902-1E99238F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ED8F-61D7-4B1E-BCF4-19916C64F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1082-09BE-463D-BA36-2F31618C5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DCA7-6D02-49C9-9FBE-C8680D1FA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9304E-E05E-4054-B020-1F9C421E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CACC-EBA8-4E35-A625-64B291A1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5DF5-2DC1-4E03-9D36-902ED8D5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79E7-A1F4-438E-9EC1-D40945E2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FCDE-82B2-4AED-89C8-6832A70C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46CE-05FE-4250-ABB7-53CDC95A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B5BE-FB19-47DE-9688-8F64AC3E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8A337-8AEB-4E97-8C4D-225D35F4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44D6-0C6C-438E-A82C-5144E46F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7A71D-3F31-48B7-AF6B-B6CED843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C0F1-A048-456D-8F26-B24CEC95B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3C19-D4F6-47CC-80EF-0876519C0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C0A4-04D6-43A3-94BC-F30EAF19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ECFC-68F0-418A-9B32-D618230C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5394-D9CF-4F23-A568-BA94A5FA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FE71-A3E1-4FDC-9124-F01BE1AC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8E46-503B-4E5C-92F8-F3D2C0ED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22F9-959E-4715-89ED-7954D818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0CC4-7449-41FE-96CE-42D5CB03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2974-BFC5-41A2-8EE2-BD912573778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0B07-D76D-4C3C-9B3C-92C28B58779D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Lincoln and the Emancipation Proclam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Race Relations in the South 1863-19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Unit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motives lay behind Lincoln’s issuing of the Emancipation Proclam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2278080"/>
            <a:ext cx="822960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derlying ques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was the Emancipation Proclam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effects did the Emancipation Proclamation have on slav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y was the Emancipation Proclamation issu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4 hando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ncar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Zi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og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lloughby p.19-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ww.sparatcus.schoolnet.co.uk/USASproclamation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ww.archives.gov/exhibits/featured_documents/emancipation_proclamation/index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ind ma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ssay qu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what extent was Lincoln’s Emancipation Proclamation (1863) the result of a genuine desire to free black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anuary 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was the Emancipation Proclam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eliminary proclamation issued  22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Sept 186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reed all slaves who were in Confederate states fighting against the Un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d not free all slaves!  Was very limi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6" descr="Emancipation Proclamation, page 1"/>
          <p:cNvPicPr/>
          <p:nvPr/>
        </p:nvPicPr>
        <p:blipFill>
          <a:blip r:embed="rId4"/>
          <a:stretch/>
        </p:blipFill>
        <p:spPr>
          <a:xfrm>
            <a:off x="684360" y="1557360"/>
            <a:ext cx="35272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861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utbreak of Civil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uly 1861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rittenden Resol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3 March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nulment of Fugitive Slave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 April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gress agree to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pensate slave ow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9 June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gress rule slavery is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llegal in U.S. terri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uly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fiscation 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7 Sept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ion victory at Antiet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2 Sept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liminary Emancip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clamation issu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 Jan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mancipation Proclamation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ssu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1 Jan 1865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GB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Amendment to the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stit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y did Lincoln issue the Emancipation Proclamation?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Lincoln’s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3848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coln’s ideas on sla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8" descr="Abraham%20Lincoln%20(06-1831a)"/>
          <p:cNvPicPr/>
          <p:nvPr/>
        </p:nvPicPr>
        <p:blipFill>
          <a:blip r:embed="rId5"/>
          <a:stretch/>
        </p:blipFill>
        <p:spPr>
          <a:xfrm>
            <a:off x="4859280" y="2133720"/>
            <a:ext cx="306072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ing extracts from Lincoln’s letters and speeches brainstorm his views on slavery and the rights of Blacks under the following heading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coln’s views on sla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10:09:19Z</dcterms:created>
  <dc:creator>cjames</dc:creator>
  <dc:description>Lincoln and the Emancipation Proclamation</dc:description>
  <cp:keywords>Lincoln and the Emancipation Proclamation</cp:keywords>
  <dc:language>en-US</dc:language>
  <cp:lastModifiedBy>RomaK</cp:lastModifiedBy>
  <dcterms:modified xsi:type="dcterms:W3CDTF">2015-09-04T09:31:16Z</dcterms:modified>
  <cp:revision>10</cp:revision>
  <dc:subject>Lincoln and the Emancipation Proclamation</dc:subject>
  <dc:title>Lincoln and the Emancipation Proclamation</dc:title>
</cp:coreProperties>
</file>