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4DA06-8392-40A6-A413-C46E2C81C94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last Furn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Chan, Sam and E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last Furn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Chan, Sam and E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a Blast Furnac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urpose of a blast furnace is to reduce and convert iron oxides into liquid iron called "hot metal"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last furnace is a huge, steel stack lined with refractory bric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ron ore, coke and limestone are put into the top, and preheated air is blown into the botto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a Blast Furnac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urpose of a blast furnace is to reduce and convert iron oxides into liquid iron called "hot metal"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last furnace is a huge, steel stack lined with refractory bric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ron ore, coke and limestone are put into the top, and preheated air is blown into the botto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does Iron have to be extracted in a Blast Furnace??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ron can be extracted by the blast furnace because it can be displaced by carb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more efficient method than electrolysis because it is more cost effec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does Iron have to be extracted in a Blast Furnace??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ron can be extracted by the blast furnace because it can be displaced by carb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more efficient method than electrolysis because it is more cost effec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e substances are needed to enable to extraction of iron from its ore. The combined mixture is called the charg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ron ore, haematite - often contains sand with iron oxide, Fe2O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mestone (calcium carbonat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ke - mainly carb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harge is placed a giant chimney called a blast furnace. The blast furnace is around 30 metres high and lined with fireproof bricks. Hot air is blasted through the bottom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eth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e substances are needed to enable to extraction of iron from its ore. The combined mixture is called the charg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ron ore, haematite - often contains sand with iron oxide, Fe2O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mestone (calcium carbonat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ke - mainly carb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harge is placed a giant chimney called a blast furnace. The blast furnace is around 30 metres high and lined with fireproof bricks. Hot air is blasted through the bottom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eth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ygen in the air reacts with coke to give carbon dioxid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(s) + O 2(g)  CO2(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imestone breaks down to form carbon dioxid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O3(s)  CO2 (g) + CaO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n dioxide produced in 1 + 2 react with more coke to produce carbon monoxid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2(g) + C(s)  2CO(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ral reactions take place before the iron is finally produced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ygen in the air reacts with coke to give carbon dioxid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(s) + O 2(g)  CO2(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imestone breaks down to form carbon dioxid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O3(s)  CO2 (g) + CaO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n dioxide produced in 1 + 2 react with more coke to produce carbon monoxid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2(g) + C(s)  2CO(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ral reactions take place before the iron is finally produced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arbon monoxide reduces the iron in the ore to give molten ir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CO(g) + Fe2O3(s)  2Fe(l) + 3CO2(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imestone from 2, reacts with the sand to form slag (calcium silicate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O(s) + SiO(s)  CaSiO3(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arbon monoxide reduces the iron in the ore to give molten ir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CO(g) + Fe2O3(s)  2Fe(l) + 3CO2(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imestone from 2, reacts with the sand to form slag (calcium silicate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O(s) + SiO(s)  CaSiO3(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the slag and iron are drained from the bottom of the furn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lag is mainly used to build roa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ron whilst molten is poured into moulds and left to solidify - this is called cast iron and is used to make railings and storage tank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st of the iron is used to make stee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the slag and iron are drained from the bottom of the furn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lag is mainly used to build roa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ron whilst molten is poured into moulds and left to solidify - this is called cast iron and is used to make railings and storage tank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st of the iron is used to make stee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ank you for watching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nk you for watching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A77C8-3607-48BB-BD1B-C179FC9AA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F8392-3481-45E2-9F1F-4180D8FC2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B9120-2B5C-4774-83EA-3A59F422B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05776-B6DB-4F7E-9A63-DD52DC13E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CEB36-A46C-4C23-9F10-42AA9C4E8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6D318-E14F-4562-BC69-98790DA38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A2D77-DF8F-4565-B0FC-7E1403E18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53BFB-3CEA-45AF-A5C0-7C8F58E44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A7579-DEEF-46DC-BE84-9559A799C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32A88-25E6-481C-8224-FBADB2882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6251E-C7E3-4E07-BCF2-18180F2AF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F2672-1B16-45BC-8076-AB573EE33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ff99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239F1-C6D0-482D-AD64-59668FC6DB5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3"/>
          <p:cNvSpPr txBox="1"/>
          <p:nvPr/>
        </p:nvSpPr>
        <p:spPr>
          <a:xfrm>
            <a:off x="1143000" y="2514600"/>
            <a:ext cx="7058160" cy="1390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French Script MT"/>
              </a:rPr>
              <a:t>The Blast Furnace</a:t>
            </a:r>
            <a:endParaRPr b="1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French Script MT"/>
              <a:ea typeface="French Script MT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990720" y="441972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Kristen ITC"/>
              </a:rPr>
              <a:t>By Chan, Sam and El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1944360" y="380880"/>
            <a:ext cx="510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Bauhaus 93"/>
              </a:rPr>
              <a:t>What is a Blast Furnac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3"/>
          <p:cNvSpPr/>
          <p:nvPr/>
        </p:nvSpPr>
        <p:spPr>
          <a:xfrm>
            <a:off x="457200" y="1219320"/>
            <a:ext cx="3809880" cy="52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Kristen ITC"/>
              </a:rPr>
              <a:t>The purpose of a blast furnace is to reduce and convert iron oxides into liquid iron called "hot metal"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Kristen ITC"/>
              </a:rPr>
              <a:t>The blast furnace is a huge, steel stack lined with refractory bric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Kristen ITC"/>
              </a:rPr>
              <a:t>Iron ore, coke and limestone are put into the top, and preheated air is blown into the botto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4" descr="blast_furnace"/>
          <p:cNvPicPr/>
          <p:nvPr/>
        </p:nvPicPr>
        <p:blipFill>
          <a:blip r:embed="rId1"/>
          <a:stretch/>
        </p:blipFill>
        <p:spPr>
          <a:xfrm>
            <a:off x="4648320" y="1295280"/>
            <a:ext cx="426708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762120" y="1143000"/>
            <a:ext cx="784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Bauhaus 93"/>
              </a:rPr>
              <a:t>Why does Iron have to be extracted in a Blast Furnace?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609480" y="2819520"/>
            <a:ext cx="8153640" cy="267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Kristen ITC"/>
              </a:rPr>
              <a:t>Iron can be extracted by the blast furnace because it can be displaced by carb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Kristen ITC"/>
              </a:rPr>
              <a:t>This is more efficient method than electrolysis because it is more cost effec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3"/>
          <p:cNvSpPr/>
          <p:nvPr/>
        </p:nvSpPr>
        <p:spPr>
          <a:xfrm>
            <a:off x="2300400" y="1419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1066680" y="495360"/>
            <a:ext cx="6934320" cy="613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2"/>
          <p:cNvSpPr/>
          <p:nvPr/>
        </p:nvSpPr>
        <p:spPr>
          <a:xfrm>
            <a:off x="304920" y="1523880"/>
            <a:ext cx="8534160" cy="494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Three substances are needed to enable to extraction of iron from its ore. The combined mixture is called the </a:t>
            </a:r>
            <a:r>
              <a:rPr b="1" lang="en-GB" sz="2400" spc="-1" strike="noStrike">
                <a:solidFill>
                  <a:srgbClr val="ffffff"/>
                </a:solidFill>
                <a:latin typeface="Kristen ITC"/>
                <a:ea typeface="Arial Unicode MS"/>
              </a:rPr>
              <a:t>charge</a:t>
            </a:r>
            <a:r>
              <a:rPr b="1" lang="en-GB" sz="2400" spc="-1" strike="noStrike">
                <a:solidFill>
                  <a:srgbClr val="800080"/>
                </a:solidFill>
                <a:latin typeface="Kristen ITC"/>
                <a:ea typeface="Arial Unicode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Iron ore, haematite</a:t>
            </a:r>
            <a:r>
              <a:rPr b="0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 - often contains sand with iron oxide, Fe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Kristen ITC"/>
                <a:ea typeface="Arial Unicode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O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Kristen ITC"/>
                <a:ea typeface="Arial Unicode MS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Limestone</a:t>
            </a:r>
            <a:r>
              <a:rPr b="0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 (calcium carbonat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Kristen ITC"/>
                <a:ea typeface="Times New Roman"/>
              </a:rPr>
              <a:t>Coke</a:t>
            </a:r>
            <a:r>
              <a:rPr b="0" lang="en-GB" sz="2400" spc="-1" strike="noStrike">
                <a:solidFill>
                  <a:srgbClr val="000000"/>
                </a:solidFill>
                <a:latin typeface="Kristen ITC"/>
                <a:ea typeface="Times New Roman"/>
              </a:rPr>
              <a:t> - mainly carbo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Kristen ITC"/>
                <a:ea typeface="Times New Roman"/>
              </a:rPr>
              <a:t>The charge is placed a giant chimney called a</a:t>
            </a:r>
            <a:r>
              <a:rPr b="1" lang="en-GB" sz="2400" spc="-1" strike="noStrike">
                <a:solidFill>
                  <a:srgbClr val="800080"/>
                </a:solidFill>
                <a:latin typeface="Kristen ITC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Kristen ITC"/>
                <a:ea typeface="Times New Roman"/>
              </a:rPr>
              <a:t>blast</a:t>
            </a:r>
            <a:r>
              <a:rPr b="1" lang="en-GB" sz="2400" spc="-1" strike="noStrike">
                <a:solidFill>
                  <a:srgbClr val="800080"/>
                </a:solidFill>
                <a:latin typeface="Kristen ITC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Kristen ITC"/>
                <a:ea typeface="Times New Roman"/>
              </a:rPr>
              <a:t>furnace</a:t>
            </a:r>
            <a:r>
              <a:rPr b="0" lang="en-GB" sz="2400" spc="-1" strike="noStrike">
                <a:solidFill>
                  <a:srgbClr val="000000"/>
                </a:solidFill>
                <a:latin typeface="Kristen ITC"/>
                <a:ea typeface="Times New Roman"/>
              </a:rPr>
              <a:t>. The blast furnace is around 30 metres high and lined with fireproof bricks. Hot air is blasted through the bottom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838080" y="380880"/>
            <a:ext cx="754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auhaus 93"/>
              </a:rPr>
              <a:t>The Metho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4" descr="limestone"/>
          <p:cNvPicPr/>
          <p:nvPr/>
        </p:nvPicPr>
        <p:blipFill>
          <a:blip r:embed="rId1"/>
          <a:stretch/>
        </p:blipFill>
        <p:spPr>
          <a:xfrm>
            <a:off x="609480" y="228600"/>
            <a:ext cx="1600200" cy="130500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6"/>
          <p:cNvSpPr/>
          <p:nvPr/>
        </p:nvSpPr>
        <p:spPr>
          <a:xfrm>
            <a:off x="370044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5" descr="coal"/>
          <p:cNvPicPr/>
          <p:nvPr/>
        </p:nvPicPr>
        <p:blipFill>
          <a:blip r:embed="rId2"/>
          <a:stretch/>
        </p:blipFill>
        <p:spPr>
          <a:xfrm>
            <a:off x="6781680" y="228600"/>
            <a:ext cx="1600200" cy="12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1143000" y="609480"/>
            <a:ext cx="6781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3"/>
          <p:cNvSpPr/>
          <p:nvPr/>
        </p:nvSpPr>
        <p:spPr>
          <a:xfrm>
            <a:off x="838080" y="1905120"/>
            <a:ext cx="7696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762120" y="1371600"/>
            <a:ext cx="7010280" cy="592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Oxygen in the air reacts with coke to give carbon dioxi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C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Kristen ITC"/>
                <a:ea typeface="Arial Unicode MS"/>
              </a:rPr>
              <a:t>(s)</a:t>
            </a:r>
            <a:r>
              <a:rPr b="0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 + O 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Kristen ITC"/>
                <a:ea typeface="Arial Unicode MS"/>
              </a:rPr>
              <a:t>2(g) </a:t>
            </a:r>
            <a:r>
              <a:rPr b="0" lang="en-GB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 CO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Kristen ITC"/>
                <a:ea typeface="Arial Unicode MS"/>
              </a:rPr>
              <a:t>2(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The limestone breaks down to form carbon dioxi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CaCO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Kristen ITC"/>
                <a:ea typeface="Arial Unicode MS"/>
              </a:rPr>
              <a:t>3(s)</a:t>
            </a:r>
            <a:r>
              <a:rPr b="0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 CO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Kristen ITC"/>
                <a:ea typeface="Arial Unicode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 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Kristen ITC"/>
                <a:ea typeface="Arial Unicode MS"/>
              </a:rPr>
              <a:t>(g)</a:t>
            </a:r>
            <a:r>
              <a:rPr b="0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 + CaO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Kristen ITC"/>
                <a:ea typeface="Arial Unicode MS"/>
              </a:rPr>
              <a:t>(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Carbon dioxide produced in 1 + 2 react with more coke to produce carbon monoxi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CO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Kristen ITC"/>
                <a:ea typeface="Arial Unicode MS"/>
              </a:rPr>
              <a:t>2(g)</a:t>
            </a:r>
            <a:r>
              <a:rPr b="0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 + C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Kristen ITC"/>
                <a:ea typeface="Arial Unicode MS"/>
              </a:rPr>
              <a:t>(s)</a:t>
            </a:r>
            <a:r>
              <a:rPr b="0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 2CO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Kristen ITC"/>
                <a:ea typeface="Arial Unicode MS"/>
              </a:rPr>
              <a:t>(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6"/>
          <p:cNvSpPr/>
          <p:nvPr/>
        </p:nvSpPr>
        <p:spPr>
          <a:xfrm>
            <a:off x="76320" y="152280"/>
            <a:ext cx="8686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Bauhaus 93"/>
                <a:ea typeface="Arial Unicode MS"/>
              </a:rPr>
              <a:t>Several reactions take place before the iron is finally produced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2"/>
          <p:cNvSpPr/>
          <p:nvPr/>
        </p:nvSpPr>
        <p:spPr>
          <a:xfrm>
            <a:off x="762120" y="990720"/>
            <a:ext cx="7924680" cy="39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457200">
              <a:lnSpc>
                <a:spcPct val="100000"/>
              </a:lnSpc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The carbon monoxide reduces the iron in the ore to give molten ir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3CO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Kristen ITC"/>
                <a:ea typeface="Arial Unicode MS"/>
              </a:rPr>
              <a:t>(g)</a:t>
            </a:r>
            <a:r>
              <a:rPr b="0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 + Fe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Kristen ITC"/>
                <a:ea typeface="Arial Unicode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O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Kristen ITC"/>
                <a:ea typeface="Arial Unicode MS"/>
              </a:rPr>
              <a:t>3(s)</a:t>
            </a:r>
            <a:r>
              <a:rPr b="0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 2Fe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Kristen ITC"/>
                <a:ea typeface="Arial Unicode MS"/>
              </a:rPr>
              <a:t>(l)</a:t>
            </a:r>
            <a:r>
              <a:rPr b="0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 + 3CO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Kristen ITC"/>
                <a:ea typeface="Arial Unicode MS"/>
              </a:rPr>
              <a:t>2(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457200">
              <a:lnSpc>
                <a:spcPct val="100000"/>
              </a:lnSpc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457200">
              <a:lnSpc>
                <a:spcPct val="100000"/>
              </a:lnSpc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The limestone from 2, reacts with the sand to form slag (calcium silicate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CaO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Kristen ITC"/>
                <a:ea typeface="Arial Unicode MS"/>
              </a:rPr>
              <a:t>(s)</a:t>
            </a:r>
            <a:r>
              <a:rPr b="0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 + SiO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Kristen ITC"/>
                <a:ea typeface="Arial Unicode MS"/>
              </a:rPr>
              <a:t>(s)</a:t>
            </a:r>
            <a:r>
              <a:rPr b="0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 CaSiO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Kristen ITC"/>
                <a:ea typeface="Arial Unicode MS"/>
              </a:rPr>
              <a:t>3(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2"/>
          <p:cNvSpPr/>
          <p:nvPr/>
        </p:nvSpPr>
        <p:spPr>
          <a:xfrm>
            <a:off x="533520" y="1371600"/>
            <a:ext cx="7848360" cy="42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Both the slag and iron are drained from the bottom of the furna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The slag is mainly used to build roa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The iron whilst molten is poured into moulds and left to solidify - this is called cast iron and is used to make railings and storage tank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The rest of the iron is used to make stee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WordArt 3"/>
          <p:cNvSpPr txBox="1"/>
          <p:nvPr/>
        </p:nvSpPr>
        <p:spPr>
          <a:xfrm>
            <a:off x="228600" y="2286000"/>
            <a:ext cx="868680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57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French Script MT"/>
              </a:rPr>
              <a:t>Thank you for watching!!!</a:t>
            </a:r>
            <a:endParaRPr b="1" lang="en-US" sz="72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French Script MT"/>
              <a:ea typeface="French Script MT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01T09:09:28Z</dcterms:created>
  <dc:creator>A User</dc:creator>
  <dc:description/>
  <dc:language>en-US</dc:language>
  <cp:lastModifiedBy>LEGION</cp:lastModifiedBy>
  <dcterms:modified xsi:type="dcterms:W3CDTF">2015-09-04T10:09:02Z</dcterms:modified>
  <cp:revision>11</cp:revision>
  <dc:subject/>
  <dc:title>The Blast Furnace</dc:title>
</cp:coreProperties>
</file>