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F020-47C6-4B7A-AEAC-917F712197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an, Sam and E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an, Sam and E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last Furn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a blast furnace is to reduce and convert iron oxides into liquid iron called "hot metal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 is a huge, steel stack lined with refractory br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coke and limestone are put into the top, and preheated air is blown into the bot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last Furn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a blast furnace is to reduce and convert iron oxides into liquid iron called "hot metal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 is a huge, steel stack lined with refractory br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coke and limestone are put into the top, and preheated air is blown into the bot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Iron have to be extracted in a Blast Furnace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can be extracted by the blast furnace because it can be displaced by carb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more efficient method than electrolysis because it is more cost eff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Iron have to be extracted in a Blast Furnace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can be extracted by the blast furnace because it can be displaced by carb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more efficient method than electrolysis because it is more cost eff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ubstances are needed to enable to extraction of iron from its ore. The combined mixture is called the char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haematite - often contains sand with iron oxide, Fe2O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(calcium carbon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ke - mainly carb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rge is placed a giant chimney called a blast furnace. The blast furnace is around 30 metres high and lined with fireproof bricks. Hot air is blasted through the botto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ubstances are needed to enable to extraction of iron from its ore. The combined mixture is called the char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haematite - often contains sand with iron oxide, Fe2O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(calcium carbon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ke - mainly carb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rge is placed a giant chimney called a blast furnace. The blast furnace is around 30 metres high and lined with fireproof bricks. Hot air is blasted through the botto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the air reacts with coke to give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(s) + O 2(g)  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breaks down to form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(s)  CO2 (g) + CaO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produced in 1 + 2 react with more coke to produce carbon mon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(g) + C(s)  2CO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reactions take place before the iron is finally produce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the air reacts with coke to give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(s) + O 2(g)  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breaks down to form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(s)  CO2 (g) + CaO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produced in 1 + 2 react with more coke to produce carbon mon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(g) + C(s)  2CO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reactions take place before the iron is finally produce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 monoxide reduces the iron in the ore to give molten ir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CO(g) + Fe2O3(s)  2Fe(l) + 3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from 2, reacts with the sand to form slag (calcium silicat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O(s) + SiO(s)  CaSiO3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 monoxide reduces the iron in the ore to give molten ir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CO(g) + Fe2O3(s)  2Fe(l) + 3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from 2, reacts with the sand to form slag (calcium silicat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O(s) + SiO(s)  CaSiO3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slag and iron are drained from the bottom of the furn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lag is mainly used to build 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ron whilst molten is poured into moulds and left to solidify - this is called cast iron and is used to make railings and storage tan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t of the iron is used to make ste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slag and iron are drained from the bottom of the furn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lag is mainly used to build 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ron whilst molten is poured into moulds and left to solidify - this is called cast iron and is used to make railings and storage tan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t of the iron is used to make ste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ank you for wat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for wat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A123-F1C6-4CCB-BC1A-A0A77B0B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A29A-BAF2-4703-B07B-D0031A0A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6433-96E2-4286-922C-F5277E4BA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4144-BA5A-46F4-8989-428EE0B2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3A9E-AEBB-41D2-A624-88246473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416E-A053-449C-98F8-8BEE03A2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D480-94D3-4ED2-87CC-F5056327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2CE9-881F-4BF4-A59E-E13069A4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7E4D-1901-4C27-9AD6-64BAF538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59AB-A65C-4F92-85BF-63E211E2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CB18-AB76-4CA4-9A9C-A3F6C09E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F61A-9838-47AD-BEE5-804E0E66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A487-64C5-4256-86FB-DF9124C4131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1143000" y="2514600"/>
            <a:ext cx="705816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French Script MT"/>
              </a:rPr>
              <a:t>The Blast Furnace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French Script MT"/>
              <a:ea typeface="French Script MT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90720" y="44197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By Chan, Sam and E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944360" y="380880"/>
            <a:ext cx="510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auhaus 93"/>
              </a:rPr>
              <a:t>What is a Blast Furn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57200" y="1219320"/>
            <a:ext cx="380988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The purpose of a blast furnace is to reduce and convert iron oxides into liquid iron called "hot metal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The blast furnace is a huge, steel stack lined with refractory b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Iron ore, coke and limestone are put into the top, and preheated air is blown into the bott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blast_furnace"/>
          <p:cNvPicPr/>
          <p:nvPr/>
        </p:nvPicPr>
        <p:blipFill>
          <a:blip r:embed="rId1"/>
          <a:stretch/>
        </p:blipFill>
        <p:spPr>
          <a:xfrm>
            <a:off x="4648320" y="1295280"/>
            <a:ext cx="42670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762120" y="11430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Why does Iron have to be extracted in a Blast Furnace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609480" y="2819520"/>
            <a:ext cx="81536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Kristen ITC"/>
              </a:rPr>
              <a:t>Iron can be extracted by the blast furnace because it can be displaced by carb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Kristen ITC"/>
              </a:rPr>
              <a:t>This is more efficient method than electrolysis because it is more cost 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2300400" y="141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066680" y="495360"/>
            <a:ext cx="693432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04920" y="1523880"/>
            <a:ext cx="8534160" cy="49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ree substances are needed to enable to extraction of iron from its ore. The combined mixture is called the </a:t>
            </a:r>
            <a:r>
              <a:rPr b="1" lang="en-GB" sz="2400" spc="-1" strike="noStrike">
                <a:solidFill>
                  <a:srgbClr val="ffffff"/>
                </a:solidFill>
                <a:latin typeface="Kristen ITC"/>
                <a:ea typeface="Arial Unicode MS"/>
              </a:rPr>
              <a:t>charge</a:t>
            </a:r>
            <a:r>
              <a:rPr b="1" lang="en-GB" sz="2400" spc="-1" strike="noStrike">
                <a:solidFill>
                  <a:srgbClr val="800080"/>
                </a:solidFill>
                <a:latin typeface="Kristen ITC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Iron ore, haematit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- often contains sand with iron oxide, Fe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Limeston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(calcium carbona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Cok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 - mainly carb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The charge is placed a giant chimney called a</a:t>
            </a:r>
            <a:r>
              <a:rPr b="1" lang="en-GB" sz="2400" spc="-1" strike="noStrike">
                <a:solidFill>
                  <a:srgbClr val="800080"/>
                </a:solidFill>
                <a:latin typeface="Kristen ITC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blast</a:t>
            </a:r>
            <a:r>
              <a:rPr b="1" lang="en-GB" sz="2400" spc="-1" strike="noStrike">
                <a:solidFill>
                  <a:srgbClr val="800080"/>
                </a:solidFill>
                <a:latin typeface="Kristen ITC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furnac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. The blast furnace is around 30 metres high and lined with fireproof bricks. Hot air is blasted through the bottom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838080" y="3808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auhaus 93"/>
              </a:rPr>
              <a:t>The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limestone"/>
          <p:cNvPicPr/>
          <p:nvPr/>
        </p:nvPicPr>
        <p:blipFill>
          <a:blip r:embed="rId1"/>
          <a:stretch/>
        </p:blipFill>
        <p:spPr>
          <a:xfrm>
            <a:off x="609480" y="228600"/>
            <a:ext cx="1600200" cy="1305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37004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coal"/>
          <p:cNvPicPr/>
          <p:nvPr/>
        </p:nvPicPr>
        <p:blipFill>
          <a:blip r:embed="rId2"/>
          <a:stretch/>
        </p:blipFill>
        <p:spPr>
          <a:xfrm>
            <a:off x="6781680" y="228600"/>
            <a:ext cx="160020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143000" y="609480"/>
            <a:ext cx="678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838080" y="19051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62120" y="1371600"/>
            <a:ext cx="7010280" cy="59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Oxygen in the air reacts with coke to give carbon diox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O 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limestone breaks down to form carbon diox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a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g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Ca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arbon dioxide produced in 1 + 2 react with more coke to produce carbon monox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C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2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76320" y="1522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uhaus 93"/>
                <a:ea typeface="Arial Unicode MS"/>
              </a:rPr>
              <a:t>Several reactions take place before the iron is finally produced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762120" y="990720"/>
            <a:ext cx="7924680" cy="39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carbon monoxide reduces the iron in the ore to give molten ir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3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g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Fe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2Fe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l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3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limestone from 2, reacts with the sand to form slag (calcium silicat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a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Si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CaSi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(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533520" y="1371600"/>
            <a:ext cx="78483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Both the slag and iron are drained from the bottom of the furn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slag is mainly used to build roa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iron whilst molten is poured into moulds and left to solidify - this is called cast iron and is used to make railings and storage tan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rest of the iron is used to make ste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3"/>
          <p:cNvSpPr txBox="1"/>
          <p:nvPr/>
        </p:nvSpPr>
        <p:spPr>
          <a:xfrm>
            <a:off x="228600" y="2286000"/>
            <a:ext cx="86868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French Script MT"/>
              </a:rPr>
              <a:t>Thank you for watching!!!</a:t>
            </a:r>
            <a:endParaRPr b="1" lang="en-US" sz="7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French Script MT"/>
              <a:ea typeface="French Script MT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09:09:28Z</dcterms:created>
  <dc:creator>A User</dc:creator>
  <dc:description/>
  <dc:language>en-US</dc:language>
  <cp:lastModifiedBy>LEGION</cp:lastModifiedBy>
  <dcterms:modified xsi:type="dcterms:W3CDTF">2015-09-04T10:09:02Z</dcterms:modified>
  <cp:revision>11</cp:revision>
  <dc:subject/>
  <dc:title>The Blast Furnace</dc:title>
</cp:coreProperties>
</file>