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EC5C-DDBF-43C3-A29B-4FD2F73D41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827-DFC5-4AE0-8293-706F9693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13E-F79A-4F13-9CC8-3D71F6BA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B1A-AF6E-411D-884F-C5E966FB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99F-695D-40B5-8A0E-07C6E30A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E94-AB2E-4B26-8D5B-81D8F235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C1A-E2E7-4E52-9F58-EC5D2402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FE7-6E80-414D-B052-9C49090B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D6A-709C-4000-82EA-B57BA1E9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A3B-B2DC-4FDA-8C12-9C815C4E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1FE-A5E2-4959-8ADF-434B34CD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3F3-0A85-4AD9-9244-5F5FE78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838-126E-4960-A95E-4BA1038E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01A0-9BD1-4D9A-BE7C-1547272F81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143000" y="2514600"/>
            <a:ext cx="7058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nch Script MT"/>
              </a:rPr>
              <a:t>The Blast Furnac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y Chan, Sam and E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44360" y="38088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uhaus 93"/>
              </a:rPr>
              <a:t>What is a Blast Furn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1219320"/>
            <a:ext cx="3809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purpose of a blast furnace is to reduce and convert iron oxides into liquid iron called "hot metal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blast furnace is a huge, steel stack lined with refractory b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Iron ore, coke and limestone are put into the top, and preheated air is blown into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last_furnace"/>
          <p:cNvPicPr/>
          <p:nvPr/>
        </p:nvPicPr>
        <p:blipFill>
          <a:blip r:embed="rId1"/>
          <a:stretch/>
        </p:blipFill>
        <p:spPr>
          <a:xfrm>
            <a:off x="4648320" y="12952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Why does Iron have to be extracted in a Blast Furnac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2819520"/>
            <a:ext cx="815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Iron can be extracted by the blast furnace because it can be displaced by carb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This is more efficient method than electrolysis because it is more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3004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495360"/>
            <a:ext cx="69343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23880"/>
            <a:ext cx="85341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ree substances are needed to enable to extraction of iron from its ore. The combined mixture is called the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Arial Unicode MS"/>
              </a:rPr>
              <a:t>charge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Iron ore, haematit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- often contains sand with iron oxide,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Limeston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(calcium carbon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Cok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- mainly carb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e charge is placed a giant chimney called a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blast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furnac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. The blast furnace is around 30 metres high and lined with fireproof bricks. Hot air is blasted through the botto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380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auhaus 93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imestone"/>
          <p:cNvPicPr/>
          <p:nvPr/>
        </p:nvPicPr>
        <p:blipFill>
          <a:blip r:embed="rId1"/>
          <a:stretch/>
        </p:blipFill>
        <p:spPr>
          <a:xfrm>
            <a:off x="609480" y="2286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7004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oal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43000" y="60948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380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1371600"/>
            <a:ext cx="701028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xygen in the air reacts with coke to give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O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breaks down to form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rbon dioxide produced in 1 + 2 react with more coke to produce carbon mon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32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  <a:ea typeface="Arial Unicode MS"/>
              </a:rPr>
              <a:t>Several reactions take place before the iron is finally produc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62120" y="990720"/>
            <a:ext cx="792468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carbon monoxide reduces the iron in the ore to give molten i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l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from 2, reacts with the sand to form slag (calcium silica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a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37160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Both the slag and iron are drained from the bottom of the furn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slag is mainly used to build r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iron whilst molten is poured into moulds and left to solidify - this is called cast iron and is used to make railings and storage t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rest of the iron is used to mak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228600" y="2286000"/>
            <a:ext cx="8686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Thank you for watching!!!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09:28Z</dcterms:created>
  <dc:creator>A User</dc:creator>
  <dc:description/>
  <dc:language>en-US</dc:language>
  <cp:lastModifiedBy>LEGION</cp:lastModifiedBy>
  <dcterms:modified xsi:type="dcterms:W3CDTF">2015-09-04T10:09:02Z</dcterms:modified>
  <cp:revision>11</cp:revision>
  <dc:subject/>
  <dc:title>The Blast Furnace</dc:title>
</cp:coreProperties>
</file>