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E16F0D-F35F-4AAC-94C6-6F64AF9DD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2FC-1D05-4474-9EED-EEFC8288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8F1-D0C2-41AB-95A9-11EDCA85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ADE-488A-40F2-BFFE-05D9D6AE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392-ABC1-4693-A639-454BCC41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CB0-BC52-42ED-81CF-A400D098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994-DA37-43DA-B234-F0BD81EF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C48-912D-41D6-B785-14E12494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959-EE10-4437-95BA-EE8F1C2B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D57-513F-4593-BBC3-96588777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385-EB2F-4D71-B392-C5B3122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824-18F3-4BD6-BC32-F894750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91E-CBAB-4AF8-90C4-7B97072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96DE-90D1-42D3-9F22-A8064181D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45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RomaK</cp:lastModifiedBy>
  <cp:lastPrinted>2002-01-16T21:03:42Z</cp:lastPrinted>
  <dcterms:modified xsi:type="dcterms:W3CDTF">2015-09-04T09:30:34Z</dcterms:modified>
  <cp:revision>38</cp:revision>
  <dc:subject/>
  <dc:title>No Slide Title</dc:title>
</cp:coreProperties>
</file>