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E011-FDE2-4CD7-AB25-57AD861AC2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659-819F-4FB0-97C3-4C6521A3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C23-0DB0-44A5-97D7-1C2063AE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6C7-F611-409C-B9C0-FB779FEA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DFF-4E79-43B8-B0E1-76E164FB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C432-4E23-4ED5-8BF0-9ADBCCEC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D270-69D9-4728-A6BA-4028DC83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C649-5FC2-40D5-8998-537B604C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4B72-EE80-497C-A917-D7E6A114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0F41-E157-4ECE-B4D5-780C11E1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88B9-517A-42FB-81E7-AE4DC8E0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4308-3972-441B-B630-71F82CF9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811-815D-4E32-A1C6-48AAB693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6257-26A3-47BF-8EAF-8C657E10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16E8-02CD-4F2F-B13C-9BE34015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3A6F-722C-4CB5-8B36-1C0D8FD4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44DD-C0FD-4D56-8300-69256284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62CE-9D0A-4CF1-AADF-2B5D3BBE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DCB-69C8-40AF-A3DB-2946D3CD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CC5-297C-4740-BC5C-4E0D390D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800-EE10-439D-ABA8-6B998B51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102-B13C-4A5E-B7C3-D07DFE6E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F0C-6609-41FA-9E46-81AAA1E6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F5F-D61D-4A5F-B0F3-CD01A0BB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C78-931C-4FDC-B8D8-DDB65AB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85D8-D0CB-44EE-B87C-750CB94534DA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0B8C-A747-46C5-9CDC-B886474686CF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RomaK</cp:lastModifiedBy>
  <dcterms:modified xsi:type="dcterms:W3CDTF">2015-09-04T09:30:27Z</dcterms:modified>
  <cp:revision>8</cp:revision>
  <dc:subject/>
  <dc:title>No Slide Title</dc:title>
</cp:coreProperties>
</file>