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52CD-1511-411C-9E79-403E01822F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1A6-96C8-4742-8DDA-766D5712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77C3-029A-4DE0-B7CE-76DB83BA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7A7-86E9-4A07-81ED-DF834CC9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13B7-43F2-4859-8C43-6EB958CE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B8C6-8D49-4E1F-88E3-A2529716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4063-438C-483B-A20D-DD33DB28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3FD4-6082-4A80-B0AB-4BAFB660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6FE1-283B-4ADC-8733-00B15BCD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87AC-72AB-4A4C-AA57-802D4A21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9B50-14F4-42F5-92D0-FA1F40B1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F8C5-4C7D-49FD-8C93-F6F09BEC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EDA-0964-42FD-AA41-9FC9700F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F3E4-3EEC-4647-9D63-22369B3C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9545-C60D-4A08-8331-7133D468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26C4-0347-4DED-87BD-91EEC05C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1A5C-AA69-4946-8936-94F311B9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DACF-1347-4D28-86C8-09848EDF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FEB-5C79-4073-A7D4-61BE5364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F72-E95C-4CAC-B868-C177A5D3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7440-06F6-44FF-9807-329304E5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77A-514A-4E00-A1EE-DE20F932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739-9311-4E07-8236-5FA6740C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B6B-DD82-404E-A9C7-E7803B74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948-B917-4FC8-ACF1-EDB370B6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52D2-C1AE-45CA-ACF0-40F9D98A911A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CF09-9767-42E1-A909-8D75622580BF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1137600" y="12193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st your knowledge of who’s who in the Ireland in Confli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with the following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257800" y="57895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Click here t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987480" y="45720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RELAND IN CONFLICT 1909 -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4680" y="20574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As the images of historical personalities from the topic app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try to work out who they are and what view they held over Ireland’s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-10800" y="2768760"/>
            <a:ext cx="9135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            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Home Rule = limited government/self-rule for Ireland still linked to Britis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	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(perhaps with Northern Ireland still part of United King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Nationalist= the whole of Ireland having self-government (including N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Republican= Ireland being independent and totally self-governing (no link to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      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Cr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Socialist= workers/people governing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MIc Collins in general's outfit"/>
          <p:cNvPicPr/>
          <p:nvPr/>
        </p:nvPicPr>
        <p:blipFill>
          <a:blip r:embed="rId1"/>
          <a:stretch/>
        </p:blipFill>
        <p:spPr>
          <a:xfrm>
            <a:off x="3059280" y="1197000"/>
            <a:ext cx="3538440" cy="4861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3964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 CANNOT AFFORD YOU GOING AROUND RIDDL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James Craig"/>
          <p:cNvPicPr/>
          <p:nvPr/>
        </p:nvPicPr>
        <p:blipFill>
          <a:blip r:embed="rId1"/>
          <a:stretch/>
        </p:blipFill>
        <p:spPr>
          <a:xfrm>
            <a:off x="3059280" y="1268280"/>
            <a:ext cx="3803400" cy="4608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NOTHING WRONG WITH A STIFF WHI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WE WILL DO A DEAL WITH YOU MR ASQUITH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4" descr="John Redmond"/>
          <p:cNvPicPr/>
          <p:nvPr/>
        </p:nvPicPr>
        <p:blipFill>
          <a:blip r:embed="rId1"/>
          <a:stretch/>
        </p:blipFill>
        <p:spPr>
          <a:xfrm>
            <a:off x="3203640" y="907920"/>
            <a:ext cx="2849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I DID NOT HAVE</a:t>
            </a:r>
            <a:r>
              <a:rPr b="0" lang="en-US" sz="38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A HAPPY EASTER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THEY DID NOT TELL ME THE TRU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Picture 4" descr="Eoin MacNeill"/>
          <p:cNvPicPr/>
          <p:nvPr/>
        </p:nvPicPr>
        <p:blipFill>
          <a:blip r:embed="rId1"/>
          <a:stretch/>
        </p:blipFill>
        <p:spPr>
          <a:xfrm>
            <a:off x="3203640" y="1557360"/>
            <a:ext cx="30416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NOT SHOT IN 19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" name="Picture 4" descr="Eammon De Valera"/>
          <p:cNvPicPr/>
          <p:nvPr/>
        </p:nvPicPr>
        <p:blipFill>
          <a:blip r:embed="rId1"/>
          <a:stretch/>
        </p:blipFill>
        <p:spPr>
          <a:xfrm>
            <a:off x="3635280" y="1341360"/>
            <a:ext cx="1716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HIMSELF STARTED IT</a:t>
            </a:r>
            <a:r>
              <a:rPr b="0" lang="en-US" sz="4200" spc="-1" strike="noStrike">
                <a:solidFill>
                  <a:srgbClr val="006633"/>
                </a:solidFill>
                <a:latin typeface="Franklin Gothic Demi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Picture 4" descr="Griffith image"/>
          <p:cNvPicPr/>
          <p:nvPr/>
        </p:nvPicPr>
        <p:blipFill>
          <a:blip r:embed="rId1"/>
          <a:stretch/>
        </p:blipFill>
        <p:spPr>
          <a:xfrm>
            <a:off x="2616120" y="1125360"/>
            <a:ext cx="34419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-6840" y="2209680"/>
            <a:ext cx="300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dward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Ulster Unionist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181560" y="2590920"/>
            <a:ext cx="196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Arthur GRIFF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Foun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29840" y="5791320"/>
            <a:ext cx="23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atrick PE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IRB member and lea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aster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732400" y="5867280"/>
            <a:ext cx="27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James CONNO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Founder of Irish Citizen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SO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858640" y="571500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avid LLOYD GE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British Prime Minister 1916 - 1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854080" y="274320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Michael 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Leader of IRA forces and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carson face only"/>
          <p:cNvPicPr/>
          <p:nvPr/>
        </p:nvPicPr>
        <p:blipFill>
          <a:blip r:embed="rId1"/>
          <a:stretch/>
        </p:blipFill>
        <p:spPr>
          <a:xfrm>
            <a:off x="533520" y="3049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Griffith image"/>
          <p:cNvPicPr/>
          <p:nvPr/>
        </p:nvPicPr>
        <p:blipFill>
          <a:blip r:embed="rId2"/>
          <a:stretch/>
        </p:blipFill>
        <p:spPr>
          <a:xfrm>
            <a:off x="6705720" y="152280"/>
            <a:ext cx="1577880" cy="2274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MIc Collins in general's outfit"/>
          <p:cNvPicPr/>
          <p:nvPr/>
        </p:nvPicPr>
        <p:blipFill>
          <a:blip r:embed="rId3"/>
          <a:stretch/>
        </p:blipFill>
        <p:spPr>
          <a:xfrm>
            <a:off x="3200400" y="152280"/>
            <a:ext cx="1830240" cy="251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Patrick Pearse"/>
          <p:cNvPicPr/>
          <p:nvPr/>
        </p:nvPicPr>
        <p:blipFill>
          <a:blip r:embed="rId4"/>
          <a:stretch/>
        </p:blipFill>
        <p:spPr>
          <a:xfrm>
            <a:off x="533520" y="3505320"/>
            <a:ext cx="2133360" cy="195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Connolly face"/>
          <p:cNvPicPr/>
          <p:nvPr/>
        </p:nvPicPr>
        <p:blipFill>
          <a:blip r:embed="rId5"/>
          <a:stretch/>
        </p:blipFill>
        <p:spPr>
          <a:xfrm>
            <a:off x="3581280" y="3809880"/>
            <a:ext cx="1435320" cy="2108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4" descr="dlgsmallphoto"/>
          <p:cNvPicPr/>
          <p:nvPr/>
        </p:nvPicPr>
        <p:blipFill>
          <a:blip r:embed="rId6"/>
          <a:stretch/>
        </p:blipFill>
        <p:spPr>
          <a:xfrm>
            <a:off x="6553080" y="3809880"/>
            <a:ext cx="1160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2680" y="2819520"/>
            <a:ext cx="200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ammon DE VA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740200" y="2590920"/>
            <a:ext cx="286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John R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Leader of Irish National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18520" y="5791320"/>
            <a:ext cx="281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oin MAC NE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Leader of Irish Voluntee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406680" y="5867280"/>
            <a:ext cx="174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oger CA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Member of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402160" y="5715000"/>
            <a:ext cx="344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James CRA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eputy Leader of Ulster Union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662920" y="27432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Herbert ASQU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British Prime 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Eammon De Valera"/>
          <p:cNvPicPr/>
          <p:nvPr/>
        </p:nvPicPr>
        <p:blipFill>
          <a:blip r:embed="rId1"/>
          <a:stretch/>
        </p:blipFill>
        <p:spPr>
          <a:xfrm>
            <a:off x="990720" y="304920"/>
            <a:ext cx="888840" cy="2504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Herbert Asquith"/>
          <p:cNvPicPr/>
          <p:nvPr/>
        </p:nvPicPr>
        <p:blipFill>
          <a:blip r:embed="rId2"/>
          <a:stretch/>
        </p:blipFill>
        <p:spPr>
          <a:xfrm>
            <a:off x="2895480" y="152280"/>
            <a:ext cx="1578240" cy="2548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John Redmond"/>
          <p:cNvPicPr/>
          <p:nvPr/>
        </p:nvPicPr>
        <p:blipFill>
          <a:blip r:embed="rId3"/>
          <a:stretch/>
        </p:blipFill>
        <p:spPr>
          <a:xfrm>
            <a:off x="6553080" y="304920"/>
            <a:ext cx="1189080" cy="2193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Eoin MacNeill"/>
          <p:cNvPicPr/>
          <p:nvPr/>
        </p:nvPicPr>
        <p:blipFill>
          <a:blip r:embed="rId4"/>
          <a:stretch/>
        </p:blipFill>
        <p:spPr>
          <a:xfrm>
            <a:off x="990720" y="3657600"/>
            <a:ext cx="1371600" cy="2077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Roger Casement"/>
          <p:cNvPicPr/>
          <p:nvPr/>
        </p:nvPicPr>
        <p:blipFill>
          <a:blip r:embed="rId5"/>
          <a:stretch/>
        </p:blipFill>
        <p:spPr>
          <a:xfrm>
            <a:off x="3505320" y="3276720"/>
            <a:ext cx="1554120" cy="2504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James Craig"/>
          <p:cNvPicPr/>
          <p:nvPr/>
        </p:nvPicPr>
        <p:blipFill>
          <a:blip r:embed="rId6"/>
          <a:stretch/>
        </p:blipFill>
        <p:spPr>
          <a:xfrm>
            <a:off x="6172200" y="3429000"/>
            <a:ext cx="17859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erbert Asquith"/>
          <p:cNvPicPr/>
          <p:nvPr/>
        </p:nvPicPr>
        <p:blipFill>
          <a:blip r:embed="rId1"/>
          <a:stretch/>
        </p:blipFill>
        <p:spPr>
          <a:xfrm>
            <a:off x="2987640" y="981000"/>
            <a:ext cx="3214800" cy="5184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Y BUDGET WAS REJECTED BY THE HOUSE OF 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atrick Pearse"/>
          <p:cNvPicPr/>
          <p:nvPr/>
        </p:nvPicPr>
        <p:blipFill>
          <a:blip r:embed="rId1"/>
          <a:stretch/>
        </p:blipFill>
        <p:spPr>
          <a:xfrm>
            <a:off x="1547640" y="765000"/>
            <a:ext cx="5545440" cy="50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FOOLS, THE FOOLS, THE F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carson face only"/>
          <p:cNvPicPr/>
          <p:nvPr/>
        </p:nvPicPr>
        <p:blipFill>
          <a:blip r:embed="rId1"/>
          <a:stretch/>
        </p:blipFill>
        <p:spPr>
          <a:xfrm>
            <a:off x="2340000" y="836640"/>
            <a:ext cx="4089240" cy="5184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39640" y="189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LE? OVER MY DEAD 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Roger Casement"/>
          <p:cNvPicPr/>
          <p:nvPr/>
        </p:nvPicPr>
        <p:blipFill>
          <a:blip r:embed="rId1"/>
          <a:stretch/>
        </p:blipFill>
        <p:spPr>
          <a:xfrm>
            <a:off x="2814480" y="907920"/>
            <a:ext cx="3262320" cy="5257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84360" y="260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Y GOODNESS, I HATE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OCIALIST REVOLUTION WILL SOLVE IRELAND’S PROBLEM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Picture 3" descr="Connolly face"/>
          <p:cNvPicPr/>
          <p:nvPr/>
        </p:nvPicPr>
        <p:blipFill>
          <a:blip r:embed="rId1"/>
          <a:stretch/>
        </p:blipFill>
        <p:spPr>
          <a:xfrm>
            <a:off x="2700360" y="1052640"/>
            <a:ext cx="3478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dlgsmallphoto"/>
          <p:cNvPicPr/>
          <p:nvPr/>
        </p:nvPicPr>
        <p:blipFill>
          <a:blip r:embed="rId1"/>
          <a:stretch/>
        </p:blipFill>
        <p:spPr>
          <a:xfrm>
            <a:off x="2987640" y="1341360"/>
            <a:ext cx="3640320" cy="4751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3964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LL BOYO, YOU WILL HAVE TO SPLIT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6:45:49Z</dcterms:created>
  <dc:creator>O'Brien</dc:creator>
  <dc:description/>
  <dc:language>en-US</dc:language>
  <cp:lastModifiedBy>RomaK</cp:lastModifiedBy>
  <dcterms:modified xsi:type="dcterms:W3CDTF">2015-09-04T09:30:27Z</dcterms:modified>
  <cp:revision>8</cp:revision>
  <dc:subject/>
  <dc:title>No Slide Title</dc:title>
</cp:coreProperties>
</file>