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A0AD-318A-4FD9-9B45-4524E2E254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355-0959-4CDD-A984-24F22921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16D-7FBC-4D0A-9AFF-1409D821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39D-46A3-40CD-9968-16215F53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A73-29E0-46EF-B8E1-BB45EB66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A84-DCBB-476F-8A36-0A65F106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0F6-CE69-4E16-B074-43DCCED9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3D1-311E-4632-BA6B-78A2DDAC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9BA-A4DD-4614-A0FB-6A6FEE07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833-EE4F-4FEF-A290-64AEEDF6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2C8-F71B-4A82-8A52-B0098B45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08E-C1C1-4C18-8BEC-173BEE3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392-EE52-462C-A095-623620F8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B5F1-5AE0-41BA-8E56-B2A7DFF2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RomaK</cp:lastModifiedBy>
  <dcterms:modified xsi:type="dcterms:W3CDTF">2015-09-04T09:30:12Z</dcterms:modified>
  <cp:revision>7</cp:revision>
  <dc:subject/>
  <dc:title>Immigrants in America</dc:title>
</cp:coreProperties>
</file>