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4E302-CECC-4F15-A054-8A9B52B37EB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did Life in Egypt affect Medicine?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cient Medicin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id Life in Egypt affect Medici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cient Medic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reate a pictogram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did Life in Egypt affect Medicine?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 a pict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id Life in Egypt affect Medici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cient Medicin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000BC – 500AD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gyptians 3000BC-1000BC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eeks 1000BC – 500BC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omans 500BC – 500 AD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ey – examine patterns and themes across the period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cus: Egypt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cient Medic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00BC – 500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yptians 3000BC-1000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ks 1000BC – 500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s 500BC – 500 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– examine patterns and themes across the peri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: Egy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gypt – A Wealthy Country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ealthy country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werful ruler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d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rmer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riting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ed to various improvements in medicin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ypt – A Wealthy Cou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althy cou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ful rul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rm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d to various improvements in medic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pecialists Doctor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ducated doctor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araoh had his own physician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nly the rich could afford doctor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ctors researched new ways to treat patient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alists Do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ucated do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raoh had his own physici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the rich could afford do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tors researched new ways to treat pati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tal Worker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killed worker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duced tools and jewellery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so developed new surgical instrument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nked to doctors who would use medical instrument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 Work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illed work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d tools and jewell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developed new surgical instr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ked to doctors who would use medical instr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d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nks with India, Africa and China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ded Egyptian goods for herb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de herbal remedie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ks with India, Africa and Ch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ded Egyptian goods for her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herbal reme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riting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pyru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riting was easi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medies and records were kept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se could be passed on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py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ing was eas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dies and records were ke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could be passed 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ligion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pernatural approach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ds e.g. Sekhmet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ummification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section forbidden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ig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natural approa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s e.g. Sekhm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mm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section forbidd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Nile and Farming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ile important to way of lif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ctors based medical ideas on the Nil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annel system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ile and Farm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le important to way of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tors based medical ideas on the N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nel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DF44-8D08-4BE3-B31E-9D35C2CA4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3F83-6CB7-457C-8133-857F8EAFF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D600-B7BB-40FC-BDC3-AA0CD2F73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7A8D-A76D-48B9-B738-A345F0FC2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25FC-3750-4742-B13E-B7FF9D7E2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D707-80F3-4F0C-AF80-4DBAB6F5F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EAFC-FDE1-4A89-A94A-22399D42F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1EEC-512E-4086-8D48-1C0AF699F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03E6-976B-43F7-925A-EC214FFCF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D27A-A234-44B9-8874-88531B643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8A34-0FFF-4A57-BBED-263B772D9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3946-5AA9-45DD-A8DE-1BAF23C6B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685BA-2544-43D1-BD39-E85DC8A84DEB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mathstat.carleton.ca/~rhfischl/great_pyramid/pyramid.jpg&amp;imgrefurl=http://mathstat.carleton.ca/~rhfischl/great_pyramid/great_pyramid.html&amp;h=398&amp;w=547&amp;sz=68&amp;tbnid=U_AXrTzMU0co1M:&amp;tbnh=94&amp;tbnw=130&amp;hl=en&amp;start=1&amp;prev=/images%3Fq%3Dpyramid%26svnum%3D10%26hl%3Den%26lr%3D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bradfitzpatrick.com/stock_illustration/images/cartoon_doctor_001.gif&amp;imgrefurl=http://www.bradfitzpatrick.com/stock_illustration/cartoon_doctor_001.htm&amp;h=180&amp;w=240&amp;sz=9&amp;tbnid=Av5TK6Y4mwRv6M:&amp;tbnh=78&amp;tbnw=104&amp;hl=en&amp;start=1&amp;prev=/images%3Fq%3Dcartoon%2Bdoctor%26svnum%3D10%26hl%3Den%26lr%3D%26sa%3DG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images.google.co.uk/imgres?imgurl=http://www.istockphoto.com/file_thumbview_approve/319828/2/istockphoto_319828_the_blacksmith.jpg&amp;imgrefurl=http://www.istockphoto.com/imageindex/319/8/319828/The_Blacksmith.html&amp;h=270&amp;w=266&amp;sz=20&amp;tbnid=yl740sy3YV-cZM:&amp;tbnh=108&amp;tbnw=106&amp;hl=en&amp;start=2&amp;prev=/images%3Fq%3Dcartoon%2Bblacksmith%26svnum%3D10%26hl%3Den%26lr%3D%26sa%3DG" TargetMode="External"/><Relationship Id="rId4" Type="http://schemas.openxmlformats.org/officeDocument/2006/relationships/image" Target="../media/image4.jpeg"/><Relationship Id="rId5" Type="http://schemas.openxmlformats.org/officeDocument/2006/relationships/hyperlink" Target="http://images.google.co.uk/imgres?imgurl=http://www.axelnelson.com/antik/antik.jpg&amp;imgrefurl=http://www.axelnelson.com/skepp/egypt.htm&amp;h=259&amp;w=354&amp;sz=15&amp;tbnid=imVII-HbhbKlLM:&amp;tbnh=85&amp;tbnw=117&amp;hl=en&amp;start=1&amp;prev=/images%3Fq%3Degyptian%2Bships%26svnum%3D10%26hl%3Den%26lr%3D" TargetMode="External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roche.ie/HR/Insite/email_vorlage_files/cartoon_money_01.jpg&amp;imgrefurl=http://www.roche.ie/HR/Insite/Insite_July05_Web.html&amp;h=180&amp;w=240&amp;sz=15&amp;tbnid=b24KDO9DGCKRAM:&amp;tbnh=78&amp;tbnw=104&amp;hl=en&amp;start=1&amp;prev=/images%3Fq%3Dmoney%2Bcartoon%26svnum%3D10%26hl%3Den%26lr%3D%26sa%3D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bradfitzpatrick.com/stock_illustration/images/cartoon_doctor_001.gif&amp;imgrefurl=http://www.bradfitzpatrick.com/stock_illustration/cartoon_doctor_001.htm&amp;h=180&amp;w=240&amp;sz=9&amp;tbnid=Av5TK6Y4mwRv6M:&amp;tbnh=78&amp;tbnw=104&amp;hl=en&amp;start=1&amp;prev=/images%3Fq%3Dcartoon%2Bdoctor%26svnum%3D10%26hl%3Den%26lr%3D%26sa%3D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istockphoto.com/file_thumbview_approve/319828/2/istockphoto_319828_the_blacksmith.jpg&amp;imgrefurl=http://www.istockphoto.com/imageindex/319/8/319828/The_Blacksmith.html&amp;h=270&amp;w=266&amp;sz=20&amp;tbnid=yl740sy3YV-cZM:&amp;tbnh=108&amp;tbnw=106&amp;hl=en&amp;start=2&amp;prev=/images%3Fq%3Dcartoon%2Bblacksmith%26svnum%3D10%26hl%3Den%26lr%3D%26sa%3D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axelnelson.com/antik/antik.jpg&amp;imgrefurl=http://www.axelnelson.com/skepp/egypt.htm&amp;h=259&amp;w=354&amp;sz=15&amp;tbnid=imVII-HbhbKlLM:&amp;tbnh=85&amp;tbnw=117&amp;hl=en&amp;start=1&amp;prev=/images%3Fq%3Degyptian%2Bships%26svnum%3D10%26hl%3Den%26lr%3D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earlham.edu/~seidti/iam/papyrus_66a.gif&amp;imgrefurl=http://www.earlham.edu/~seidti/iam/tc_pap66.html&amp;h=650&amp;w=568&amp;sz=334&amp;tbnid=ojruY8Oig9YPLM:&amp;tbnh=135&amp;tbnw=117&amp;hl=en&amp;start=17&amp;prev=/images%3Fq%3Dpapyrus%26svnum%3D10%26hl%3Den%26lr%3D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members.aol.com/egyptnew/myth/sekmet1.gif&amp;imgrefurl=http://members.aol.com/egyptart/sekmet.html&amp;h=441&amp;w=238&amp;sz=61&amp;tbnid=yLPfAyL_47DV_M:&amp;tbnh=123&amp;tbnw=66&amp;hl=en&amp;start=8&amp;prev=/images%3Fq%3Dsekhmet%26svnum%3D10%26hl%3Den%26lr%3D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2707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293"/>
                </a:solidFill>
                <a:latin typeface="Arial"/>
              </a:rPr>
              <a:t>How did Life in Egypt affect Medicine?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03280" y="4436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ncient Medic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5" descr="pyrami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59280" y="836640"/>
            <a:ext cx="3025440" cy="16556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293"/>
                </a:solidFill>
                <a:latin typeface="Arial"/>
              </a:rPr>
              <a:t>Create a pictogram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3635280" y="3213000"/>
            <a:ext cx="23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1830960" y="3213000"/>
            <a:ext cx="57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dfd293"/>
                </a:solidFill>
                <a:latin typeface="Arial"/>
              </a:rPr>
              <a:t>How did Life in Egypt affect Medicin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684360" y="1484280"/>
            <a:ext cx="187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Picture 6" descr="cartoon_doctor_00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26920" y="1557360"/>
            <a:ext cx="1368720" cy="1224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7" descr="istockphoto_319828_the_blacksmith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995640" y="1557360"/>
            <a:ext cx="1225800" cy="13669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8" descr="antik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164360" y="1628640"/>
            <a:ext cx="1368360" cy="12956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9" descr="papyrus_66a"/>
          <p:cNvPicPr/>
          <p:nvPr/>
        </p:nvPicPr>
        <p:blipFill>
          <a:blip r:embed="rId7"/>
          <a:stretch/>
        </p:blipFill>
        <p:spPr>
          <a:xfrm>
            <a:off x="539640" y="4508640"/>
            <a:ext cx="1295640" cy="16570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0" descr="sekmet1"/>
          <p:cNvPicPr/>
          <p:nvPr/>
        </p:nvPicPr>
        <p:blipFill>
          <a:blip r:embed="rId8"/>
          <a:stretch/>
        </p:blipFill>
        <p:spPr>
          <a:xfrm>
            <a:off x="3924360" y="4581360"/>
            <a:ext cx="1873080" cy="15130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1" descr="08"/>
          <p:cNvPicPr/>
          <p:nvPr/>
        </p:nvPicPr>
        <p:blipFill>
          <a:blip r:embed="rId9"/>
          <a:stretch/>
        </p:blipFill>
        <p:spPr>
          <a:xfrm>
            <a:off x="7236000" y="4221000"/>
            <a:ext cx="1728720" cy="2167200"/>
          </a:xfrm>
          <a:prstGeom prst="rect">
            <a:avLst/>
          </a:prstGeom>
          <a:ln w="0">
            <a:noFill/>
          </a:ln>
        </p:spPr>
      </p:pic>
      <p:sp>
        <p:nvSpPr>
          <p:cNvPr id="84" name="Line 14"/>
          <p:cNvSpPr/>
          <p:nvPr/>
        </p:nvSpPr>
        <p:spPr>
          <a:xfrm flipH="1">
            <a:off x="1619280" y="3645000"/>
            <a:ext cx="720720" cy="79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Line 15"/>
          <p:cNvSpPr/>
          <p:nvPr/>
        </p:nvSpPr>
        <p:spPr>
          <a:xfrm flipH="1">
            <a:off x="4858920" y="3789360"/>
            <a:ext cx="73080" cy="71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Line 16"/>
          <p:cNvSpPr/>
          <p:nvPr/>
        </p:nvSpPr>
        <p:spPr>
          <a:xfrm>
            <a:off x="6804000" y="3716280"/>
            <a:ext cx="50472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Line 17"/>
          <p:cNvSpPr/>
          <p:nvPr/>
        </p:nvSpPr>
        <p:spPr>
          <a:xfrm flipV="1">
            <a:off x="6516720" y="2565000"/>
            <a:ext cx="57636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18"/>
          <p:cNvSpPr/>
          <p:nvPr/>
        </p:nvSpPr>
        <p:spPr>
          <a:xfrm flipH="1" flipV="1">
            <a:off x="1908000" y="2924280"/>
            <a:ext cx="432000" cy="217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19"/>
          <p:cNvSpPr/>
          <p:nvPr/>
        </p:nvSpPr>
        <p:spPr>
          <a:xfrm flipV="1">
            <a:off x="4716360" y="292392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293"/>
                </a:solidFill>
                <a:latin typeface="Arial"/>
              </a:rPr>
              <a:t>Ancient Medicine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3000BC – 500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gyptians 3000BC-1000B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Greeks 1000BC – 500B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Romans 500BC – 500 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Key – examine patterns and themes across the peri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Focus: Egyp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293"/>
                </a:solidFill>
                <a:latin typeface="Arial"/>
              </a:rPr>
              <a:t>Egypt – A Wealthy Country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ealthy count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owerful rul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ra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arm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ri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ed to various improvements in medic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Picture 6" descr="cartoon_money_0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76720" y="1844640"/>
            <a:ext cx="3527640" cy="3672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293"/>
                </a:solidFill>
                <a:latin typeface="Arial"/>
              </a:rPr>
              <a:t>Specialists Doctors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ucated do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haraoh had his own physic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Only the rich could afford do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octors researched new ways to treat pati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6" descr="cartoon_doctor_00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26920" y="1557360"/>
            <a:ext cx="3168720" cy="43196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293"/>
                </a:solidFill>
                <a:latin typeface="Arial"/>
              </a:rPr>
              <a:t>Metal Workers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killed work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roduced tools and jewelle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lso developed new surgical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inked to doctors who would use medical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Picture 9" descr="istockphoto_319828_the_blacksmith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4360" y="1628640"/>
            <a:ext cx="3600360" cy="43927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293"/>
                </a:solidFill>
                <a:latin typeface="Arial"/>
              </a:rPr>
              <a:t>Trade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inks with India, Africa and Chi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raded Egyptian goods for her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ade herbal remed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6" descr="anti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16360" y="1628640"/>
            <a:ext cx="3961080" cy="44658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293"/>
                </a:solidFill>
                <a:latin typeface="Arial"/>
              </a:rPr>
              <a:t>Writing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pyr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riting was easi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emedies and records were kep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se could be passed 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Picture 6" descr="papyrus_66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1628640"/>
            <a:ext cx="3672000" cy="45370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293"/>
                </a:solidFill>
                <a:latin typeface="Arial"/>
              </a:rPr>
              <a:t>Religion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upernatural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Gods e.g. Sekhm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ummif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issection forbidd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Picture 6" descr="sekmet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19640" y="1557360"/>
            <a:ext cx="3024360" cy="4464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293"/>
                </a:solidFill>
                <a:latin typeface="Arial"/>
              </a:rPr>
              <a:t>The Nile and Farming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Nile important to way of lif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octors based medical ideas on the N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hannel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Picture 6" descr="08"/>
          <p:cNvPicPr/>
          <p:nvPr/>
        </p:nvPicPr>
        <p:blipFill>
          <a:blip r:embed="rId1"/>
          <a:stretch/>
        </p:blipFill>
        <p:spPr>
          <a:xfrm>
            <a:off x="539640" y="1773360"/>
            <a:ext cx="3816360" cy="40384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9T10:20:15Z</dcterms:created>
  <dc:creator>cjames</dc:creator>
  <dc:description>How did Life in Egypt affect Medicine?</dc:description>
  <cp:keywords>How did Life in Egypt affect Medicine?</cp:keywords>
  <dc:language>en-US</dc:language>
  <cp:lastModifiedBy>RomaK</cp:lastModifiedBy>
  <dcterms:modified xsi:type="dcterms:W3CDTF">2015-09-04T09:29:45Z</dcterms:modified>
  <cp:revision>6</cp:revision>
  <dc:subject>How did Life in Egypt affect Medicine?</dc:subject>
  <dc:title>How did Life in Egypt affect Medicine?</dc:title>
</cp:coreProperties>
</file>