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DEEC-E61E-4FDF-93DB-E71E74B90F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2DE-3F22-4471-8E17-C8A2F59B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700-C156-4EB7-B47E-F1B4E581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E36-16BE-4AA5-8F88-016C1164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F14-6502-41C2-9704-48F47067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3EF-6C03-4A8C-B71C-85209EC2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B85-488F-4069-B522-2B1BB6C4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A72F-8595-4FF5-809B-C6A539F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EAC-0183-448B-93AB-FA0B3C8C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2EC-6D23-4471-9E35-3BCCE2DF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482-6757-440E-A510-38E7BA16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CF5-E00B-4842-95B7-4F71612E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7BF-28DD-44C6-8D0C-C8C28A207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D7BD-C862-48D7-B914-86671B40AC62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84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RomaK</cp:lastModifiedBy>
  <dcterms:modified xsi:type="dcterms:W3CDTF">2015-09-04T09:29:45Z</dcterms:modified>
  <cp:revision>6</cp:revision>
  <dc:subject>How did Life in Egypt affect Medicine?</dc:subject>
  <dc:title>How did Life in Egypt affect Medicine?</dc:title>
</cp:coreProperties>
</file>