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B6F1-AEF5-4171-9894-D26EA5B102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pic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ic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0BC – 500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ians 3000BC-10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s 1000BC – 5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500BC – 500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– examine patterns and themes across th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 – A 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– A 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ful ru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o various improvements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alists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s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aoh had his own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he rich could affor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researched new ways to treat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lled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tools and jewe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eveloped new surg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doctors who would use med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with India, Africa and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d Egyptian goods for h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herbal reme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y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was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es and records were k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ould be pass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atural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e.g. Sekh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m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ction forb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ile and Farm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le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important to wa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based medical ideas on the N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A3D9-A896-4C56-B48E-834E7659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E974-F302-4F03-BF49-04D84BA5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B1F4-0ECD-42AA-95A8-91FE85B9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1F4-4BAE-4477-B5B8-639B3047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0FBD-DDD6-445E-8953-7C06CBDD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69B-2D09-4C14-9EC5-A5FE04DC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C4D-07B8-40A4-9D65-99EF9290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103A-A108-46FF-92FE-6C484160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C3E-1788-4344-BBE8-6716E85A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CFCD-9946-4399-8821-E8185CB3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822-2855-4C3E-ABF5-F184D673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914-EBAF-4957-8026-7147F2D7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32CC-2D56-447C-8828-32A721AB47B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thstat.carleton.ca/~rhfischl/great_pyramid/pyramid.jpg&amp;imgrefurl=http://mathstat.carleton.ca/~rhfischl/great_pyramid/great_pyramid.html&amp;h=398&amp;w=547&amp;sz=68&amp;tbnid=U_AXrTzMU0co1M:&amp;tbnh=94&amp;tbnw=130&amp;hl=en&amp;start=1&amp;prev=/images%3Fq%3Dpyramid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che.ie/HR/Insite/email_vorlage_files/cartoon_money_01.jpg&amp;imgrefurl=http://www.roche.ie/HR/Insite/Insite_July05_Web.html&amp;h=180&amp;w=240&amp;sz=15&amp;tbnid=b24KDO9DGCKRAM:&amp;tbnh=78&amp;tbnw=104&amp;hl=en&amp;start=1&amp;prev=/images%3Fq%3Dmoney%2Bcartoon%26svnum%3D10%26hl%3Den%26lr%3D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arlham.edu/~seidti/iam/papyrus_66a.gif&amp;imgrefurl=http://www.earlham.edu/~seidti/iam/tc_pap66.html&amp;h=650&amp;w=568&amp;sz=334&amp;tbnid=ojruY8Oig9YPLM:&amp;tbnh=135&amp;tbnw=117&amp;hl=en&amp;start=17&amp;prev=/images%3Fq%3Dpapyrus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embers.aol.com/egyptnew/myth/sekmet1.gif&amp;imgrefurl=http://members.aol.com/egyptart/sekmet.html&amp;h=441&amp;w=238&amp;sz=61&amp;tbnid=yLPfAyL_47DV_M:&amp;tbnh=123&amp;tbnw=66&amp;hl=en&amp;start=8&amp;prev=/images%3Fq%3Dsekhmet%26svnum%3D10%26hl%3Den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yram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836640"/>
            <a:ext cx="3025440" cy="1655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Create a pictogra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635280" y="321300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830960" y="321300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4360" y="1484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istockphoto_319828_the_blacksmi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1557360"/>
            <a:ext cx="1225800" cy="136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anti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162864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papyrus_66a"/>
          <p:cNvPicPr/>
          <p:nvPr/>
        </p:nvPicPr>
        <p:blipFill>
          <a:blip r:embed="rId7"/>
          <a:stretch/>
        </p:blipFill>
        <p:spPr>
          <a:xfrm>
            <a:off x="539640" y="4508640"/>
            <a:ext cx="1295640" cy="1657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sekmet1"/>
          <p:cNvPicPr/>
          <p:nvPr/>
        </p:nvPicPr>
        <p:blipFill>
          <a:blip r:embed="rId8"/>
          <a:stretch/>
        </p:blipFill>
        <p:spPr>
          <a:xfrm>
            <a:off x="3924360" y="4581360"/>
            <a:ext cx="1873080" cy="151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08"/>
          <p:cNvPicPr/>
          <p:nvPr/>
        </p:nvPicPr>
        <p:blipFill>
          <a:blip r:embed="rId9"/>
          <a:stretch/>
        </p:blipFill>
        <p:spPr>
          <a:xfrm>
            <a:off x="7236000" y="4221000"/>
            <a:ext cx="1728720" cy="2167200"/>
          </a:xfrm>
          <a:prstGeom prst="rect">
            <a:avLst/>
          </a:prstGeom>
          <a:ln w="0">
            <a:noFill/>
          </a:ln>
        </p:spPr>
      </p:pic>
      <p:sp>
        <p:nvSpPr>
          <p:cNvPr id="84" name="Line 14"/>
          <p:cNvSpPr/>
          <p:nvPr/>
        </p:nvSpPr>
        <p:spPr>
          <a:xfrm flipH="1">
            <a:off x="1619280" y="364500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 flipH="1">
            <a:off x="4858920" y="3789360"/>
            <a:ext cx="73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6804000" y="3716280"/>
            <a:ext cx="50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 flipV="1">
            <a:off x="6516720" y="256500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 flipH="1" flipV="1">
            <a:off x="1908000" y="2924280"/>
            <a:ext cx="43200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9"/>
          <p:cNvSpPr/>
          <p:nvPr/>
        </p:nvSpPr>
        <p:spPr>
          <a:xfrm flipV="1">
            <a:off x="4716360" y="29239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ncient Medic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gypt – A Wealthy Count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cartoon_money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6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pecialists Docto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3168720" cy="431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Metal Work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9" descr="istockphoto_319828_the_blacksmi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628640"/>
            <a:ext cx="3600360" cy="4392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6" descr="anti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628640"/>
            <a:ext cx="3961080" cy="4465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papyrus_6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3672000" cy="4537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6" descr="sekme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024360" cy="446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he Nile and Farm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6" descr="08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038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0:20:15Z</dcterms:created>
  <dc:creator>cjames</dc:creator>
  <dc:description>How did Life in Egypt affect Medicine?</dc:description>
  <cp:keywords>How did Life in Egypt affect Medicine?</cp:keywords>
  <dc:language>en-US</dc:language>
  <cp:lastModifiedBy>RomaK</cp:lastModifiedBy>
  <dcterms:modified xsi:type="dcterms:W3CDTF">2015-09-04T09:29:45Z</dcterms:modified>
  <cp:revision>6</cp:revision>
  <dc:subject>How did Life in Egypt affect Medicine?</dc:subject>
  <dc:title>How did Life in Egypt affect Medicine?</dc:title>
</cp:coreProperties>
</file>