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12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E8D51-1C24-4F9E-8E6E-4295477707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French Revolution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1789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French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78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Events continued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French created their own Declaration of the Rights of Man and Citizen modeled after TJ’s Declaration of Independenc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ts continu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nch created their own Declaration of the Rights of Man and Citizen modeled after TJ’s Declaration of Independ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Effects of the French Revolution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Both the King and Queen were beheaded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French monarchy no mor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In addition to the Royal family, 17,000 people were executed with the guillotin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the French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the King and Queen were behea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nch monarchy no m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ddition to the Royal family, 17,000 people were executed with the guillot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Effects continued. . 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Napoleon Bonaparte was elected leader, then appoints himself emperor of Franc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Sold Louisiana to TJ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continued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poleon Bonaparte was elected leader, then appoints himself emperor of Fr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d Louisiana to T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Causes of French Revolution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Ideas of liberty and equality from the American Revolution (note: Constitution was signed 2 yrs before in 1787)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Enlightenment ideas of John Locke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s of French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as of liberty and equality from the American Revolution (note: Constitution was signed 2 yrs before in 178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lightenment ideas of John Lock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Causes of French Revolution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Vast majority of people were broke and hungry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Vast majority were in the lowest estat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s of French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st majority of people were broke and hung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st majority were in the lowest est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ree Estates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ree Estat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bourgeoisi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Part of the third estate, they were the “middle class” of Franc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y were bankers, merchants, factory owners (educated people)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Led the revolution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rgeois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of the third estate, they were the “middle class” of Fr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ere bankers, merchants, factory owners (educated peop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d the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Revolution - beginning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lthough people were starving and the country was broke, the royal family flaunted their wealth and uncaring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olution - beginn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hough people were starving and the country was broke, the royal family flaunted their wealth and unca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Bread riot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People were hungry; the country was brok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is picture is from an all-woman bread riot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Marie Antionette said “let them eat cake”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d ri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were hungry; the country was bro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icture is from an all-woman bread ri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ie Antionette said “let them eat cak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King Louis XVI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His grandfather Louis XIV was the ultimate “absolutist” king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is king was weak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He had so little control, he called for the French congress to fix some problem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g Louis XV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 grandfather Louis XIV was the ultimate “absolutist” k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king was we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had so little control, he called for the French congress to fix some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Estates General meet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part of the French Congress representing the third estate left and declared themselves THE congress of Franc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ates General me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rt of the French Congress representing the third estate left and declared themselves THE congress of Fr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8269-4853-491F-8D7E-412FD5C6D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DC0A-91EC-4D31-80D5-457ECCEBB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D197-DAE1-4F64-AB83-3CE59ED63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D503-777C-432D-AF26-6C184AB12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0FB8E-B48F-4C7E-8E58-F1AE1BCC6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B6328-7A82-44DF-9413-8AFDF5D3A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4E0FC-7D5F-43C0-9A42-B03130DE1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32A2A-49D4-4A98-93C5-2B5DE188E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01AEC-AD82-4723-964E-C13BE34E8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B13A7-7183-49AA-9BC2-8662E0FA3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CC8B2-A759-4A50-A1EA-2E2B1D516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F4AD-8624-4227-802B-E63A1C302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14A3F-16F4-4253-AA3C-DE759E7F2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AFCDB-22EC-4654-8BF6-FF6C96049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9BED0-FB28-428A-B3A2-5316D7854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D8A49-8FAB-4928-916F-78502E837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15A24-E7BD-4038-8EA5-5EC2BBE7A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7E26-8BCA-47D2-A7E6-6C13B8E06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7007-CA50-48DD-A613-5A6C4E1AE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2995-0D48-4235-AACE-F5ECB7688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5892-57EC-46D7-966F-EB7629C60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EF72-6F22-48C2-9E8F-FAC6F7AE3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0964-5EFB-4F04-8F1A-E41B1C8E2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9DED-99D3-44B9-A755-7135D5B41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6989D-CD2B-4BE1-8494-B6162750C2E9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79077-E58E-4FBD-A9CD-BA8B12D1A4C2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 French Revolu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1789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0" name="Picture 4" descr="travel-france-pic-liberte"/>
          <p:cNvPicPr/>
          <p:nvPr/>
        </p:nvPicPr>
        <p:blipFill>
          <a:blip r:embed="rId1"/>
          <a:stretch/>
        </p:blipFill>
        <p:spPr>
          <a:xfrm>
            <a:off x="3505320" y="2895480"/>
            <a:ext cx="25146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Events continued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21016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French created their own </a:t>
            </a:r>
            <a:r>
              <a:rPr b="0" i="1" lang="en-US" sz="2800" spc="-1" strike="noStrike">
                <a:solidFill>
                  <a:srgbClr val="0b0a09"/>
                </a:solidFill>
                <a:latin typeface="Times New Roman"/>
              </a:rPr>
              <a:t>Declaration of the Rights of Man and Citizen </a:t>
            </a: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modeled after TJ’s </a:t>
            </a:r>
            <a:r>
              <a:rPr b="0" i="1" lang="en-US" sz="2800" spc="-1" strike="noStrike">
                <a:solidFill>
                  <a:srgbClr val="0b0a09"/>
                </a:solidFill>
                <a:latin typeface="Times New Roman"/>
              </a:rPr>
              <a:t>Declaration of Independenc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5" name="Picture 6" descr="frenchrevolution1"/>
          <p:cNvPicPr/>
          <p:nvPr/>
        </p:nvPicPr>
        <p:blipFill>
          <a:blip r:embed="rId1"/>
          <a:stretch/>
        </p:blipFill>
        <p:spPr>
          <a:xfrm>
            <a:off x="3429000" y="2216160"/>
            <a:ext cx="571500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Effects of the French Revolu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600" y="21016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Both the King and Queen were beheaded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French monarchy no mor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In addition to the Royal family, 17,000 people were executed with the guillotine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8" name="Picture 6" descr="guillotine"/>
          <p:cNvPicPr/>
          <p:nvPr/>
        </p:nvPicPr>
        <p:blipFill>
          <a:blip r:embed="rId1"/>
          <a:stretch/>
        </p:blipFill>
        <p:spPr>
          <a:xfrm>
            <a:off x="4191120" y="914400"/>
            <a:ext cx="42861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Effects continued. . .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715000" y="1295280"/>
            <a:ext cx="312408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0a09"/>
                </a:solidFill>
                <a:latin typeface="Times New Roman"/>
              </a:rPr>
              <a:t>Napoleon Bonaparte was elected leader, then appoints himself emperor of Franc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0a09"/>
                </a:solidFill>
                <a:latin typeface="Times New Roman"/>
              </a:rPr>
              <a:t>Sold Louisiana to TJ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1" name="Picture 6" descr="Napoleon"/>
          <p:cNvPicPr/>
          <p:nvPr/>
        </p:nvPicPr>
        <p:blipFill>
          <a:blip r:embed="rId1"/>
          <a:stretch/>
        </p:blipFill>
        <p:spPr>
          <a:xfrm>
            <a:off x="479520" y="1066680"/>
            <a:ext cx="5159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auses of French Revolu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b0a09"/>
                </a:solidFill>
                <a:latin typeface="Times New Roman"/>
              </a:rPr>
              <a:t>Ideas of liberty and equality from the American Revolution (note: Constitution was signed 2 yrs before in 1787)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b0a09"/>
                </a:solidFill>
                <a:latin typeface="Times New Roman"/>
              </a:rPr>
              <a:t>Enlightenment ideas of John Locke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auses of French Revolu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b0a09"/>
                </a:solidFill>
                <a:latin typeface="Times New Roman"/>
              </a:rPr>
              <a:t>Vast majority of people were broke and hungry.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b0a09"/>
                </a:solidFill>
                <a:latin typeface="Times New Roman"/>
              </a:rPr>
              <a:t>Vast majority were in the lowest estate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ree Estates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06" name="Object 3"/>
          <p:cNvGraphicFramePr/>
          <p:nvPr/>
        </p:nvGraphicFramePr>
        <p:xfrm>
          <a:off x="228600" y="2101680"/>
          <a:ext cx="86104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101680"/>
                    <a:ext cx="86104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bourgeoisi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-360" y="210168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0a09"/>
                </a:solidFill>
                <a:latin typeface="Times New Roman"/>
              </a:rPr>
              <a:t>Part of the third estate, they were the “middle class” of Franc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0a09"/>
                </a:solidFill>
                <a:latin typeface="Times New Roman"/>
              </a:rPr>
              <a:t>They were bankers, merchants, factory owners (educated people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0a09"/>
                </a:solidFill>
                <a:latin typeface="Times New Roman"/>
              </a:rPr>
              <a:t>Led the revolutio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0" name="Picture 5" descr="images"/>
          <p:cNvPicPr/>
          <p:nvPr/>
        </p:nvPicPr>
        <p:blipFill>
          <a:blip r:embed="rId1"/>
          <a:stretch/>
        </p:blipFill>
        <p:spPr>
          <a:xfrm>
            <a:off x="4753080" y="1523880"/>
            <a:ext cx="3882960" cy="46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Revolution - beginnings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28840" y="1371600"/>
            <a:ext cx="3809880" cy="48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0a09"/>
                </a:solidFill>
                <a:latin typeface="Times New Roman"/>
              </a:rPr>
              <a:t>Although people were starving and the country was broke, the royal family flaunted their wealth and uncaring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3" name="Picture 6" descr="Maria_1"/>
          <p:cNvPicPr/>
          <p:nvPr/>
        </p:nvPicPr>
        <p:blipFill>
          <a:blip r:embed="rId1"/>
          <a:stretch/>
        </p:blipFill>
        <p:spPr>
          <a:xfrm>
            <a:off x="141120" y="1219320"/>
            <a:ext cx="445644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Bread riot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People were hungry; the country was broke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This picture is from an all-woman bread riot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Marie Antionette said “let them eat cake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6" name="Picture 1030" descr="womenversailles"/>
          <p:cNvPicPr/>
          <p:nvPr/>
        </p:nvPicPr>
        <p:blipFill>
          <a:blip r:embed="rId1"/>
          <a:stretch/>
        </p:blipFill>
        <p:spPr>
          <a:xfrm>
            <a:off x="0" y="2286000"/>
            <a:ext cx="5486400" cy="42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King Louis XVI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-360" y="21016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His grandfather Louis XIV was the ultimate “absolutist” king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This king was weak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He had so little control, he called for the French congress to fix some problem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9" name="Picture 6" descr="louis16france"/>
          <p:cNvPicPr/>
          <p:nvPr/>
        </p:nvPicPr>
        <p:blipFill>
          <a:blip r:embed="rId1"/>
          <a:stretch/>
        </p:blipFill>
        <p:spPr>
          <a:xfrm>
            <a:off x="4981680" y="1219320"/>
            <a:ext cx="40798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Estates General meet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0a09"/>
                </a:solidFill>
                <a:latin typeface="Times New Roman"/>
              </a:rPr>
              <a:t>The part of the French Congress representing the third estate left and declared themselves THE congress of Franc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2" name="Picture 6" descr="frenchrevolutionassemblee"/>
          <p:cNvPicPr/>
          <p:nvPr/>
        </p:nvPicPr>
        <p:blipFill>
          <a:blip r:embed="rId1"/>
          <a:stretch/>
        </p:blipFill>
        <p:spPr>
          <a:xfrm>
            <a:off x="0" y="2973240"/>
            <a:ext cx="5410080" cy="33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4T16:25:44Z</dcterms:created>
  <dc:creator> jcollins</dc:creator>
  <dc:description/>
  <dc:language>en-US</dc:language>
  <cp:lastModifiedBy>RomaK</cp:lastModifiedBy>
  <dcterms:modified xsi:type="dcterms:W3CDTF">2015-09-04T09:29:26Z</dcterms:modified>
  <cp:revision>22</cp:revision>
  <dc:subject/>
  <dc:title>The French Revolution</dc:title>
</cp:coreProperties>
</file>