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DEDF-2F11-4632-951E-5FDC2EA2F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F09-D4F9-40D7-91FD-F0DAB62E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A69-7EB3-44AF-8239-DE5324F1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2A8-30B5-43EA-A7C7-AAD410C8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F0D3-75D2-4635-BD4F-97CCBEB0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487B-50A2-4E06-9849-56DCA4F2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31A9-8CB5-4250-B6DE-0210726D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87B7-425E-483B-9999-527719F6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3119-0F76-4A09-9904-5A20B26B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0281-E1C2-44C0-8BCC-5AAD0F71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704F-58DF-4499-9195-2518356B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9599-349A-4CDD-9E57-6052BB12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C31-AF46-4975-A33B-469291B7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DBAD-0AE2-47C9-B5C8-BC6912A7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73A5-B218-4075-9110-B553DD95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2D8B-8FCD-462D-96A1-A345728E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8E16-F297-4E6F-BF2A-4E104A1A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70CB-4C3E-4447-86A9-E049894D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1752-3005-4189-81A0-89DAB0EE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D98-7B84-415E-97AF-4A35E756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640-A4D4-4A74-90A8-EF99FC3F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B5B-DBB5-4A48-94F2-D5EA0B1D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152-B12C-4160-86DF-F0F2DD5F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5D1-6E13-442B-8837-58448FF3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88C-6584-4FE4-A6AC-A3F01D85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EFAE-A5AB-4A33-84F9-1744623F802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56B4-19E2-47DE-BD5E-BF669D2A390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4" descr="travel-france-pic-liberte"/>
          <p:cNvPicPr/>
          <p:nvPr/>
        </p:nvPicPr>
        <p:blipFill>
          <a:blip r:embed="rId1"/>
          <a:stretch/>
        </p:blipFill>
        <p:spPr>
          <a:xfrm>
            <a:off x="3505320" y="2895480"/>
            <a:ext cx="25146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vents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created their own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the Rights of Man and Citizen </a:t>
            </a: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odeled after TJ’s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Independe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Picture 6" descr="frenchrevolution1"/>
          <p:cNvPicPr/>
          <p:nvPr/>
        </p:nvPicPr>
        <p:blipFill>
          <a:blip r:embed="rId1"/>
          <a:stretch/>
        </p:blipFill>
        <p:spPr>
          <a:xfrm>
            <a:off x="3429000" y="2216160"/>
            <a:ext cx="57150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s of 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Both the King and Queen were behead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monarchy no m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Picture 6" descr="guillotine"/>
          <p:cNvPicPr/>
          <p:nvPr/>
        </p:nvPicPr>
        <p:blipFill>
          <a:blip r:embed="rId1"/>
          <a:stretch/>
        </p:blipFill>
        <p:spPr>
          <a:xfrm>
            <a:off x="4191120" y="91440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ffects continued. . 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5000" y="1295280"/>
            <a:ext cx="312408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Sold Louisiana to TJ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6" descr="Napoleon"/>
          <p:cNvPicPr/>
          <p:nvPr/>
        </p:nvPicPr>
        <p:blipFill>
          <a:blip r:embed="rId1"/>
          <a:stretch/>
        </p:blipFill>
        <p:spPr>
          <a:xfrm>
            <a:off x="479520" y="1066680"/>
            <a:ext cx="5159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Enlightenment ideas of John Locke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of people were broke and hungry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were in the lowest estat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ree Estat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28600" y="2101680"/>
          <a:ext cx="861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01680"/>
                    <a:ext cx="861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ourgeois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Part of the third estate, they were the “middle class”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y were bankers, merchants, factory owners (educated peo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Led the revo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4753080" y="1523880"/>
            <a:ext cx="38829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Revolution - beginning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8840" y="1371600"/>
            <a:ext cx="3809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a0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6" descr="Maria_1"/>
          <p:cNvPicPr/>
          <p:nvPr/>
        </p:nvPicPr>
        <p:blipFill>
          <a:blip r:embed="rId1"/>
          <a:stretch/>
        </p:blipFill>
        <p:spPr>
          <a:xfrm>
            <a:off x="141120" y="1219320"/>
            <a:ext cx="4456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read rio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People were hungry; the country was brok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picture is from an all-woman bread rio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arie Antionette said “let them eat cake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1030" descr="womenversailles"/>
          <p:cNvPicPr/>
          <p:nvPr/>
        </p:nvPicPr>
        <p:blipFill>
          <a:blip r:embed="rId1"/>
          <a:stretch/>
        </p:blipFill>
        <p:spPr>
          <a:xfrm>
            <a:off x="0" y="2286000"/>
            <a:ext cx="54864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ing Louis XV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is grandfather Louis XIV was the ultimate “absolutist” kin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king was wea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6" descr="louis16france"/>
          <p:cNvPicPr/>
          <p:nvPr/>
        </p:nvPicPr>
        <p:blipFill>
          <a:blip r:embed="rId1"/>
          <a:stretch/>
        </p:blipFill>
        <p:spPr>
          <a:xfrm>
            <a:off x="4981680" y="1219320"/>
            <a:ext cx="4079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tes General me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6" descr="frenchrevolutionassemblee"/>
          <p:cNvPicPr/>
          <p:nvPr/>
        </p:nvPicPr>
        <p:blipFill>
          <a:blip r:embed="rId1"/>
          <a:stretch/>
        </p:blipFill>
        <p:spPr>
          <a:xfrm>
            <a:off x="0" y="2973240"/>
            <a:ext cx="5410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6:25:44Z</dcterms:created>
  <dc:creator> jcollins</dc:creator>
  <dc:description/>
  <dc:language>en-US</dc:language>
  <cp:lastModifiedBy>RomaK</cp:lastModifiedBy>
  <dcterms:modified xsi:type="dcterms:W3CDTF">2015-09-04T09:29:26Z</dcterms:modified>
  <cp:revision>22</cp:revision>
  <dc:subject/>
  <dc:title>The French Revolution</dc:title>
</cp:coreProperties>
</file>