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CE79-A05C-4D0D-8C60-2705D5A1E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E0FC6-3255-44B7-B9FC-C72CB45B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7AED-1A50-413C-89DA-C8D8E80A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1A085-7274-422C-AD50-F17A6C1FD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EFCC9-22FC-4EBD-A7A8-59EFF7B60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85A4-424B-4D03-811E-D72991469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375FB-9C99-4777-BDCF-BB8451B45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CE81-B85A-437D-9C7E-4632881A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E5DC-1892-4330-B58B-7EF703909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DB26-21DD-40AB-AAE5-EEB38D02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BFC0-66E9-42C3-B08F-1879491B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7786-2E9B-47C8-9459-7C9EA777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4F93-9A67-44AB-804D-C90E36D8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B4AB-2466-482E-86A5-0FBCAC46DF1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4A3A-4DD7-40AD-BCA1-E86AFFE7F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A5EB-3977-497B-A48B-8435F151C1A6}"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31B6-BAA3-4D05-9175-8E1BA699D8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BB22-2FD4-4B3C-A180-A3D96F7FB09C}"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568A-69D4-4B1A-8AD2-93A1993F6B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ABAB-3F61-4758-BF98-5A9C1C80EC36}"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FD58-51B1-44F1-9576-9A8CE8DB4A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4674-98DB-4B5D-9C10-B32F38A8C518}"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B1DA-1F43-45C1-9FBE-54A017B662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3672-EABD-4CE4-9B9A-632A8D7D7FB3}" type="datetime">
              <a:rPr b="0" lang="en-US" sz="1400" spc="-1" strike="noStrike">
                <a:solidFill>
                  <a:srgbClr val="000000"/>
                </a:solidFill>
                <a:latin typeface="Times New Roman"/>
              </a:rPr>
              <a:t>07/30/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ABC8-3639-4A81-A587-53F8616872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