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1.jpeg" ContentType="image/jpeg"/>
  <Override PartName="/ppt/media/chimes.wav" ContentType="audio/x-wav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laser.wav" ContentType="audio/x-wav"/>
  <Override PartName="/ppt/media/drumroll.wav" ContentType="audio/x-wav"/>
  <Override PartName="/ppt/media/image13.jpeg" ContentType="image/jpeg"/>
  <Override PartName="/ppt/media/image40.jpeg" ContentType="image/jpeg"/>
  <Override PartName="/ppt/media/applause.wav" ContentType="audio/x-wav"/>
  <Override PartName="/ppt/media/image5.png" ContentType="image/png"/>
  <Override PartName="/ppt/media/image43.jpeg" ContentType="image/jpeg"/>
  <Override PartName="/ppt/media/glass.wav" ContentType="audio/x-wav"/>
  <Override PartName="/ppt/media/image20.jpeg" ContentType="image/jpeg"/>
  <Override PartName="/ppt/media/image2.png" ContentType="image/png"/>
  <Override PartName="/ppt/media/image25.jpeg" ContentType="image/jpeg"/>
  <Override PartName="/ppt/media/image17.jpeg" ContentType="image/jpeg"/>
  <Override PartName="/ppt/media/carbrake.wav" ContentType="audio/x-wav"/>
  <Override PartName="/ppt/media/image10.jpeg" ContentType="image/jpeg"/>
  <Override PartName="/ppt/media/image29.jpeg" ContentType="image/jpeg"/>
  <Override PartName="/ppt/media/image24.jpeg" ContentType="image/jpeg"/>
  <Override PartName="/ppt/media/image30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1.jpeg" ContentType="image/jpeg"/>
  <Override PartName="/ppt/media/image26.jpeg" ContentType="image/jpeg"/>
  <Override PartName="/ppt/media/image32.jpeg" ContentType="image/jpeg"/>
  <Override PartName="/ppt/media/image37.jpeg" ContentType="image/jpeg"/>
  <Override PartName="/ppt/media/image38.jpeg" ContentType="image/jpeg"/>
  <Override PartName="/ppt/media/image8.jpeg" ContentType="image/jpeg"/>
  <Override PartName="/ppt/media/image39.jpeg" ContentType="image/jpeg"/>
  <Override PartName="/ppt/media/whoosh.wav" ContentType="audio/x-wav"/>
  <Override PartName="/ppt/media/image28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explode.wav" ContentType="audio/x-wav"/>
  <Override PartName="/ppt/media/image6.png" ContentType="image/png"/>
  <Override PartName="/ppt/media/image4.png" ContentType="image/png"/>
  <Override PartName="/ppt/media/image33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B12D9-E641-41C8-AFF3-FA320937E3E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h of Cultures and Marching No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h of Cultures and Marching No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ht Makes Right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zar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ed west coast of South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treasures on in Pe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eated the In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ed their leader (Atahualpa) after he demanded all their gold for his rel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ed all silver and gold into b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ht Makes Right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zar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ed west coast of South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treasures on in Pe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eated the In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ed their leader (Atahualpa) after he demanded all their gold for his rel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ed all silver and gold into b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gave the India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Pox and Meas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gave the India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Pox and Meas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nish also g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g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51-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39-Printing Press to Mexic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nish also g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g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51-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39-Printing Press to Mexic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en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Sacrif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en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Sacrif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5: North of New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rers search for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cities of g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by 7 pri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to be in the no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in Africa or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5: North of New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rers search for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cities of g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by 7 pri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to be in the no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in Africa or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ban-sent by the mayor of Mexico City to find Cibola with Fray Mar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of 4 survivors from Narv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tured by Indians (learned their cultu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ked to Mexico in 8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to many female followers for Fray Marc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 crosses to show Cibola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ed when he sent Indians an symbol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s went back to Mexico City and said they found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ban-sent by the mayor of Mexico City to find Cibola with Fray Mar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of 4 survivors from Narv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tured by Indians (learned their cultu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ked to Mexico in 8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to many female followers for Fray Marc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 crosses to show Cibola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ed when he sent Indians an symbol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s went back to Mexico City and said they found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6:Looking for Cibola with Coron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do: good leader/sold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:leaves in search of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s to Hawiku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ck Indians out and take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go west and discover the Grand 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6:Looking for Cibola with Coron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do: good leader/sold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:leaves in search of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s to Hawiku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ck Indians out and take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go west and discover the Grand 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6:Looking for Cibola with Coron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urk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dian captured by the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sign language to commun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assume he’s telling them where the gold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them to Quivira-city full of mud hu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ngled for l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n’t the gold and silver were underground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6:Looking for Cibola with Coron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urk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dian captured by the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sign language to commun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assume he’s telling them where the gold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them to Quivira-city full of mud hu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ngled for l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n’t the gold and silver were underground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7: California to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-1549:Spanish looking for Cibola all over! (California/Texas/Florid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39: De Soto- Florida (land of gol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s 200lbs of pearls on his expl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in Peru w/Pizar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k over Indian vill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s/tortures if they don’t give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survivor from Narv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s the Mississippi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d of fever and was buried in the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7: California to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-1549:Spanish looking for Cibola all over! (California/Texas/Florid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39: De Soto- Florida (land of gol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s 200lbs of pearls on his expl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in Peru w/Pizar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k over Indian vill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s/tortures if they don’t give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survivor from Narv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s the Mississippi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d of fever and was buried in the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7: California to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-Alac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o reach Califor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iled up the Gulf of California and Colorado River in the Grand 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24-Cabrillo (“lil goat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ieved California was run by Griff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d being chased by Ind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7: California to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-Alac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o reach Califor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iled up the Gulf of California and Colorado River in the Grand 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24-Cabrillo (“lil goat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ieved California was run by Griff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d being chased by Ind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1: Beliefs and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th century~ Roman Catholic and Eastern Orthodox~only Christian relig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th Century~Martin Lu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orm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s 95 complaints against the Catholic Chu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95 Thes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s Protestantis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1: Beliefs and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th century~ Roman Catholic and Eastern Orthodox~only Christian relig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th Century~Martin Lu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orm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s 95 complaints against the Catholic Chu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95 Thes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s Protestantis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8:A Place Called Sant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in 16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t on a plate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permanent European colony in North West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30-60,000 Indians converted to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istia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8:A Place Called Sant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in 16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t on a plate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permanent European colony in North West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30-60,000 Indians converted to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istia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9: Las Casas Car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2-King Charles 1 outlaws Indian slav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 Cas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an Indian slave as a chi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12-became a priest &amp; owned sl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14-gave his slaves their free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 1520- established Venezuela (peaceful are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 and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n’t want to work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9: Las Casas Car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2-King Charles 1 outlaws Indian slav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 Cas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an Indian slave as a chi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12-became a priest &amp; owned sl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14-gave his slaves their free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 1520- established Venezuela (peaceful are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 and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n’t want to work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9: Las Cas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ulv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osed Las Casas opin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 “needed”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aves were g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lish read about Spanis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treat Native Americans differen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9: Las Cas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ulv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osed Las Casas opin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 “needed”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aves were g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lish read about Spanis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treat Native Americans differen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END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END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of Re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ime of change and re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religions forming (Protestantis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and expl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of Re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ime of change and re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religions forming (Protestantis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and expl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, Leave, OR be Tortured and Die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nish Inqui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en Isabella’s “special” religious cou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lims, Jews, and Pagans would have to convert to Christian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conversion = leaving Spain or d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, Leave, OR be Tortured and Die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nish Inqui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en Isabella’s “special” religious cou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lims, Jews, and Pagans would have to convert to Christian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conversion = leaving Spain or d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nando Cort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t to be a god (Quetzacoatl) by Montezu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ed with 900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k his own ship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ed towards Tenochtitl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nando Cort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t to be a god (Quetzacoatl) by Montezu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ed with 900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k his own ship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ed towards Tenochtitl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ap of the Aztec Emp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ap of the Aztec Emp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tez Marches A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’t listen to Montezuma and marches towards Tenochtit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s army as he g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we of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ing gard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vate Z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D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tez Marches A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’t listen to Montezuma and marches towards Tenochtit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s army as he g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we of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ing gard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vate Z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D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Aztecs 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ntezuma 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uauhtemoc (the new Aztec leader) surrenders to the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anish destroy the Aztec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name Tenochtit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xic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Aztecs 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ntezuma 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uauhtemoc (the new Aztec leader) surrenders to the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anish destroy the Aztec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name Tenochtit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xic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3: “Might Makes Right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nce de Le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 &amp; Bloodthirs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quered Puerto R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s for all its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gold in Puerto R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ly shot with a poison a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ies from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3: “Might Makes Right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nce de Le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 &amp; Bloodthirs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quered Puerto R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s for all its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gold in Puerto R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ly shot with a poison a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ies from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D42A-00F0-4A25-B7A4-8160AA49E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D904-1D00-4B9E-BF6A-1F2C647C7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3783-A5FB-4B76-B281-D97305BC9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374A-54A6-46A6-BCD9-9F6010DF6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8A367-F327-4D9A-8E76-4B3B16B31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EE92A-C557-40A2-BA59-F8DF4CF7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63118-82D3-4A13-89CA-88E833251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4F5D4-7566-4B70-A1EE-31C7C260E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A047A-062E-4350-8789-2A770030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B3651-5A3A-48DA-BF2C-037890E93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488FD-5A28-4079-B378-285CD8B8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0C62-4F6E-4A31-83EE-3B9AB3227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625F2-0F38-4DA7-B984-1D92BF0A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2A3E8-308C-4F51-9437-97204A97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93BAF-7088-4F51-8188-C66D4291A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7BD76-7EF8-4F07-B504-3EBF73EAB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77E84-2FE7-411E-8C78-041FAA711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3F92-E4F1-4F59-B3D7-3754CE327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950E-9ABD-481A-BF08-CE1512907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BADF-3EB1-4133-AA67-F8FEEA84A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6390-4280-42E3-9B10-E4AC4E3DB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9FDA-6756-4AA6-94E3-53E48A8F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7964-3A9D-4A74-AF43-0331A1C2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EEC9-7996-4729-ACA3-86DF8B62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26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3676A-E0F9-4F50-8ECF-3087E5C6536A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031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4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10" descr="EXPHORSA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FB84E-7AB6-4B08-B9B5-5332A13ABE66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28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34.jpeg"/><Relationship Id="rId9" Type="http://schemas.openxmlformats.org/officeDocument/2006/relationships/image" Target="../media/image35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32.jpeg"/><Relationship Id="rId8" Type="http://schemas.openxmlformats.org/officeDocument/2006/relationships/image" Target="../media/image36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25.jpe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39.jpeg"/><Relationship Id="rId8" Type="http://schemas.openxmlformats.org/officeDocument/2006/relationships/image" Target="../media/image40.jpeg"/><Relationship Id="rId9" Type="http://schemas.openxmlformats.org/officeDocument/2006/relationships/audio" Target="../media/explode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41.jpeg"/><Relationship Id="rId7" Type="http://schemas.openxmlformats.org/officeDocument/2006/relationships/image" Target="../media/image42.jpeg"/><Relationship Id="rId8" Type="http://schemas.openxmlformats.org/officeDocument/2006/relationships/image" Target="../media/image43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9.jpeg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audio" Target="../media/glass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audio" Target="../media/applause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audio" Target="../media/glass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audio" Target="../media/drumroll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h of Cultures and Marching No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Might Makes Right!”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zar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ed west coast of South Ame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nd treasures on in Pe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eated the In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lled their leader (Atahualpa) after he demanded all their gold for his rel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lted all silver and gold into ba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4" descr="inca"/>
          <p:cNvPicPr/>
          <p:nvPr/>
        </p:nvPicPr>
        <p:blipFill>
          <a:blip r:embed="rId4"/>
          <a:stretch/>
        </p:blipFill>
        <p:spPr>
          <a:xfrm>
            <a:off x="6629400" y="434340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pizzaro"/>
          <p:cNvPicPr/>
          <p:nvPr/>
        </p:nvPicPr>
        <p:blipFill>
          <a:blip r:embed="rId5"/>
          <a:stretch/>
        </p:blipFill>
        <p:spPr>
          <a:xfrm>
            <a:off x="152280" y="3886200"/>
            <a:ext cx="1844640" cy="2697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inca2"/>
          <p:cNvPicPr/>
          <p:nvPr/>
        </p:nvPicPr>
        <p:blipFill>
          <a:blip r:embed="rId6"/>
          <a:stretch/>
        </p:blipFill>
        <p:spPr>
          <a:xfrm>
            <a:off x="6858000" y="457200"/>
            <a:ext cx="178740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4: Gloom, Doom, &amp; Chee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nish gave the Indian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Pox and Meas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4" descr="small pox"/>
          <p:cNvPicPr/>
          <p:nvPr/>
        </p:nvPicPr>
        <p:blipFill>
          <a:blip r:embed="rId3"/>
          <a:stretch/>
        </p:blipFill>
        <p:spPr>
          <a:xfrm>
            <a:off x="380880" y="3124080"/>
            <a:ext cx="3810240" cy="2759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small pox 2"/>
          <p:cNvPicPr/>
          <p:nvPr/>
        </p:nvPicPr>
        <p:blipFill>
          <a:blip r:embed="rId4"/>
          <a:stretch/>
        </p:blipFill>
        <p:spPr>
          <a:xfrm>
            <a:off x="4572000" y="3352680"/>
            <a:ext cx="4343400" cy="26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4: Gloom, Doom, &amp; Chee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panish also gav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ig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51-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39-Printing Press to Mexico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4" descr="cross"/>
          <p:cNvPicPr/>
          <p:nvPr/>
        </p:nvPicPr>
        <p:blipFill>
          <a:blip r:embed="rId6"/>
          <a:stretch/>
        </p:blipFill>
        <p:spPr>
          <a:xfrm>
            <a:off x="6477120" y="914400"/>
            <a:ext cx="2249280" cy="2685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sp art 2"/>
          <p:cNvPicPr/>
          <p:nvPr/>
        </p:nvPicPr>
        <p:blipFill>
          <a:blip r:embed="rId7"/>
          <a:stretch/>
        </p:blipFill>
        <p:spPr>
          <a:xfrm>
            <a:off x="6705720" y="3733920"/>
            <a:ext cx="2139840" cy="27432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span art"/>
          <p:cNvPicPr/>
          <p:nvPr/>
        </p:nvPicPr>
        <p:blipFill>
          <a:blip r:embed="rId8"/>
          <a:stretch/>
        </p:blipFill>
        <p:spPr>
          <a:xfrm>
            <a:off x="0" y="4114800"/>
            <a:ext cx="16477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4: Gloom, Doom, &amp; Chee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nish en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man Sacrif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4" descr="aztecsacrifice"/>
          <p:cNvPicPr/>
          <p:nvPr/>
        </p:nvPicPr>
        <p:blipFill>
          <a:blip r:embed="rId3"/>
          <a:stretch/>
        </p:blipFill>
        <p:spPr>
          <a:xfrm>
            <a:off x="2209680" y="2895480"/>
            <a:ext cx="586764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7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5: North of New Spai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orers search for Cib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 cities of g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nded by 7 pri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d to be in the no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in Africa or Eur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4" descr="cibola"/>
          <p:cNvPicPr/>
          <p:nvPr/>
        </p:nvPicPr>
        <p:blipFill>
          <a:blip r:embed="rId5"/>
          <a:stretch/>
        </p:blipFill>
        <p:spPr>
          <a:xfrm>
            <a:off x="5334120" y="2895480"/>
            <a:ext cx="339408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Esteban-</a:t>
            </a:r>
            <a:r>
              <a:rPr b="0" lang="en-US" sz="2800" spc="-1" strike="noStrike">
                <a:solidFill>
                  <a:srgbClr val="482400"/>
                </a:solidFill>
                <a:latin typeface="Times New Roman"/>
              </a:rPr>
              <a:t>sent by the mayor of Mexico City to find Cibola with Fray Marcos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7708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of 4 survivors from Narv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tured by Indians (learned their cul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lked to Mexico in 8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d to many female followers for Fray Marc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crosses to show Cibola f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illed when he sent Indians an symbol of w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os went back to Mexico City and said they found Cibo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4" descr="gourd"/>
          <p:cNvPicPr/>
          <p:nvPr/>
        </p:nvPicPr>
        <p:blipFill>
          <a:blip r:embed="rId8"/>
          <a:stretch/>
        </p:blipFill>
        <p:spPr>
          <a:xfrm>
            <a:off x="7086600" y="990720"/>
            <a:ext cx="182880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6:Looking for Cibola with Coronado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onado: good leader/sold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40:leaves in search of Cibo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s to Hawiku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eblo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ck Indians out and take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go west and discover the Grand Cany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4" descr="coro"/>
          <p:cNvPicPr/>
          <p:nvPr/>
        </p:nvPicPr>
        <p:blipFill>
          <a:blip r:embed="rId4"/>
          <a:stretch/>
        </p:blipFill>
        <p:spPr>
          <a:xfrm>
            <a:off x="7089840" y="1066680"/>
            <a:ext cx="1628640" cy="2971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gc"/>
          <p:cNvPicPr/>
          <p:nvPr/>
        </p:nvPicPr>
        <p:blipFill>
          <a:blip r:embed="rId5"/>
          <a:stretch/>
        </p:blipFill>
        <p:spPr>
          <a:xfrm>
            <a:off x="762120" y="4648320"/>
            <a:ext cx="35049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6:Looking for Cibola with Coronado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urk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dian captured by the Span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sign language to communic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nish assume he’s telling them where the gold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s them to Quivira-city full of mud hu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ngled for l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wasn’t the gold and silver were underground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4" descr="hanging"/>
          <p:cNvPicPr/>
          <p:nvPr/>
        </p:nvPicPr>
        <p:blipFill>
          <a:blip r:embed="rId7"/>
          <a:stretch/>
        </p:blipFill>
        <p:spPr>
          <a:xfrm>
            <a:off x="0" y="4495680"/>
            <a:ext cx="160020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7: California to Florid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40-1549:Spanish looking for Cibola all over! (California/Texas/Florid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39: De Soto- Florida (land of g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s 200lbs of pearls on his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s in Peru w/Pizar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k over Indian vill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ills/tortures if they don’t give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nd survivor from Nar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s the Mississippi 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ed of fever and was buried in the 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4" descr="miss riv"/>
          <p:cNvPicPr/>
          <p:nvPr/>
        </p:nvPicPr>
        <p:blipFill>
          <a:blip r:embed="rId8"/>
          <a:stretch/>
        </p:blipFill>
        <p:spPr>
          <a:xfrm>
            <a:off x="7170840" y="2362320"/>
            <a:ext cx="1973160" cy="29336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pearls"/>
          <p:cNvPicPr/>
          <p:nvPr/>
        </p:nvPicPr>
        <p:blipFill>
          <a:blip r:embed="rId9"/>
          <a:stretch/>
        </p:blipFill>
        <p:spPr>
          <a:xfrm>
            <a:off x="0" y="5667480"/>
            <a:ext cx="178740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7: California to Florid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540-Alacr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reach Califor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led up the Gulf of California and Colorado River in the Grand Cany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524-Cabrillo (“lil goat”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lieved California was run by Griff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ed being chased by Ind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4" descr="gc"/>
          <p:cNvPicPr/>
          <p:nvPr/>
        </p:nvPicPr>
        <p:blipFill>
          <a:blip r:embed="rId7"/>
          <a:stretch/>
        </p:blipFill>
        <p:spPr>
          <a:xfrm>
            <a:off x="0" y="5410080"/>
            <a:ext cx="2438280" cy="1432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griffin2"/>
          <p:cNvPicPr/>
          <p:nvPr/>
        </p:nvPicPr>
        <p:blipFill>
          <a:blip r:embed="rId8"/>
          <a:stretch/>
        </p:blipFill>
        <p:spPr>
          <a:xfrm>
            <a:off x="6095880" y="4772160"/>
            <a:ext cx="3048120" cy="19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7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0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1: Beliefs and Idea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entury~ Roman Catholic and Eastern Orthodox~only Christian relig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entury~Martin Lu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form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s 95 complaints against the Catholic Chu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95 The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nds Protestantis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4" descr="martin_luther"/>
          <p:cNvPicPr/>
          <p:nvPr/>
        </p:nvPicPr>
        <p:blipFill>
          <a:blip r:embed="rId6"/>
          <a:stretch/>
        </p:blipFill>
        <p:spPr>
          <a:xfrm>
            <a:off x="6477120" y="4419720"/>
            <a:ext cx="22730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8:A Place Called Santa </a:t>
            </a:r>
            <a:br>
              <a:rPr sz="4400"/>
            </a:b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           F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nded in 16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t on a plate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permanent European colony in North West Ame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30-60,000 Indians converted to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istia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4" descr="cross"/>
          <p:cNvPicPr/>
          <p:nvPr/>
        </p:nvPicPr>
        <p:blipFill>
          <a:blip r:embed="rId5"/>
          <a:stretch/>
        </p:blipFill>
        <p:spPr>
          <a:xfrm>
            <a:off x="6975360" y="3581280"/>
            <a:ext cx="2168640" cy="3276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sf2"/>
          <p:cNvPicPr/>
          <p:nvPr/>
        </p:nvPicPr>
        <p:blipFill>
          <a:blip r:embed="rId6"/>
          <a:stretch/>
        </p:blipFill>
        <p:spPr>
          <a:xfrm>
            <a:off x="4648320" y="914400"/>
            <a:ext cx="4208400" cy="19494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sf3"/>
          <p:cNvPicPr/>
          <p:nvPr/>
        </p:nvPicPr>
        <p:blipFill>
          <a:blip r:embed="rId7"/>
          <a:stretch/>
        </p:blipFill>
        <p:spPr>
          <a:xfrm>
            <a:off x="380880" y="4464000"/>
            <a:ext cx="320040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9: Las Casas Cares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42-King Charles 1 outlaw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di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la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 Cas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d an Indian slave as a 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12-became a priest &amp; owned sl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14-gave his slaves their free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 1520- established Venezuela (peaceful are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ve Americans and Spani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4824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dn’t want to work toge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4" descr="crosses"/>
          <p:cNvPicPr/>
          <p:nvPr/>
        </p:nvPicPr>
        <p:blipFill>
          <a:blip r:embed="rId7"/>
          <a:stretch/>
        </p:blipFill>
        <p:spPr>
          <a:xfrm>
            <a:off x="5562720" y="4478400"/>
            <a:ext cx="3581280" cy="2379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ven"/>
          <p:cNvPicPr/>
          <p:nvPr/>
        </p:nvPicPr>
        <p:blipFill>
          <a:blip r:embed="rId8"/>
          <a:stretch/>
        </p:blipFill>
        <p:spPr>
          <a:xfrm>
            <a:off x="-33480" y="2895480"/>
            <a:ext cx="16941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9: Las Casas </a:t>
            </a:r>
            <a:br>
              <a:rPr sz="4400"/>
            </a:b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ar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ulve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posed Las Casas opin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ive Americans “needed” Span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aves were g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glish read about Spanis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treat Native Americans differen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4" descr="in Sl 2"/>
          <p:cNvPicPr/>
          <p:nvPr/>
        </p:nvPicPr>
        <p:blipFill>
          <a:blip r:embed="rId6"/>
          <a:stretch/>
        </p:blipFill>
        <p:spPr>
          <a:xfrm>
            <a:off x="6781680" y="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in slav"/>
          <p:cNvPicPr/>
          <p:nvPr/>
        </p:nvPicPr>
        <p:blipFill>
          <a:blip r:embed="rId7"/>
          <a:stretch/>
        </p:blipFill>
        <p:spPr>
          <a:xfrm>
            <a:off x="114480" y="4495680"/>
            <a:ext cx="1596960" cy="23623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brits"/>
          <p:cNvPicPr/>
          <p:nvPr/>
        </p:nvPicPr>
        <p:blipFill>
          <a:blip r:embed="rId8"/>
          <a:stretch/>
        </p:blipFill>
        <p:spPr>
          <a:xfrm>
            <a:off x="4800600" y="4981680"/>
            <a:ext cx="373392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END!!!!!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e of Re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ime of change and re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religions forming (Protestantis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vel and expl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methuen_4"/>
          <p:cNvPicPr/>
          <p:nvPr/>
        </p:nvPicPr>
        <p:blipFill>
          <a:blip r:embed="rId6"/>
          <a:stretch/>
        </p:blipFill>
        <p:spPr>
          <a:xfrm>
            <a:off x="5867280" y="3352680"/>
            <a:ext cx="2678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onvert, Leave, OR be Tortured and Die!!!!!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panish Inqui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en Isabella’s “special” religious cou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lims, Jews, and Pagans would have to convert to Christian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onversion = leaving Spain or d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4" descr="imagesCA3SV3YM"/>
          <p:cNvPicPr/>
          <p:nvPr/>
        </p:nvPicPr>
        <p:blipFill>
          <a:blip r:embed="rId5"/>
          <a:stretch/>
        </p:blipFill>
        <p:spPr>
          <a:xfrm>
            <a:off x="380880" y="4379760"/>
            <a:ext cx="3581640" cy="2376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inquisition1"/>
          <p:cNvPicPr/>
          <p:nvPr/>
        </p:nvPicPr>
        <p:blipFill>
          <a:blip r:embed="rId6"/>
          <a:stretch/>
        </p:blipFill>
        <p:spPr>
          <a:xfrm>
            <a:off x="1905120" y="7696080"/>
            <a:ext cx="1447560" cy="1357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inquisition2"/>
          <p:cNvPicPr/>
          <p:nvPr/>
        </p:nvPicPr>
        <p:blipFill>
          <a:blip r:embed="rId7"/>
          <a:stretch/>
        </p:blipFill>
        <p:spPr>
          <a:xfrm>
            <a:off x="4724280" y="4267080"/>
            <a:ext cx="40230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New Spai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nando Cort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ught to be a god (Quetzacoatl) by Montezu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veled with 900 peo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nk his own ship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hed towards Tenochtitl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imagesCAB9DS40"/>
          <p:cNvPicPr/>
          <p:nvPr/>
        </p:nvPicPr>
        <p:blipFill>
          <a:blip r:embed="rId6"/>
          <a:stretch/>
        </p:blipFill>
        <p:spPr>
          <a:xfrm>
            <a:off x="6705720" y="0"/>
            <a:ext cx="2438280" cy="2290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imagesCAG2O0TE"/>
          <p:cNvPicPr/>
          <p:nvPr/>
        </p:nvPicPr>
        <p:blipFill>
          <a:blip r:embed="rId7"/>
          <a:stretch/>
        </p:blipFill>
        <p:spPr>
          <a:xfrm>
            <a:off x="0" y="4834080"/>
            <a:ext cx="327672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 map of the Aztec Empir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4" descr="empmap1"/>
          <p:cNvPicPr/>
          <p:nvPr/>
        </p:nvPicPr>
        <p:blipFill>
          <a:blip r:embed="rId1"/>
          <a:stretch/>
        </p:blipFill>
        <p:spPr>
          <a:xfrm>
            <a:off x="1523880" y="1752480"/>
            <a:ext cx="66074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ortez Marches Ahead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n’t listen to Montezuma and marches towards Tenochtit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ds army as he g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we of 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oating gard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ate Zo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LD!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4" descr="zoo animals"/>
          <p:cNvPicPr/>
          <p:nvPr/>
        </p:nvPicPr>
        <p:blipFill>
          <a:blip r:embed="rId7"/>
          <a:stretch/>
        </p:blipFill>
        <p:spPr>
          <a:xfrm>
            <a:off x="6324480" y="2209680"/>
            <a:ext cx="2541600" cy="3733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gards"/>
          <p:cNvPicPr/>
          <p:nvPr/>
        </p:nvPicPr>
        <p:blipFill>
          <a:blip r:embed="rId8"/>
          <a:stretch/>
        </p:blipFill>
        <p:spPr>
          <a:xfrm>
            <a:off x="3581280" y="4633920"/>
            <a:ext cx="320040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Aztecs fall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tezuma 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auhtemoc (the new Aztec leader) surrenders to the Span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nish destroy the Aztec cul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ame Tenochtit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xico 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3: “Might Makes Right!”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nce de Le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n &amp; Bloodthirs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quered Puerto 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nd Flor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for all its flo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nd gold in Puerto 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 shot with a poison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dies from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4" descr="de leon"/>
          <p:cNvPicPr/>
          <p:nvPr/>
        </p:nvPicPr>
        <p:blipFill>
          <a:blip r:embed="rId7"/>
          <a:stretch/>
        </p:blipFill>
        <p:spPr>
          <a:xfrm>
            <a:off x="5943600" y="762120"/>
            <a:ext cx="2716200" cy="35049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fla flowers"/>
          <p:cNvPicPr/>
          <p:nvPr/>
        </p:nvPicPr>
        <p:blipFill>
          <a:blip r:embed="rId8"/>
          <a:stretch/>
        </p:blipFill>
        <p:spPr>
          <a:xfrm>
            <a:off x="0" y="2362320"/>
            <a:ext cx="16192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21:01:28Z</dcterms:created>
  <dc:creator>Alicia</dc:creator>
  <dc:description/>
  <dc:language>en-US</dc:language>
  <cp:lastModifiedBy>RomaK</cp:lastModifiedBy>
  <dcterms:modified xsi:type="dcterms:W3CDTF">2015-09-04T09:28:42Z</dcterms:modified>
  <cp:revision>74</cp:revision>
  <dc:subject/>
  <dc:title>Units 4 &amp; 5 </dc:title>
</cp:coreProperties>
</file>