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69BB-A099-49F9-A0FE-7867005904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B38-0D5C-408F-87A2-A708039A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16D-CAF2-408C-936E-16621E6E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64A-0346-4E1F-A81E-01E6F0C9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FF8E-6659-488D-A5C2-0F6C67B6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FD8-6389-40B4-99D0-5275DE2A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8B4-9D14-4C7C-8078-D9F0CD11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01EE-6D6F-4B0F-9523-01BD2BA9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1B12-A4B8-4CC4-9E21-5AFF5836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FC31-7743-4410-99B7-5342B0C8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A1D-06E3-46F7-879A-6019C79F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32C-CBDC-456A-BE79-AECA60F4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A8D-0A77-4FFF-8F45-8E98D1E1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4C6A-2DF8-482E-887C-CC4476A242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decookery.com/clipart/people/peop01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decookery.com/clipart/people/peop019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godecookery.com/clipart/people/peop019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decookery.com/clipart/people/peop019.jpg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godecookery.com/clipart/people/peop019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www.godecookery.com/clipart/people/peop019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godecookery.com/clipart/people/peop019.jpg" TargetMode="Externa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ncl.ac.uk/sparcle/images/English%2520flag.gif&amp;imgrefurl=http://www.ncl.ac.uk/sparcle/Denmark/Home%2520page.htm&amp;h=299&amp;w=495&amp;sz=3&amp;tbnid=aRltpwpLZmNrlM:&amp;tbnh=76&amp;tbnw=127&amp;hl=en&amp;start=11&amp;prev=/images%3Fq%3Denglish%2Bflag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.uk/imgres?imgurl=http://pilot.intrinsix.net/why/jpgs/strong-arm.jpg&amp;imgrefurl=http://pilot.intrinsix.net/why/index.shtml&amp;h=150&amp;w=145&amp;sz=9&amp;tbnid=-e97cVRaemevoM:&amp;tbnh=90&amp;tbnw=87&amp;hl=en&amp;start=1&amp;prev=/images%3Fq%3Dstrong%2Barm%26svnum%3D10%26hl%3Den%26lr%3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gland in 10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uld William of Normandy att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11280" y="1413000"/>
            <a:ext cx="4248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dward the Confessor wa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had trouble keeping control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148360" y="1268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King"/>
          <p:cNvPicPr/>
          <p:nvPr/>
        </p:nvPicPr>
        <p:blipFill>
          <a:blip r:embed="rId1"/>
          <a:stretch/>
        </p:blipFill>
        <p:spPr>
          <a:xfrm>
            <a:off x="5219640" y="2205000"/>
            <a:ext cx="2400480" cy="41054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0"/>
          <p:cNvSpPr/>
          <p:nvPr/>
        </p:nvSpPr>
        <p:spPr>
          <a:xfrm>
            <a:off x="5508720" y="404640"/>
            <a:ext cx="3166920" cy="1872000"/>
          </a:xfrm>
          <a:prstGeom prst="wedgeEllipseCallout">
            <a:avLst>
              <a:gd name="adj1" fmla="val -4037"/>
              <a:gd name="adj2" fmla="val 81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0360" y="76500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LP!  Nobody will do as I s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Fortress"/>
          <p:cNvPicPr/>
          <p:nvPr/>
        </p:nvPicPr>
        <p:blipFill>
          <a:blip r:embed="rId1"/>
          <a:stretch/>
        </p:blipFill>
        <p:spPr>
          <a:xfrm>
            <a:off x="324000" y="1844640"/>
            <a:ext cx="4319280" cy="3384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5280" y="1341360"/>
            <a:ext cx="4248000" cy="417528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H="1">
            <a:off x="179280" y="1341360"/>
            <a:ext cx="4464000" cy="431964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364000" y="1197000"/>
            <a:ext cx="3095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England was poorly defen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re were very few cas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ap of England"/>
          <p:cNvPicPr/>
          <p:nvPr/>
        </p:nvPicPr>
        <p:blipFill>
          <a:blip r:embed="rId1"/>
          <a:stretch/>
        </p:blipFill>
        <p:spPr>
          <a:xfrm>
            <a:off x="395280" y="260280"/>
            <a:ext cx="4105440" cy="59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8" descr="peop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708280"/>
            <a:ext cx="476280" cy="81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peop0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94172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peop01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peop01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32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peop01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40000" y="508464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peop01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40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peop01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258920" y="3645000"/>
            <a:ext cx="476280" cy="819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"/>
          <p:cNvSpPr/>
          <p:nvPr/>
        </p:nvSpPr>
        <p:spPr>
          <a:xfrm>
            <a:off x="4932360" y="476280"/>
            <a:ext cx="3887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few people lived in the north and west of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body lived in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the South of England was covered in forest and people lived in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English%2520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22100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/>
          <p:cNvSpPr/>
          <p:nvPr/>
        </p:nvSpPr>
        <p:spPr>
          <a:xfrm>
            <a:off x="4067280" y="472428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50920" y="4653000"/>
            <a:ext cx="865080" cy="504720"/>
          </a:xfrm>
          <a:prstGeom prst="leftArrow">
            <a:avLst>
              <a:gd name="adj1" fmla="val 50000"/>
              <a:gd name="adj2" fmla="val 428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2268360" y="3213000"/>
            <a:ext cx="576360" cy="863640"/>
          </a:xfrm>
          <a:prstGeom prst="upArrow">
            <a:avLst>
              <a:gd name="adj1" fmla="val 50000"/>
              <a:gd name="adj2" fmla="val 374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2340000" y="5805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strong-a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5580000" y="981000"/>
            <a:ext cx="2879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cat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trong-arm"/>
          <p:cNvPicPr/>
          <p:nvPr/>
        </p:nvPicPr>
        <p:blipFill>
          <a:blip r:embed="rId1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fr-norm"/>
          <p:cNvPicPr/>
          <p:nvPr/>
        </p:nvPicPr>
        <p:blipFill>
          <a:blip r:embed="rId2"/>
          <a:stretch/>
        </p:blipFill>
        <p:spPr>
          <a:xfrm>
            <a:off x="1116000" y="3716280"/>
            <a:ext cx="3168720" cy="20178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179280" y="4365720"/>
            <a:ext cx="898560" cy="576000"/>
          </a:xfrm>
          <a:prstGeom prst="rightArrow">
            <a:avLst>
              <a:gd name="adj1" fmla="val 50000"/>
              <a:gd name="adj2" fmla="val 39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4356000" y="4365720"/>
            <a:ext cx="935280" cy="576000"/>
          </a:xfrm>
          <a:prstGeom prst="leftArrow">
            <a:avLst>
              <a:gd name="adj1" fmla="val 50000"/>
              <a:gd name="adj2" fmla="val 405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2411280" y="5877000"/>
            <a:ext cx="574920" cy="720720"/>
          </a:xfrm>
          <a:prstGeom prst="upArrow">
            <a:avLst>
              <a:gd name="adj1" fmla="val 50000"/>
              <a:gd name="adj2" fmla="val 3134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2484360" y="278136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5724360" y="836640"/>
            <a:ext cx="3024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wa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lived and train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9:51:36Z</dcterms:created>
  <dc:creator>cjames</dc:creator>
  <dc:description>England in 1060 hastings 1066</dc:description>
  <cp:keywords>England in 1060 hastings 1066</cp:keywords>
  <dc:language>en-US</dc:language>
  <cp:lastModifiedBy>LEGION</cp:lastModifiedBy>
  <dcterms:modified xsi:type="dcterms:W3CDTF">2015-09-15T11:00:12Z</dcterms:modified>
  <cp:revision>9</cp:revision>
  <dc:subject>England in 1060 hastings 1066</dc:subject>
  <dc:title>England in 1060 hastings 1066</dc:title>
</cp:coreProperties>
</file>