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E203-CF2C-425D-8C5F-6CC789C155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B6D-519A-4B77-8070-14251340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328-BE2E-4B45-909C-29374CDF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FBC-3EF5-4CCF-870F-0D0F1B87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C82-F867-49E6-BDDB-A2F1DC35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197-F72E-49FC-B241-EE6D6D56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249-65B2-460C-B6C7-C8A1B921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C0D-3C21-404C-ACC2-89F33B3C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DE2-25D1-40D0-AF52-053E5FF5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A1B-2632-486F-85F2-58E9828F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F60-6F2B-414A-9F2F-83EDBAA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5EB-D731-4103-980D-DE9820EB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FAF-CD33-4686-B4D4-983F376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09E3-8A20-48AB-B897-98F5B6A952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22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4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25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6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3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3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40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1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2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43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4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9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7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8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9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70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1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2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73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4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5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76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7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8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9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0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1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82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3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4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85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6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7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8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9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0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91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2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5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6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7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8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9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6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7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8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9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5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6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8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9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85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6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7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8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9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95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6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7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8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9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04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5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7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8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13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4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5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16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7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RomaK</cp:lastModifiedBy>
  <dcterms:modified xsi:type="dcterms:W3CDTF">2015-09-04T09:27:16Z</dcterms:modified>
  <cp:revision>43</cp:revision>
  <dc:subject/>
  <dc:title>British History</dc:title>
</cp:coreProperties>
</file>