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2.jpeg" ContentType="image/jpeg"/>
  <Override PartName="/ppt/media/image17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6.png" ContentType="image/pn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C6E4-4FA7-44F2-B8DB-0625EC8900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ish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ish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rn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45 -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rn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5 -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t's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you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a Time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's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you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ide which pic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ting where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 which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wher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for 2007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do your 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or 2007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do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that ha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ur past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that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past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m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66 - 115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r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66 - 11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54 - 14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54 - 14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ud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85 - 16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d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85 - 16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vil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03 - 17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03 - 17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mpire &amp; Sea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1714 - 18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mpire &amp; Sea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714 - 18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l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ctor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37 - 19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ctor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37 - 19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C1DC-E1F9-4863-9096-CD9485F2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18CE-DAE0-4B05-9E06-C50261EB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203E-F7D3-46D4-956C-F10FAFD1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CA1E-B82A-4F6D-90CB-5E379F5E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AFEB-C4C5-4EA6-9999-5A10DFD2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5BDA-AAAC-4D59-A978-2E6AB162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2B75-FDE4-4D2E-BBB1-9FC40FF9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A88E-DB58-4DFA-B059-1D144F44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9BE5-781E-4E51-A77A-9AD2C8A1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70B1-67B4-40BA-B001-36FDDF20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BECF-CE7E-46DD-879B-604A54C6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0F31-D6D1-4B01-8254-1178F441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627D-765C-46BF-836B-43E6526161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9.jpeg"/><Relationship Id="rId6" Type="http://schemas.openxmlformats.org/officeDocument/2006/relationships/image" Target="../media/image11.jpeg"/><Relationship Id="rId7" Type="http://schemas.openxmlformats.org/officeDocument/2006/relationships/image" Target="../media/image25.png"/><Relationship Id="rId8" Type="http://schemas.openxmlformats.org/officeDocument/2006/relationships/image" Target="../media/image26.jpeg"/><Relationship Id="rId9" Type="http://schemas.openxmlformats.org/officeDocument/2006/relationships/image" Target="../media/image17.jpe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Britannic Bold"/>
              </a:rPr>
              <a:t>British Histo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Cj04046570000[1]"/>
          <p:cNvPicPr/>
          <p:nvPr/>
        </p:nvPicPr>
        <p:blipFill>
          <a:blip r:embed="rId1"/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21" name="Group 9"/>
          <p:cNvGrpSpPr/>
          <p:nvPr/>
        </p:nvGrpSpPr>
        <p:grpSpPr>
          <a:xfrm>
            <a:off x="300960" y="1280160"/>
            <a:ext cx="4245480" cy="4452840"/>
            <a:chOff x="300960" y="1280160"/>
            <a:chExt cx="4245480" cy="4452840"/>
          </a:xfrm>
        </p:grpSpPr>
        <p:sp>
          <p:nvSpPr>
            <p:cNvPr id="122" name="WordArt 5"/>
            <p:cNvSpPr txBox="1"/>
            <p:nvPr/>
          </p:nvSpPr>
          <p:spPr>
            <a:xfrm rot="20844600">
              <a:off x="1115640" y="4581000"/>
              <a:ext cx="338472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Titanic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23" name="Picture 6" descr=""/>
            <p:cNvPicPr/>
            <p:nvPr/>
          </p:nvPicPr>
          <p:blipFill>
            <a:blip r:embed="rId2"/>
            <a:stretch/>
          </p:blipFill>
          <p:spPr>
            <a:xfrm rot="20920200">
              <a:off x="547560" y="1612800"/>
              <a:ext cx="3672000" cy="28749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24" name="Group 10"/>
          <p:cNvGrpSpPr/>
          <p:nvPr/>
        </p:nvGrpSpPr>
        <p:grpSpPr>
          <a:xfrm>
            <a:off x="5024520" y="1153440"/>
            <a:ext cx="4063320" cy="4228200"/>
            <a:chOff x="5024520" y="1153440"/>
            <a:chExt cx="4063320" cy="4228200"/>
          </a:xfrm>
        </p:grpSpPr>
        <p:pic>
          <p:nvPicPr>
            <p:cNvPr id="125" name="Picture 7" descr="http://www.anzacday.org.au/history/ww1/images/ww1main.jpg"/>
            <p:cNvPicPr/>
            <p:nvPr/>
          </p:nvPicPr>
          <p:blipFill>
            <a:blip r:embed="rId3"/>
            <a:stretch/>
          </p:blipFill>
          <p:spPr>
            <a:xfrm rot="518400">
              <a:off x="5219280" y="1413000"/>
              <a:ext cx="3673440" cy="28731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26" name="WordArt 8"/>
            <p:cNvSpPr txBox="1"/>
            <p:nvPr/>
          </p:nvSpPr>
          <p:spPr>
            <a:xfrm rot="463200">
              <a:off x="5148000" y="4365720"/>
              <a:ext cx="338436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4-191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558000" y="1128600"/>
            <a:ext cx="3393720" cy="5052960"/>
            <a:chOff x="558000" y="1128600"/>
            <a:chExt cx="3393720" cy="5052960"/>
          </a:xfrm>
        </p:grpSpPr>
        <p:sp>
          <p:nvSpPr>
            <p:cNvPr id="131" name="WordArt 5"/>
            <p:cNvSpPr txBox="1"/>
            <p:nvPr/>
          </p:nvSpPr>
          <p:spPr>
            <a:xfrm rot="21228600">
              <a:off x="900000" y="522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39-194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32" name="Picture 6" descr="http://content.answers.com/main/content/wp/en-commons/thumb/d/df/300px-WW2_TitlePicture_For_Wikipedia_Article.jpg"/>
            <p:cNvPicPr/>
            <p:nvPr/>
          </p:nvPicPr>
          <p:blipFill>
            <a:blip r:embed="rId2"/>
            <a:stretch/>
          </p:blipFill>
          <p:spPr>
            <a:xfrm rot="21227400">
              <a:off x="759960" y="1266840"/>
              <a:ext cx="2770200" cy="3889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33" name="Group 10"/>
          <p:cNvGrpSpPr/>
          <p:nvPr/>
        </p:nvGrpSpPr>
        <p:grpSpPr>
          <a:xfrm>
            <a:off x="4777200" y="1185480"/>
            <a:ext cx="3396600" cy="4296960"/>
            <a:chOff x="4777200" y="1185480"/>
            <a:chExt cx="3396600" cy="4296960"/>
          </a:xfrm>
        </p:grpSpPr>
        <p:pic>
          <p:nvPicPr>
            <p:cNvPr id="134" name="Picture 7" descr="http://uk.geocities.com/ww2project2002/_borders/yourcountryneedsyou.jpg"/>
            <p:cNvPicPr/>
            <p:nvPr/>
          </p:nvPicPr>
          <p:blipFill>
            <a:blip r:embed="rId3"/>
            <a:stretch/>
          </p:blipFill>
          <p:spPr>
            <a:xfrm rot="440400">
              <a:off x="5292360" y="1341360"/>
              <a:ext cx="2666880" cy="3527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35" name="WordArt 8"/>
            <p:cNvSpPr txBox="1"/>
            <p:nvPr/>
          </p:nvSpPr>
          <p:spPr>
            <a:xfrm rot="418200">
              <a:off x="4787640" y="4941360"/>
              <a:ext cx="301788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37" name="WordArt 3"/>
          <p:cNvSpPr txBox="1"/>
          <p:nvPr/>
        </p:nvSpPr>
        <p:spPr>
          <a:xfrm>
            <a:off x="2195640" y="333360"/>
            <a:ext cx="49687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Modern Britai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38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45 - 20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39" name="Group 9"/>
          <p:cNvGrpSpPr/>
          <p:nvPr/>
        </p:nvGrpSpPr>
        <p:grpSpPr>
          <a:xfrm>
            <a:off x="639720" y="1482840"/>
            <a:ext cx="3319920" cy="4650840"/>
            <a:chOff x="639720" y="1482840"/>
            <a:chExt cx="3319920" cy="4650840"/>
          </a:xfrm>
        </p:grpSpPr>
        <p:sp>
          <p:nvSpPr>
            <p:cNvPr id="140" name="WordArt 5"/>
            <p:cNvSpPr txBox="1"/>
            <p:nvPr/>
          </p:nvSpPr>
          <p:spPr>
            <a:xfrm rot="21173400">
              <a:off x="899640" y="5084280"/>
              <a:ext cx="301788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Elizabeth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53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41" name="Picture 6" descr="http://imagecache2.allposters.com/images/pic/MMPH/263831~Queen-Elizabeth-II-Posters.jpg"/>
            <p:cNvPicPr/>
            <p:nvPr/>
          </p:nvPicPr>
          <p:blipFill>
            <a:blip r:embed="rId2"/>
            <a:stretch/>
          </p:blipFill>
          <p:spPr>
            <a:xfrm rot="21190800">
              <a:off x="826920" y="1628280"/>
              <a:ext cx="2648160" cy="33130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42" name="Group 10"/>
          <p:cNvGrpSpPr/>
          <p:nvPr/>
        </p:nvGrpSpPr>
        <p:grpSpPr>
          <a:xfrm>
            <a:off x="5204880" y="1213560"/>
            <a:ext cx="3205800" cy="4111560"/>
            <a:chOff x="5204880" y="1213560"/>
            <a:chExt cx="3205800" cy="4111560"/>
          </a:xfrm>
        </p:grpSpPr>
        <p:pic>
          <p:nvPicPr>
            <p:cNvPr id="143" name="Picture 7" descr=""/>
            <p:cNvPicPr/>
            <p:nvPr/>
          </p:nvPicPr>
          <p:blipFill>
            <a:blip r:embed="rId3"/>
            <a:stretch/>
          </p:blipFill>
          <p:spPr>
            <a:xfrm rot="407400">
              <a:off x="5867280" y="1341000"/>
              <a:ext cx="2355840" cy="331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44" name="WordArt 8"/>
            <p:cNvSpPr txBox="1"/>
            <p:nvPr/>
          </p:nvSpPr>
          <p:spPr>
            <a:xfrm rot="385800">
              <a:off x="5219640" y="4723920"/>
              <a:ext cx="30178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Here and now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46" name="WordArt 3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Now it's tim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for you to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o a Timelin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11"/>
          <p:cNvGrpSpPr/>
          <p:nvPr/>
        </p:nvGrpSpPr>
        <p:grpSpPr>
          <a:xfrm>
            <a:off x="250920" y="3068640"/>
            <a:ext cx="8642160" cy="720720"/>
            <a:chOff x="250920" y="3068640"/>
            <a:chExt cx="8642160" cy="720720"/>
          </a:xfrm>
        </p:grpSpPr>
        <p:sp>
          <p:nvSpPr>
            <p:cNvPr id="149" name="Line 4"/>
            <p:cNvSpPr/>
            <p:nvPr/>
          </p:nvSpPr>
          <p:spPr>
            <a:xfrm>
              <a:off x="250920" y="3429000"/>
              <a:ext cx="8642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"/>
            <p:cNvSpPr/>
            <p:nvPr/>
          </p:nvSpPr>
          <p:spPr>
            <a:xfrm>
              <a:off x="39528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6"/>
            <p:cNvSpPr/>
            <p:nvPr/>
          </p:nvSpPr>
          <p:spPr>
            <a:xfrm>
              <a:off x="8748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8"/>
            <p:cNvSpPr/>
            <p:nvPr/>
          </p:nvSpPr>
          <p:spPr>
            <a:xfrm>
              <a:off x="226836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6732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435600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Line 13"/>
          <p:cNvSpPr/>
          <p:nvPr/>
        </p:nvSpPr>
        <p:spPr>
          <a:xfrm flipH="1">
            <a:off x="394920" y="2276640"/>
            <a:ext cx="2890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4"/>
          <p:cNvSpPr/>
          <p:nvPr/>
        </p:nvSpPr>
        <p:spPr>
          <a:xfrm flipV="1">
            <a:off x="6804000" y="3716280"/>
            <a:ext cx="432000" cy="12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5"/>
          <p:cNvSpPr/>
          <p:nvPr/>
        </p:nvSpPr>
        <p:spPr>
          <a:xfrm>
            <a:off x="6227640" y="2565360"/>
            <a:ext cx="5763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6"/>
          <p:cNvSpPr/>
          <p:nvPr/>
        </p:nvSpPr>
        <p:spPr>
          <a:xfrm flipV="1">
            <a:off x="4932360" y="3645000"/>
            <a:ext cx="28728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7"/>
          <p:cNvSpPr/>
          <p:nvPr/>
        </p:nvSpPr>
        <p:spPr>
          <a:xfrm>
            <a:off x="8459640" y="227664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8"/>
          <p:cNvSpPr/>
          <p:nvPr/>
        </p:nvSpPr>
        <p:spPr>
          <a:xfrm flipV="1">
            <a:off x="3059280" y="3716280"/>
            <a:ext cx="86328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6659640" y="1197000"/>
            <a:ext cx="1297080" cy="19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"/>
          <p:cNvSpPr/>
          <p:nvPr/>
        </p:nvSpPr>
        <p:spPr>
          <a:xfrm flipV="1">
            <a:off x="8244000" y="3716280"/>
            <a:ext cx="7308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1"/>
          <p:cNvSpPr/>
          <p:nvPr/>
        </p:nvSpPr>
        <p:spPr>
          <a:xfrm flipH="1">
            <a:off x="2340000" y="1341360"/>
            <a:ext cx="71280" cy="158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2"/>
          <p:cNvSpPr/>
          <p:nvPr/>
        </p:nvSpPr>
        <p:spPr>
          <a:xfrm>
            <a:off x="4211640" y="2133720"/>
            <a:ext cx="14292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27"/>
          <p:cNvSpPr txBox="1"/>
          <p:nvPr/>
        </p:nvSpPr>
        <p:spPr>
          <a:xfrm>
            <a:off x="7596360" y="1628640"/>
            <a:ext cx="136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00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66" name="Group 43"/>
          <p:cNvGrpSpPr/>
          <p:nvPr/>
        </p:nvGrpSpPr>
        <p:grpSpPr>
          <a:xfrm>
            <a:off x="250920" y="1268280"/>
            <a:ext cx="1368360" cy="1932120"/>
            <a:chOff x="250920" y="1268280"/>
            <a:chExt cx="1368360" cy="1932120"/>
          </a:xfrm>
        </p:grpSpPr>
        <p:sp>
          <p:nvSpPr>
            <p:cNvPr id="167" name="WordArt 23"/>
            <p:cNvSpPr txBox="1"/>
            <p:nvPr/>
          </p:nvSpPr>
          <p:spPr>
            <a:xfrm>
              <a:off x="250920" y="1268280"/>
              <a:ext cx="136836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Normans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68" name="Picture 33" descr="http://www.lookingglassreview.com/assets/images/Battle_of_Hastings_Double_Take.jpg"/>
            <p:cNvPicPr/>
            <p:nvPr/>
          </p:nvPicPr>
          <p:blipFill>
            <a:blip r:embed="rId2"/>
            <a:srcRect l="0" t="11294" r="0" b="7297"/>
            <a:stretch/>
          </p:blipFill>
          <p:spPr>
            <a:xfrm>
              <a:off x="755640" y="2276640"/>
              <a:ext cx="731880" cy="9237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69" name="Group 44"/>
          <p:cNvGrpSpPr/>
          <p:nvPr/>
        </p:nvGrpSpPr>
        <p:grpSpPr>
          <a:xfrm>
            <a:off x="395280" y="189000"/>
            <a:ext cx="2808360" cy="971640"/>
            <a:chOff x="395280" y="189000"/>
            <a:chExt cx="2808360" cy="971640"/>
          </a:xfrm>
        </p:grpSpPr>
        <p:sp>
          <p:nvSpPr>
            <p:cNvPr id="170" name="WordArt 24"/>
            <p:cNvSpPr txBox="1"/>
            <p:nvPr/>
          </p:nvSpPr>
          <p:spPr>
            <a:xfrm>
              <a:off x="1835280" y="26028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Middl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ge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71" name="Picture 34" descr="http://www.historyonthenet.com/shop/images/Posters/ap12.jpg"/>
            <p:cNvPicPr/>
            <p:nvPr/>
          </p:nvPicPr>
          <p:blipFill>
            <a:blip r:embed="rId3"/>
            <a:stretch/>
          </p:blipFill>
          <p:spPr>
            <a:xfrm>
              <a:off x="395280" y="189000"/>
              <a:ext cx="1328760" cy="97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72" name="Group 46"/>
          <p:cNvGrpSpPr/>
          <p:nvPr/>
        </p:nvGrpSpPr>
        <p:grpSpPr>
          <a:xfrm>
            <a:off x="1042920" y="4508640"/>
            <a:ext cx="2521080" cy="1852560"/>
            <a:chOff x="1042920" y="4508640"/>
            <a:chExt cx="2521080" cy="1852560"/>
          </a:xfrm>
        </p:grpSpPr>
        <p:sp>
          <p:nvSpPr>
            <p:cNvPr id="173" name="WordArt 25"/>
            <p:cNvSpPr txBox="1"/>
            <p:nvPr/>
          </p:nvSpPr>
          <p:spPr>
            <a:xfrm>
              <a:off x="2195640" y="450864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udor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74" name="Picture 35" descr="http://www.jamescumminsbookseller.com/shakespeare.jpg"/>
            <p:cNvPicPr/>
            <p:nvPr/>
          </p:nvPicPr>
          <p:blipFill>
            <a:blip r:embed="rId4"/>
            <a:stretch/>
          </p:blipFill>
          <p:spPr>
            <a:xfrm>
              <a:off x="1042920" y="4653000"/>
              <a:ext cx="1055880" cy="1708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75" name="Group 47"/>
          <p:cNvGrpSpPr/>
          <p:nvPr/>
        </p:nvGrpSpPr>
        <p:grpSpPr>
          <a:xfrm>
            <a:off x="3492360" y="549360"/>
            <a:ext cx="1252800" cy="1512720"/>
            <a:chOff x="3492360" y="549360"/>
            <a:chExt cx="1252800" cy="1512720"/>
          </a:xfrm>
        </p:grpSpPr>
        <p:sp>
          <p:nvSpPr>
            <p:cNvPr id="176" name="WordArt 26"/>
            <p:cNvSpPr txBox="1"/>
            <p:nvPr/>
          </p:nvSpPr>
          <p:spPr>
            <a:xfrm>
              <a:off x="3635280" y="1197000"/>
              <a:ext cx="93528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ivi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77" name="Picture 36" descr="http://www.wilsonsalmanac.com/images2/sep2_great_fire4.jpg"/>
            <p:cNvPicPr/>
            <p:nvPr/>
          </p:nvPicPr>
          <p:blipFill>
            <a:blip r:embed="rId5"/>
            <a:stretch/>
          </p:blipFill>
          <p:spPr>
            <a:xfrm>
              <a:off x="3492360" y="549360"/>
              <a:ext cx="1252800" cy="592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78" name="Group 49"/>
          <p:cNvGrpSpPr/>
          <p:nvPr/>
        </p:nvGrpSpPr>
        <p:grpSpPr>
          <a:xfrm>
            <a:off x="3851280" y="4437000"/>
            <a:ext cx="1728720" cy="2017800"/>
            <a:chOff x="3851280" y="4437000"/>
            <a:chExt cx="1728720" cy="2017800"/>
          </a:xfrm>
        </p:grpSpPr>
        <p:sp>
          <p:nvSpPr>
            <p:cNvPr id="179" name="WordArt 30"/>
            <p:cNvSpPr txBox="1"/>
            <p:nvPr/>
          </p:nvSpPr>
          <p:spPr>
            <a:xfrm>
              <a:off x="4211640" y="558972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Empire &amp;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ea Powe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0" name="Picture 37" descr="http://www.royaldoulton.com/website/media/images/product/pattern/LIMCOM/LIMCOM_16647_v1_m56577569830549020.jpg"/>
            <p:cNvPicPr/>
            <p:nvPr/>
          </p:nvPicPr>
          <p:blipFill>
            <a:blip r:embed="rId6"/>
            <a:stretch/>
          </p:blipFill>
          <p:spPr>
            <a:xfrm>
              <a:off x="3851280" y="4437000"/>
              <a:ext cx="1008000" cy="1008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1" name="Group 48"/>
          <p:cNvGrpSpPr/>
          <p:nvPr/>
        </p:nvGrpSpPr>
        <p:grpSpPr>
          <a:xfrm>
            <a:off x="5219640" y="1557360"/>
            <a:ext cx="1368360" cy="1589040"/>
            <a:chOff x="5219640" y="1557360"/>
            <a:chExt cx="1368360" cy="1589040"/>
          </a:xfrm>
        </p:grpSpPr>
        <p:sp>
          <p:nvSpPr>
            <p:cNvPr id="182" name="WordArt 29"/>
            <p:cNvSpPr txBox="1"/>
            <p:nvPr/>
          </p:nvSpPr>
          <p:spPr>
            <a:xfrm>
              <a:off x="5219640" y="155736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boli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3" name="Picture 38" descr="http://www.primarysourcelearning.org/teach/lq/011/images/abolition3d.gif"/>
            <p:cNvPicPr/>
            <p:nvPr/>
          </p:nvPicPr>
          <p:blipFill>
            <a:blip r:embed="rId7"/>
            <a:stretch/>
          </p:blipFill>
          <p:spPr>
            <a:xfrm>
              <a:off x="5219640" y="2492280"/>
              <a:ext cx="892080" cy="654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4" name="Group 52"/>
          <p:cNvGrpSpPr/>
          <p:nvPr/>
        </p:nvGrpSpPr>
        <p:grpSpPr>
          <a:xfrm>
            <a:off x="5796000" y="4653000"/>
            <a:ext cx="1368360" cy="1989000"/>
            <a:chOff x="5796000" y="4653000"/>
            <a:chExt cx="1368360" cy="1989000"/>
          </a:xfrm>
        </p:grpSpPr>
        <p:sp>
          <p:nvSpPr>
            <p:cNvPr id="185" name="WordArt 31"/>
            <p:cNvSpPr txBox="1"/>
            <p:nvPr/>
          </p:nvSpPr>
          <p:spPr>
            <a:xfrm>
              <a:off x="5796000" y="465300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Victorian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6" name="Picture 39" descr="http://www.weddingspastandpresent.co.uk/gal/data/media/12/scan0003.jpg"/>
            <p:cNvPicPr/>
            <p:nvPr/>
          </p:nvPicPr>
          <p:blipFill>
            <a:blip r:embed="rId8"/>
            <a:srcRect l="0" t="0" r="0" b="3438"/>
            <a:stretch/>
          </p:blipFill>
          <p:spPr>
            <a:xfrm>
              <a:off x="6084720" y="5589720"/>
              <a:ext cx="754200" cy="10522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7" name="Group 51"/>
          <p:cNvGrpSpPr/>
          <p:nvPr/>
        </p:nvGrpSpPr>
        <p:grpSpPr>
          <a:xfrm>
            <a:off x="6227640" y="260280"/>
            <a:ext cx="2505240" cy="833400"/>
            <a:chOff x="6227640" y="260280"/>
            <a:chExt cx="2505240" cy="833400"/>
          </a:xfrm>
        </p:grpSpPr>
        <p:sp>
          <p:nvSpPr>
            <p:cNvPr id="188" name="WordArt 28"/>
            <p:cNvSpPr txBox="1"/>
            <p:nvPr/>
          </p:nvSpPr>
          <p:spPr>
            <a:xfrm>
              <a:off x="6227640" y="404640"/>
              <a:ext cx="1368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9" name="Picture 40" descr="http://www.anzacday.org.au/history/ww1/images/ww1main.jpg"/>
            <p:cNvPicPr/>
            <p:nvPr/>
          </p:nvPicPr>
          <p:blipFill>
            <a:blip r:embed="rId9"/>
            <a:stretch/>
          </p:blipFill>
          <p:spPr>
            <a:xfrm>
              <a:off x="7667640" y="260280"/>
              <a:ext cx="1065240" cy="833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90" name="Group 53"/>
          <p:cNvGrpSpPr/>
          <p:nvPr/>
        </p:nvGrpSpPr>
        <p:grpSpPr>
          <a:xfrm>
            <a:off x="7524720" y="4941720"/>
            <a:ext cx="1368360" cy="1629000"/>
            <a:chOff x="7524720" y="4941720"/>
            <a:chExt cx="1368360" cy="1629000"/>
          </a:xfrm>
        </p:grpSpPr>
        <p:sp>
          <p:nvSpPr>
            <p:cNvPr id="191" name="WordArt 32"/>
            <p:cNvSpPr txBox="1"/>
            <p:nvPr/>
          </p:nvSpPr>
          <p:spPr>
            <a:xfrm>
              <a:off x="7524720" y="4941720"/>
              <a:ext cx="1368360" cy="57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2" name="Picture 42" descr="http://uk.geocities.com/ww2project2002/_borders/yourcountryneedsyou.jpg"/>
            <p:cNvPicPr/>
            <p:nvPr/>
          </p:nvPicPr>
          <p:blipFill>
            <a:blip r:embed="rId10"/>
            <a:stretch/>
          </p:blipFill>
          <p:spPr>
            <a:xfrm>
              <a:off x="7885080" y="5589720"/>
              <a:ext cx="743040" cy="981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94" name="WordArt 3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ecide which pictures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ar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utting where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96" name="WordArt 4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But for 2007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do your own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icture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Things that have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happened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in our past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2400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Norm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66 - 115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55" name="Group 174"/>
          <p:cNvGrpSpPr/>
          <p:nvPr/>
        </p:nvGrpSpPr>
        <p:grpSpPr>
          <a:xfrm>
            <a:off x="952200" y="1574280"/>
            <a:ext cx="2877480" cy="4081320"/>
            <a:chOff x="952200" y="1574280"/>
            <a:chExt cx="2877480" cy="4081320"/>
          </a:xfrm>
        </p:grpSpPr>
        <p:pic>
          <p:nvPicPr>
            <p:cNvPr id="56" name="Picture 170" descr="http://www.lookingglassreview.com/assets/images/Battle_of_Hastings_Double_Take.jpg"/>
            <p:cNvPicPr/>
            <p:nvPr/>
          </p:nvPicPr>
          <p:blipFill>
            <a:blip r:embed="rId2"/>
            <a:srcRect l="0" t="11305" r="0" b="7309"/>
            <a:stretch/>
          </p:blipFill>
          <p:spPr>
            <a:xfrm rot="21180600">
              <a:off x="1116000" y="1700280"/>
              <a:ext cx="2244600" cy="2832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57" name="WordArt 172"/>
            <p:cNvSpPr txBox="1"/>
            <p:nvPr/>
          </p:nvSpPr>
          <p:spPr>
            <a:xfrm rot="21120600">
              <a:off x="1332000" y="4801680"/>
              <a:ext cx="24620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Hasting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58" name="Group 175"/>
          <p:cNvGrpSpPr/>
          <p:nvPr/>
        </p:nvGrpSpPr>
        <p:grpSpPr>
          <a:xfrm>
            <a:off x="4416120" y="1890360"/>
            <a:ext cx="4253400" cy="3612240"/>
            <a:chOff x="4416120" y="1890360"/>
            <a:chExt cx="4253400" cy="3612240"/>
          </a:xfrm>
        </p:grpSpPr>
        <p:pic>
          <p:nvPicPr>
            <p:cNvPr id="59" name="Picture 171" descr="Black and white illustration showing Harold's coronation"/>
            <p:cNvPicPr/>
            <p:nvPr/>
          </p:nvPicPr>
          <p:blipFill>
            <a:blip r:embed="rId3"/>
            <a:stretch/>
          </p:blipFill>
          <p:spPr>
            <a:xfrm rot="755400">
              <a:off x="4716000" y="2276280"/>
              <a:ext cx="3772080" cy="2079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60" name="WordArt 173"/>
            <p:cNvSpPr txBox="1"/>
            <p:nvPr/>
          </p:nvSpPr>
          <p:spPr>
            <a:xfrm rot="789000">
              <a:off x="4433400" y="4498560"/>
              <a:ext cx="3741840" cy="58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yeux Tapestr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70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5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Middle Age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64" name="WordArt 6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154 - 148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65" name="Group 11"/>
          <p:cNvGrpSpPr/>
          <p:nvPr/>
        </p:nvGrpSpPr>
        <p:grpSpPr>
          <a:xfrm>
            <a:off x="395640" y="1459080"/>
            <a:ext cx="4217760" cy="4155840"/>
            <a:chOff x="395640" y="1459080"/>
            <a:chExt cx="4217760" cy="4155840"/>
          </a:xfrm>
        </p:grpSpPr>
        <p:pic>
          <p:nvPicPr>
            <p:cNvPr id="66" name="Picture 8" descr="http://www.historyonthenet.com/shop/images/Posters/ap12.jpg"/>
            <p:cNvPicPr/>
            <p:nvPr/>
          </p:nvPicPr>
          <p:blipFill>
            <a:blip r:embed="rId3"/>
            <a:stretch/>
          </p:blipFill>
          <p:spPr>
            <a:xfrm rot="20986200">
              <a:off x="611280" y="1773000"/>
              <a:ext cx="3786120" cy="2768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67" name="WordArt 9"/>
            <p:cNvSpPr txBox="1"/>
            <p:nvPr/>
          </p:nvSpPr>
          <p:spPr>
            <a:xfrm rot="21057000">
              <a:off x="1641240" y="4792680"/>
              <a:ext cx="223200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Black Deat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34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68" name="Group 12"/>
          <p:cNvGrpSpPr/>
          <p:nvPr/>
        </p:nvGrpSpPr>
        <p:grpSpPr>
          <a:xfrm>
            <a:off x="5414760" y="1409760"/>
            <a:ext cx="3087720" cy="4036680"/>
            <a:chOff x="5414760" y="1409760"/>
            <a:chExt cx="3087720" cy="4036680"/>
          </a:xfrm>
        </p:grpSpPr>
        <p:pic>
          <p:nvPicPr>
            <p:cNvPr id="69" name="Picture 7" descr="http://www.herra.ro/Pictures/Pic_Editura/Henry%20Gilbert%20-%20Robin%20Hood.jpg"/>
            <p:cNvPicPr/>
            <p:nvPr/>
          </p:nvPicPr>
          <p:blipFill>
            <a:blip r:embed="rId4"/>
            <a:srcRect l="0" t="11282" r="0" b="0"/>
            <a:stretch/>
          </p:blipFill>
          <p:spPr>
            <a:xfrm rot="730800">
              <a:off x="5796000" y="1628640"/>
              <a:ext cx="2406600" cy="3097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0" name="WordArt 10"/>
            <p:cNvSpPr txBox="1"/>
            <p:nvPr/>
          </p:nvSpPr>
          <p:spPr>
            <a:xfrm rot="685800">
              <a:off x="5435280" y="4797360"/>
              <a:ext cx="2232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Robin Hood 12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72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Tudo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485 - 1603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74" name="Group 9"/>
          <p:cNvGrpSpPr/>
          <p:nvPr/>
        </p:nvGrpSpPr>
        <p:grpSpPr>
          <a:xfrm>
            <a:off x="464760" y="1176120"/>
            <a:ext cx="3637440" cy="5273640"/>
            <a:chOff x="464760" y="1176120"/>
            <a:chExt cx="3637440" cy="5273640"/>
          </a:xfrm>
        </p:grpSpPr>
        <p:pic>
          <p:nvPicPr>
            <p:cNvPr id="75" name="Picture 5" descr="http://www.jamescumminsbookseller.com/shakespeare.jpg"/>
            <p:cNvPicPr/>
            <p:nvPr/>
          </p:nvPicPr>
          <p:blipFill>
            <a:blip r:embed="rId2"/>
            <a:stretch/>
          </p:blipFill>
          <p:spPr>
            <a:xfrm rot="21067800">
              <a:off x="755280" y="1341000"/>
              <a:ext cx="2448000" cy="3960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6" name="WordArt 7"/>
            <p:cNvSpPr txBox="1"/>
            <p:nvPr/>
          </p:nvSpPr>
          <p:spPr>
            <a:xfrm rot="21105000">
              <a:off x="1042920" y="544500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illiam Shakespear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564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77" name="Group 10"/>
          <p:cNvGrpSpPr/>
          <p:nvPr/>
        </p:nvGrpSpPr>
        <p:grpSpPr>
          <a:xfrm>
            <a:off x="4713120" y="1242000"/>
            <a:ext cx="3851280" cy="4347000"/>
            <a:chOff x="4713120" y="1242000"/>
            <a:chExt cx="3851280" cy="4347000"/>
          </a:xfrm>
        </p:grpSpPr>
        <p:pic>
          <p:nvPicPr>
            <p:cNvPr id="78" name="Picture 6" descr="http://library.ucf.edu/images/rosen/columbus.jpg"/>
            <p:cNvPicPr/>
            <p:nvPr/>
          </p:nvPicPr>
          <p:blipFill>
            <a:blip r:embed="rId3"/>
            <a:stretch/>
          </p:blipFill>
          <p:spPr>
            <a:xfrm rot="434400">
              <a:off x="5435640" y="1412640"/>
              <a:ext cx="2927160" cy="3384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9" name="WordArt 8"/>
            <p:cNvSpPr txBox="1"/>
            <p:nvPr/>
          </p:nvSpPr>
          <p:spPr>
            <a:xfrm rot="407400">
              <a:off x="4730400" y="4854240"/>
              <a:ext cx="3672000" cy="51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hristopher Columbus 149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82" name="WordArt 4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Civil Wa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603 - 171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84" name="Group 12"/>
          <p:cNvGrpSpPr/>
          <p:nvPr/>
        </p:nvGrpSpPr>
        <p:grpSpPr>
          <a:xfrm>
            <a:off x="186840" y="1528200"/>
            <a:ext cx="3853800" cy="4740120"/>
            <a:chOff x="186840" y="1528200"/>
            <a:chExt cx="3853800" cy="4740120"/>
          </a:xfrm>
        </p:grpSpPr>
        <p:sp>
          <p:nvSpPr>
            <p:cNvPr id="85" name="WordArt 6"/>
            <p:cNvSpPr txBox="1"/>
            <p:nvPr/>
          </p:nvSpPr>
          <p:spPr>
            <a:xfrm rot="20664000">
              <a:off x="971640" y="508464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unpowder Plo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86" name="Picture 8" descr="http://www.anglik.net/guyfawkes.jpg"/>
            <p:cNvPicPr/>
            <p:nvPr/>
          </p:nvPicPr>
          <p:blipFill>
            <a:blip r:embed="rId3"/>
            <a:stretch/>
          </p:blipFill>
          <p:spPr>
            <a:xfrm rot="20674200">
              <a:off x="555480" y="1822320"/>
              <a:ext cx="2633760" cy="3129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87" name="Group 13"/>
          <p:cNvGrpSpPr/>
          <p:nvPr/>
        </p:nvGrpSpPr>
        <p:grpSpPr>
          <a:xfrm>
            <a:off x="3870360" y="1330200"/>
            <a:ext cx="4930920" cy="3701880"/>
            <a:chOff x="3870360" y="1330200"/>
            <a:chExt cx="4930920" cy="3701880"/>
          </a:xfrm>
        </p:grpSpPr>
        <p:pic>
          <p:nvPicPr>
            <p:cNvPr id="88" name="Picture 10" descr="http://www.wilsonsalmanac.com/images2/sep2_great_fire4.jpg"/>
            <p:cNvPicPr/>
            <p:nvPr/>
          </p:nvPicPr>
          <p:blipFill>
            <a:blip r:embed="rId4"/>
            <a:stretch/>
          </p:blipFill>
          <p:spPr>
            <a:xfrm rot="454200">
              <a:off x="3995640" y="1628640"/>
              <a:ext cx="4680000" cy="2214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89" name="WordArt 11"/>
            <p:cNvSpPr txBox="1"/>
            <p:nvPr/>
          </p:nvSpPr>
          <p:spPr>
            <a:xfrm rot="440400">
              <a:off x="4427280" y="4008600"/>
              <a:ext cx="367164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reat Fire of Lond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92" name="WordArt 4"/>
          <p:cNvSpPr txBox="1"/>
          <p:nvPr/>
        </p:nvSpPr>
        <p:spPr>
          <a:xfrm>
            <a:off x="1692360" y="333360"/>
            <a:ext cx="5832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Empire &amp; Sea Powe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93" name="WordArt 5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714 - 183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94" name="Group 10"/>
          <p:cNvGrpSpPr/>
          <p:nvPr/>
        </p:nvGrpSpPr>
        <p:grpSpPr>
          <a:xfrm>
            <a:off x="324720" y="1339560"/>
            <a:ext cx="4146480" cy="4463280"/>
            <a:chOff x="324720" y="1339560"/>
            <a:chExt cx="4146480" cy="4463280"/>
          </a:xfrm>
        </p:grpSpPr>
        <p:sp>
          <p:nvSpPr>
            <p:cNvPr id="95" name="WordArt 6"/>
            <p:cNvSpPr txBox="1"/>
            <p:nvPr/>
          </p:nvSpPr>
          <p:spPr>
            <a:xfrm rot="20926200">
              <a:off x="1187280" y="472392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aptain Cook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7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96" name="Picture 7" descr="Captain Cook proclaimed the eastern portion of Australia a British possession"/>
            <p:cNvPicPr/>
            <p:nvPr/>
          </p:nvPicPr>
          <p:blipFill>
            <a:blip r:embed="rId3"/>
            <a:stretch/>
          </p:blipFill>
          <p:spPr>
            <a:xfrm rot="20943600">
              <a:off x="561960" y="1662120"/>
              <a:ext cx="3672000" cy="2852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97" name="Group 11"/>
          <p:cNvGrpSpPr/>
          <p:nvPr/>
        </p:nvGrpSpPr>
        <p:grpSpPr>
          <a:xfrm>
            <a:off x="5545080" y="1423440"/>
            <a:ext cx="3087360" cy="3611880"/>
            <a:chOff x="5545080" y="1423440"/>
            <a:chExt cx="3087360" cy="3611880"/>
          </a:xfrm>
        </p:grpSpPr>
        <p:pic>
          <p:nvPicPr>
            <p:cNvPr id="98" name="Picture 8" descr="http://www.royaldoulton.com/website/media/images/product/pattern/LIMCOM/LIMCOM_16647_v1_m56577569830549020.jpg"/>
            <p:cNvPicPr/>
            <p:nvPr/>
          </p:nvPicPr>
          <p:blipFill>
            <a:blip r:embed="rId4"/>
            <a:stretch/>
          </p:blipFill>
          <p:spPr>
            <a:xfrm rot="413400">
              <a:off x="6084720" y="1557360"/>
              <a:ext cx="237672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99" name="WordArt 9"/>
            <p:cNvSpPr txBox="1"/>
            <p:nvPr/>
          </p:nvSpPr>
          <p:spPr>
            <a:xfrm rot="385200">
              <a:off x="5579640" y="407628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Trafalg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Abolitio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6804000" y="5734080"/>
            <a:ext cx="19065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03" name="Group 10"/>
          <p:cNvGrpSpPr/>
          <p:nvPr/>
        </p:nvGrpSpPr>
        <p:grpSpPr>
          <a:xfrm>
            <a:off x="451080" y="1919520"/>
            <a:ext cx="3579840" cy="3953880"/>
            <a:chOff x="451080" y="1919520"/>
            <a:chExt cx="3579840" cy="3953880"/>
          </a:xfrm>
        </p:grpSpPr>
        <p:sp>
          <p:nvSpPr>
            <p:cNvPr id="104" name="WordArt 5"/>
            <p:cNvSpPr txBox="1"/>
            <p:nvPr/>
          </p:nvSpPr>
          <p:spPr>
            <a:xfrm rot="21105000">
              <a:off x="971640" y="486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lavery...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05" name="Picture 6" descr="http://userwww.sfsu.edu/~rhernand/slavery.gif"/>
            <p:cNvPicPr/>
            <p:nvPr/>
          </p:nvPicPr>
          <p:blipFill>
            <a:blip r:embed="rId2"/>
            <a:stretch/>
          </p:blipFill>
          <p:spPr>
            <a:xfrm rot="21117600">
              <a:off x="610920" y="2133720"/>
              <a:ext cx="3240000" cy="25174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06" name="Group 11"/>
          <p:cNvGrpSpPr/>
          <p:nvPr/>
        </p:nvGrpSpPr>
        <p:grpSpPr>
          <a:xfrm>
            <a:off x="4772520" y="1704240"/>
            <a:ext cx="3787200" cy="3482640"/>
            <a:chOff x="4772520" y="1704240"/>
            <a:chExt cx="3787200" cy="3482640"/>
          </a:xfrm>
        </p:grpSpPr>
        <p:pic>
          <p:nvPicPr>
            <p:cNvPr id="107" name="Picture 7" descr="http://www.primarysourcelearning.org/teach/lq/011/images/abolition3d.gif"/>
            <p:cNvPicPr/>
            <p:nvPr/>
          </p:nvPicPr>
          <p:blipFill>
            <a:blip r:embed="rId3"/>
            <a:stretch/>
          </p:blipFill>
          <p:spPr>
            <a:xfrm rot="308400">
              <a:off x="5219640" y="1844280"/>
              <a:ext cx="324000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08" name="WordArt 9"/>
            <p:cNvSpPr txBox="1"/>
            <p:nvPr/>
          </p:nvSpPr>
          <p:spPr>
            <a:xfrm rot="334800">
              <a:off x="4794120" y="4392720"/>
              <a:ext cx="3600720" cy="620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end of Slavery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100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10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Victori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11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37 - 1901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12" name="Group 9"/>
          <p:cNvGrpSpPr/>
          <p:nvPr/>
        </p:nvGrpSpPr>
        <p:grpSpPr>
          <a:xfrm>
            <a:off x="644760" y="1358640"/>
            <a:ext cx="3283200" cy="4667400"/>
            <a:chOff x="644760" y="1358640"/>
            <a:chExt cx="3283200" cy="4667400"/>
          </a:xfrm>
        </p:grpSpPr>
        <p:sp>
          <p:nvSpPr>
            <p:cNvPr id="113" name="WordArt 5"/>
            <p:cNvSpPr txBox="1"/>
            <p:nvPr/>
          </p:nvSpPr>
          <p:spPr>
            <a:xfrm rot="21256200">
              <a:off x="888480" y="5300280"/>
              <a:ext cx="301788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Victori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14" name="Picture 6" descr="http://www.weddingspastandpresent.co.uk/gal/data/media/12/scan0003.jpg"/>
            <p:cNvPicPr/>
            <p:nvPr/>
          </p:nvPicPr>
          <p:blipFill>
            <a:blip r:embed="rId2"/>
            <a:srcRect l="0" t="0" r="0" b="3447"/>
            <a:stretch/>
          </p:blipFill>
          <p:spPr>
            <a:xfrm rot="21245400">
              <a:off x="826560" y="1483920"/>
              <a:ext cx="2630520" cy="3673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15" name="Group 10"/>
          <p:cNvGrpSpPr/>
          <p:nvPr/>
        </p:nvGrpSpPr>
        <p:grpSpPr>
          <a:xfrm>
            <a:off x="4620240" y="1488240"/>
            <a:ext cx="3799080" cy="3758760"/>
            <a:chOff x="4620240" y="1488240"/>
            <a:chExt cx="3799080" cy="3758760"/>
          </a:xfrm>
        </p:grpSpPr>
        <p:pic>
          <p:nvPicPr>
            <p:cNvPr id="116" name="Picture 7" descr="http://www.fao.org/docrep/T0829E/T0829E00.GIF"/>
            <p:cNvPicPr/>
            <p:nvPr/>
          </p:nvPicPr>
          <p:blipFill>
            <a:blip r:embed="rId3"/>
            <a:stretch/>
          </p:blipFill>
          <p:spPr>
            <a:xfrm rot="517800">
              <a:off x="5076360" y="1711440"/>
              <a:ext cx="3168720" cy="25588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17" name="WordArt 8"/>
            <p:cNvSpPr txBox="1"/>
            <p:nvPr/>
          </p:nvSpPr>
          <p:spPr>
            <a:xfrm rot="471600">
              <a:off x="4643280" y="4437000"/>
              <a:ext cx="345780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Industrial Revolu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16:18:17Z</dcterms:created>
  <dc:creator>Julie</dc:creator>
  <dc:description/>
  <dc:language>en-US</dc:language>
  <cp:lastModifiedBy>RomaK</cp:lastModifiedBy>
  <dcterms:modified xsi:type="dcterms:W3CDTF">2015-09-04T09:27:16Z</dcterms:modified>
  <cp:revision>43</cp:revision>
  <dc:subject/>
  <dc:title>British History</dc:title>
</cp:coreProperties>
</file>