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3FE2-F2E9-4327-8CC3-6B7B4F353DCA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4FE-83BB-472D-ADE1-380E6E1A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415-B506-44F8-B6B0-5375BF87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C8D-E0C1-423C-9084-271ED551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EBB-78F2-4282-91C1-901900A7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C1FA-B4FA-4EA8-AE27-F6B07BCF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8DB2-E482-45FF-BEC0-4AA7FE0C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AC78-D31C-4976-A1A0-5FB3003F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4683-A0DF-4EFC-8007-5B4BDA37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A763-EAF0-4163-A157-DDD4752D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6F67-A874-47D8-B52D-EBD77813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B700-0C69-47CA-9EC7-76E5476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DCE-14F0-4E58-88E6-08C87EE4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4208-55EC-4B95-827D-FF9398B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956A-CEFB-4BBF-9487-93A693C6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B76B-8041-4CBB-BB86-60FE90A6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9EED-84E3-4EE1-BF68-FC82BFDF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E875-6B66-423A-8272-CED04BDB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1009-60DA-486E-82E0-54165A00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0572-B46A-4D4F-99D6-B130E850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C14D-8E98-462B-9236-24E85509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40EE9-8C72-4C11-B0F3-74E2BB7B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C21D2-F4BE-4AFA-8E10-D848866F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7F9-BAB0-4A39-AEAE-7844A48C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87844-964B-4D15-BCAC-FC989FD2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2EF5-7B6B-4497-BAF8-87CF47B8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30B90-2818-4226-AE5D-4D84B39A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A56F7-7EC8-4099-AD5B-2A03CB75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2BB2-62F6-4779-9AF7-0868229B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2C4AB-E97B-4522-85E1-3F761956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0558-43C3-42D0-92DF-AF3E3272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4526B-B7B9-413F-B171-8544A0D9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33506-542D-4A2A-BE42-24565944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21080-42DD-44B5-B877-151990D8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138-0F2E-48F6-B6B9-90F4D9DF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B0D8C-CF5B-4A5D-BF64-4761E60D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6C1F6-4F16-415D-B087-3F8CF036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18D49-B78A-4D89-996C-36A0D721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02C49-57D6-4AA5-9612-0F55C6B2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F866-ACEC-4F1C-AE6A-5F31E83C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52B8C-6A43-4637-8C1B-CF7D91D7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0ED1-59E9-46EF-87E9-4D561D04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6DEA8-1FD0-4947-8F00-CA81E86C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4877-DBE2-4116-B0B3-80BFF346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2E4-7422-457F-95C7-AE2D2F2D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8BE-E530-43B8-BE01-6EB694BB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52C-A036-4C3A-A959-18A86478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85D-D3C7-4C2B-B650-B4642D4D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536-35B7-4F8F-B590-7D247FFF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079B-4F12-4CAB-898D-827E3EFA8908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4F1A-DEC7-4FEC-8BD4-7840CAF0E5E4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FE70-5082-4C2A-8451-BCD8D0EE56BB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D06B-0416-4442-A8FE-8926687DB9EE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2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12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RomaK</cp:lastModifiedBy>
  <dcterms:modified xsi:type="dcterms:W3CDTF">2015-09-04T09:26:23Z</dcterms:modified>
  <cp:revision>113</cp:revision>
  <dc:subject/>
  <dc:title>Bhopal Gas Tragedy</dc:title>
</cp:coreProperties>
</file>