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126E-C336-48DB-9C03-3CB4D3A8F8F5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BBD-5D9D-44AE-BB16-999A43B0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189-B1B9-4889-9A21-B2F2870B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DD1-F5CE-45A2-B17E-04F63A76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F264-C401-442F-97CC-3723D274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255F-59AF-4061-B1C2-0C6C58E9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EE78-B231-4442-9AB1-17C361D2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4E61-A6B2-4EC1-8210-5DAC9A5D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717D-C90F-49C8-A986-31B6F4AF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D853-277E-4436-9535-F3394AD7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4F88-F0D8-46B0-AAAD-5120F5B8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E3C3-D73B-4AF9-BC96-CC762E54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D2B-E717-475D-A5CD-4A613007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3E72-8BA4-438F-B9C4-F274B176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1BF6-08C6-4BF6-9059-83891965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00EF-C7EC-4F92-9679-E90B9A9D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0692-7B3F-437E-942D-B3B132FE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A9FF-E345-48B3-BEAC-FA0136E5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CE08-4E8C-41FD-8C23-2D09885C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2710-2A5D-4FED-B6B5-6982ECD1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5E832-3DEF-4979-B1A0-327F6C42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74888-E3C5-4774-888C-D4D70C25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8ED8-EA91-4399-8BA0-98936937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84A-DFCB-409A-A4F6-8C7039CE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36B0-6308-4FDD-8B13-E2FC759A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32FDA-9902-4455-9F3E-7A878A73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743F-B632-42E9-B092-FFB4792D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11524-3888-4F34-8CDF-B44F1A9A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44F5E-AD85-4BF7-8F04-B2DC0FB6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30D5-B681-449B-B3E8-2EB0AC27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A2982-A842-4B61-89D4-7166AE040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A8D26-E30B-493E-A778-A116835F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EA6A8-DB1B-4E17-9B3C-E6B5C2F2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C05E-5EE1-4069-B347-16B918CE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16D-BB90-4DED-8041-3D93FCB6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9F105-52E2-4CC1-802C-B143F4A7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26D7-2F8D-4A3F-80FB-D0A87B2F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30930-6B06-4812-80C9-CA47C9A4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D700D-2C0B-4F6D-917C-E26D62A9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922EA-1472-45B3-996A-30FCE767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158EB-D130-4DF0-9F23-6FCDC693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F8B7-D31A-473A-8279-AE1B4A20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FB355-3E37-497C-9C43-09B4AF2F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5CB30-C32E-42C5-9E55-BCE7AD1C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7B5-2EBC-41C9-9527-9FF3B774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5EF-5C9B-4E5F-B2E9-09EF28F7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1E2-9D81-4D57-AD0E-95305BE9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411-7967-4FEB-B1BF-0AA0BBAE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931-48D4-4074-8DA3-27FF3407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E565-DF80-4DBC-AFE4-E24BFBCF967E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2E80-61D6-4094-86A1-8AAFDBF567F8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3485-07B0-419F-8157-7AAC54BF3F9B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5E6F-65AA-4109-B551-7DBE9EAD0544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2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12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RomaK</cp:lastModifiedBy>
  <dcterms:modified xsi:type="dcterms:W3CDTF">2015-09-04T09:26:23Z</dcterms:modified>
  <cp:revision>113</cp:revision>
  <dc:subject/>
  <dc:title>Bhopal Gas Tragedy</dc:title>
</cp:coreProperties>
</file>