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7E24D-46FD-476D-A6D0-6DFAA81FB2D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Ancient Mexico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Mayan, Incan, and Aztec Civilization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By: Mrs. Meredith Sander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cient Mex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an, Incan, and Aztec Civil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: Mrs. Meredith San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Aztec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is ancient tribe wandered for many year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Founded their greatest city, Tenochtitlan (this is the site of modern Mexico City)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y belonged to a large family group called calpolli, meaning “big house” or clan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zt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ncient tribe wandered for many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d their greatest city, Tenochtitlan (this is the site of modern Mexico C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belonged to a large family group called calpolli, meaning “big house” or cl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Calpolli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Each calpolli elected its own officials to run its business. They were a true democracy and voted on decisions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Women did not have a vote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Calpolli expected all of its able-bodied men to fight any wars.  The men considered it an honor to fight for their clan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 family arranged for all marriages.  A young person could only marry someone outside the clan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A woman who married now joined her husband’s clan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pol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calpolli elected its own officials to run its business. They were a true democracy and voted on deci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men did not have a vo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polli expected all of its able-bodied men to fight any wars.  The men considered it an honor to fight for their cl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amily arranged for all marriages.  A young person could only marry someone outside the cl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oman who married now joined her husband’s cl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Times New Roman"/>
              </a:rPr>
              <a:t>Th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Times New Roman"/>
              </a:rPr>
              <a:t>End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eotihuaca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4 well-known buildings in this ancient city: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Pyramid of the Su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Pyramid of the Mo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emple of Quetzalcoatl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emple of the Jaguar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otihua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well-known buildings in this ancient cit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 of the Mo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le of Quetzalcoat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le of the Jagu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Olmec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y were the first major Indian Tribe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Olmec means “rubber people.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wo major cities were San Lorenzo and La Venta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y used a form of picture writing; had a number system and calendar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lm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ere the first major Indian Trib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lmec means “rubber peopl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major cities were San Lorenzo and La Ven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used a form of picture writing; had a number system and calend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Rubber people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 Aztec Indians gave the tribe this name because the Olmecs supplied them with sap from rubber trees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bber peopl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ztec Indians gave the tribe this name because the Olmecs supplied them with sap from rubber tre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Maya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Appearance: Short in height, straight black hair, painted their bodies, had tattoos, valued crossed-eyes and flat forehead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ree eras: pre-classic, classic, and post-classic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Mayans used glyphs in their writing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earance: Short in height, straight black hair, painted their bodies, had tattoos, valued crossed-eyes and flat foreh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eras: pre-classic, classic, and post-clas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ans used glyphs in their wri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Glyph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ir glyph writing (picture) expanded largely using about 800 different glyphs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y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glyph writing (picture) expanded largely using about 800 different glyp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Mayan Relig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Worshipped many different god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Each day, month, city, and occupation had its special god or goddes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Had a variety of religious festivals and celebration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Most ceremonies includes human sacrifice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In many ceremonies, the priests cut themselves to get blood to present to the god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ir religion taught that there were 13 layers of heaven above the earth &amp; 9 underworlds below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Worshipped the dead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an Reli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shipped many different g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day, month, city, and occupation had its special god or godd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a variety of religious festivals and celeb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ceremonies includes human sacrif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any ceremonies, the priests cut themselves to get blood to present to the g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religion taught that there were 13 layers of heaven above the earth &amp; 9 underworlds be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shipped the d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Human Sacrifice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 Mayas had 3 methods of giving the human sacrifices: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 priests took the victim to the altar at the temple and cut the heart out of the living victim and presented it to the god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 priests tied the victim to a wooden pole and threw spears and arrows at the victim’s chest in the area of the heart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y threw the victim into a sacred well.  If they survived the fall and did not drown, the priests pulled them back out of the well; believing that the god spared that victim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Sacrif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yas had 3 methods of giving the human sacrific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iests took the victim to the altar at the temple and cut the heart out of the living victim and presented it to the g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iests tied the victim to a wooden pole and threw spears and arrows at the victim’s chest in the area of the he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threw the victim into a sacred well.  If they survived the fall and did not drown, the priests pulled them back out of the well; believing that the god spared that victi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Worshipping the Dead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y believed the dead became one with the gods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y worshipped their ancestors at many religious ceremonies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y also built pyramids over the sacred remains of their dead rulers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shipping the D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believed the dead became one with the go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orshipped their ancestors at many religious ceremon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lso built pyramids over the sacred remains of their dead rul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24DA-B877-4C6A-9572-43C5482F6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020B-DC5E-4DE3-ACFA-B4185129F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10375B-7243-4244-BF61-B79E946D7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41C3D1-F44B-4BDB-9B2F-476D079E0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C18FF2-794A-4262-BF55-1DA455D17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045664-7B39-4DC9-8F91-26674913B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D11C3B-9BD0-4CBB-8420-879FFF37C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177F5E-1258-4105-A153-2EF8BEF10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11C35B-4F9C-419B-B1D6-F0322E971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580E10-75B9-431F-90B0-CF1DD4C2B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027D88-BC0A-435E-8CE4-564E60E9B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09D7FB-581B-481A-AF3F-CB7B80359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BBC7-2BD0-467D-8247-8A580EFA0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D7A2E6-911F-4673-8F25-1FBECF7E0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D4AB6F-34E7-4587-AE20-486F867F2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140DB4-730C-4C52-92B4-2E21BC2DA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3D91BD-2979-4D83-A9B8-E62E82CED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C52CE1-F92B-46D1-9E2E-2067E6784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F218B6-5DD7-410A-BE2F-85448AE4F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00C033-F128-46BD-8D62-BD10A2689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BCB6B9-58B3-481B-9D6E-BF7072D51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C3D167-7C04-4068-BB3F-CF60E0505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B5E1DF-8445-4AD2-B568-93CEE8CB0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D61F-30A9-4D1B-8A00-1AEF46812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6AAA75-CD52-4CA9-B8BD-78084F70E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4DA1C3-025E-47BE-A0C0-718147CDF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25B4EF-3FAF-45B2-841D-A52718EBB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16FB26-A861-496E-8254-37D506C21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99BAD4-CF34-4852-B7A1-6A40998B6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EB6E4D-0280-4F15-A3BA-E9BCAD7E3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B13688-B51F-4C30-9426-E1353AD5D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EB5B31-68D8-41CE-9A17-BADDAD8D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3DE294-CA66-4684-B111-843ADA97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D55FF4-79F6-4515-983E-B373C8D96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37B60-1EFA-40E7-832F-6B7EF7465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1D11F4-2201-4E69-9EA5-C6337ED9E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62B98A-EF33-4DEE-A536-A99D037A2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39026F-42D9-4060-A3C0-1BA048456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7B71B2-B81E-406A-9E8E-02A947242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15BAA0-EA57-42C0-95A3-B18768092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FE0750-EA84-44D1-9F00-9A5EDB03F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51F750-D398-4FA9-8827-5891F0B03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4F45A9-60F5-4DFD-AC51-389C049B8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5CFEF8-024E-414F-80CF-14FF9A718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D98A01-5898-4B63-BB4D-E07C62833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D1904-8681-4593-8F0A-B8FD1E436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6F82C4-814B-48D0-BFA5-71B952359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426B2C-B4C7-4806-99A1-03639E01A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467FCD-41DD-45CF-A9BA-E3664CBB5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A9FE87-9ABD-45EA-A299-B2412DED9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7A4614-4B3C-4D23-BFF1-7079FCD80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C09219-EF0D-4799-B620-78FD8E710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E8E3A8-5D7B-4741-A7E2-EF906E35F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347E6A-94A3-445D-9E39-4EF7EF7DF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178E5E-5AAE-4375-984D-F64FC0AD3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C35640-8C21-4E30-ABF1-A60A5C21C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156EE-BE7C-4DB3-99AD-0431E57F8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279595-4A78-4D3D-AFB0-C50E91E74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A8BF1D-0D14-410E-9E97-46694EFD3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47E8A7-194C-478D-A2B7-BA3DF5324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CAA9DD-8B57-4359-ABF7-79CEE340E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078BC9-00C9-4D8F-9B8E-46CD8FD65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14ACB7-9E88-4791-8421-3DFC543D0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4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0D15D6-97BA-4C34-88E0-9B3722DAB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A0A16E-3020-4981-AC09-81AD063C3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72230D-0D0D-4ED3-889C-628A7FDA2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5BA07E-AD79-4C5E-B555-0C20FD5F0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4FD68-B773-4F98-9AC4-F35919DC7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A389BB-E50E-4BEB-9B5B-243C36A98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410187-35B8-41A2-BD2F-E4D6BF2CC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56D678-47C6-4107-A89E-A73494BF7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4E2118-ACCA-45B5-8544-F0117FF8F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D8B8B2-ACF1-4140-A14E-E4DB81950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CF839D-3877-467D-940F-BE437032F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B06B73-16E6-40A8-ACDD-F94F075A0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E244CF-2EDF-4AEE-A896-47ACDE079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A405D6-C57C-4DA6-93DD-C7CA33A69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649CE-8E06-4816-BB62-E23EE75AC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B796B-298B-4D42-8B8A-D96405E5D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45D4C-1895-4198-876A-3F950E064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3EFB-C3A9-4C58-A0C5-01151FB94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E1631-3ED5-4FD9-AC81-6FFFED704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F8787-2548-40CE-87F1-D75C38884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6B293-0F38-486F-B667-2CF558D51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96E9E-135A-43ED-A136-5CBA773E5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30C50-72FF-4424-A753-775194284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7635B-6B13-43E2-98C9-4044897A2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4DEDB-72F1-4EB9-90FE-5D4A90804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07470-3D1D-4B16-8C95-FD6E6974A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EB2E1-1A17-42DA-A409-77688CDE5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C24DB-A7BF-4339-9701-27B6982C9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3E87-036E-4AFF-9499-B4C0F8A6C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88E31-FF2D-41BC-AC54-76985E444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3A818-7EBE-4A22-8997-C0F4889B7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C1944-6CCE-4569-86FD-6D11ADB98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018B6-D0F4-48D2-B233-CAF67976C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C8EEC-951E-4BC9-8F7B-EF4A41D86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FFB53-C825-473B-A46D-B0B7E7066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7D8FB-3E55-4EAA-9B16-7DE8755DF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26B6F-90A2-43AB-BBDA-67FBF5A2C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30200-0F17-422D-9AAA-EDD1AA5A0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E3027C-5EE8-4739-A6CA-DCB992A7C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ED5D-86FD-4957-A2EE-C23BA5B53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205F8-4666-425F-88D2-D95A322B5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F059C-6DD4-4C7A-92B6-DDC8E0D3B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E1D77-59BE-4CC8-B74E-DFC25B862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BBED4-725D-4C5D-B8F6-2EF9DB6F2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7F4338-FF18-4739-A89B-4BE928E4C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5A23D-0971-4261-8EDC-59D460A63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29C8C-E092-4B23-AF43-54F022BC8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C893B-E076-42A0-B958-16E7F1959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B2C38-9427-496C-B5D8-424E7BBCE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5610DB-5D81-49FC-B2C6-E59408C39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ED46-3C1C-4D44-8F2D-411544C31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6F7B7D-315E-486D-8C84-94242AFCD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C6948C-F18C-419B-A7B2-ED2294F56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CC47BF-9BAE-496D-8B38-CE44CD102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92CC02-634B-4C3E-A97B-FE2762537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73BB09-0B54-4B15-8CC9-FB8544229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20C80E-F621-4F44-A0A9-558A4659B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4913E7-9280-44D4-AF53-46EA45CAE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69567A-45D9-4669-ABE1-6E47DE2BD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4FD885-8A06-4338-9392-A025AE045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390C36-139B-430C-A358-62C50F39A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4E16-BBEF-466F-A505-226984847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283882-CE05-4780-BD0B-396766658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ECA52A-A027-4386-8AB5-4317886E9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7F0DB7-BFC5-4489-B202-6FE2D3A1C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7CD566-3B66-46F1-A8E9-7EAEE27F6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7900EE-5C8D-484B-A81B-7BDE72572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3BBAB4-9BB6-4F6C-BB83-53AF38E9A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8EE835-3DFB-4AF8-AF44-A173544F6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27D7B9-DAAE-4A08-9316-60CA72FCE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35E5C2-CEDB-498D-80C5-94E5FA2EB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3B1452-16F4-4053-ACE2-97E410326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0AB6-CB84-416D-AFC0-BC7B5CA3A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FD6A06-D125-416C-86EF-B228D2800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B8D23A-DD2D-4B6C-B7B9-71D9D3413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E7B22E-8FDC-4A31-B136-450B020AE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51348F-7084-4985-BB10-26B62801D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9C72BB-242E-47C0-AE80-14F58D688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B71848-90AB-4B46-AEF8-155B03F93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6A6780-1440-4A2E-BD85-9CD243CD4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9A7E8B-1121-4F9F-A7B6-2D71D2379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958E7D-B022-44F1-8F04-460F63795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048D9F-5FE7-4659-9493-88BDA627B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14B8-05D1-416F-9E6B-A1D79E328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E21BF0-3856-4EEA-B80A-136911C91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D8F744-0283-4323-815D-B72BFA272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9FDA80-CA49-438A-BA39-EEE2D4417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4BC78A-6A77-4ED0-BBD0-7A984AF58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DD7CC6-798D-4EE9-935D-33AC58B94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8A8794-3982-48EA-AB8C-2A7C4EB17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E3865A-0319-471F-99CB-A3985989C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B2C5BA-E4AD-4E14-BB98-951580701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30A761-6049-4572-9CD2-3B7D44133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9ADD52-CDA9-4FD7-B49B-4436C6650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2E68-34EE-46EE-9756-076CBD694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4AFA81-7FD3-4F02-B724-E7B766E45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447846-968B-491C-B724-C78F2633C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C31CA6-3158-4403-92F2-E4605A124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84DC80-E044-42C6-9B73-C06A49CCD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816053-31D6-4C51-9B4D-DA2741425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A4ACEB-349C-4DB4-BDEE-76B03219F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2C70D9-E08C-40AC-B6B2-C2D653F4E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3793ED-5244-489E-81C2-A63322B94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01422C-8AC8-4C9F-9E32-99247F55A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BA5B54-72DB-4870-9834-E6041FE0E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2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19574-235A-4D15-8D5B-8DD484904847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462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463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65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66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67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68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69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470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dt" idx="28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29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 type="sldNum" idx="30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13659-D5CA-4CBC-82A7-5E49CF9350E4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513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514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16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17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18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19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20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521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3637B-2C2A-4BDB-B4B3-60E310C5C7B7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3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564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565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67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68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69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70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71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572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dt" idx="34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 type="ftr" idx="35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 type="sldNum" idx="36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40AAC-1106-4EAB-B432-1A9A621DDC5C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4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615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616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7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18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19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0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1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2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623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 type="dt" idx="37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 type="ftr" idx="38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 type="sldNum" idx="39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7E417-37E7-434F-92A4-48743D158521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5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666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667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8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69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70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71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72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73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674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 type="dt" idx="40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 type="ftr" idx="41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 type="sldNum" idx="42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04266-75AA-47BC-90E2-901F3AB58A07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32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52" name="Rectangle 28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3" name="Rectangle 9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13127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4" name="Rectangle 10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55" name="Picture 11" descr="Astonbnr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Rectangle 14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7" name="Rectangle 12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8" name="Rectangle 13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9" name="Line 18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0" name="Line 19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404640" y="3357720"/>
              <a:ext cx="103320" cy="136440"/>
            </a:xfrm>
            <a:custGeom>
              <a:avLst/>
              <a:gdLst/>
              <a:ahLst/>
              <a:rect l="l" t="t" r="r" b="b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" name="Freeform 26"/>
            <p:cNvSpPr/>
            <p:nvPr/>
          </p:nvSpPr>
          <p:spPr>
            <a:xfrm>
              <a:off x="546120" y="3362400"/>
              <a:ext cx="112680" cy="13320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86901-6952-4F5A-A9A9-003C237FCBDD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05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06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08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09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0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1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2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13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377C4-E255-4693-9F0E-25EDFC7C65B5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56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57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59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0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1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2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3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64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1980C-8D9E-4F47-9401-DF233B90F5D1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207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208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0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1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2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3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4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15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3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4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5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96039-59C9-43F9-9E7F-282D132355E4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258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259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63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64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66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6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7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8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926C3-B408-42CC-ADC9-02D201D03F7D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309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310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12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13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14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15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16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317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19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0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1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760CE-7FEA-4626-9ABA-37FE308BBD82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360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361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63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64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65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66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67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368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2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3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24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148F6-AFFF-4F86-8BD4-A78050E01369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411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412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14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15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16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17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18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419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25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6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27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E2B65-9C74-4B9D-8EBE-A2BCD8A8B69E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57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767088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0000"/>
                </a:solidFill>
                <a:latin typeface="Bookman Old Style"/>
              </a:rPr>
              <a:t>Ancient Mexico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subTitle"/>
          </p:nvPr>
        </p:nvSpPr>
        <p:spPr>
          <a:xfrm>
            <a:off x="1142640" y="3886200"/>
            <a:ext cx="80010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333333"/>
                </a:solidFill>
                <a:latin typeface="Monotype Corsiva"/>
              </a:rPr>
              <a:t>Mayan, Incan, and Aztec Civilizations</a:t>
            </a:r>
            <a:endParaRPr b="0" lang="en-US" sz="65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Monotype Corsiva"/>
              </a:rPr>
              <a:t>By: Mrs. Meredith Sanders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" dur="500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" dur="500"/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ztec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his ancient tribe wandered for many years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Founded their greatest city, Tenochtitlan (this is the site of modern Mexico City)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hey belonged to a large family group called </a:t>
            </a:r>
            <a:r>
              <a:rPr b="0" i="1" lang="en-US" sz="2500" spc="-1" strike="noStrike">
                <a:solidFill>
                  <a:srgbClr val="333333"/>
                </a:solidFill>
                <a:latin typeface="Arial"/>
              </a:rPr>
              <a:t>calpolli</a:t>
            </a: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, meaning “big house” or clan.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57" name="Picture 5" descr="bl00158_"/>
          <p:cNvPicPr/>
          <p:nvPr/>
        </p:nvPicPr>
        <p:blipFill>
          <a:blip r:embed="rId1"/>
          <a:stretch/>
        </p:blipFill>
        <p:spPr>
          <a:xfrm>
            <a:off x="4419720" y="2590920"/>
            <a:ext cx="4724280" cy="33969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7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67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Arial"/>
              </a:rPr>
              <a:t>Calpoll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12574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Each calpolli elected its own officials to run its business. They were a true democracy and voted on decisions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Women did not have a vote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Calpolli expected all of its able-bodied men to fight any wars.  The men considered it an honor to fight for their clan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The family arranged for all marriages.  A young person could only marry someone outside the clan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A woman who married now joined her husband’s clan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7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7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7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7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219320" y="609480"/>
            <a:ext cx="7797600" cy="17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Monotype Corsiva"/>
              </a:rPr>
              <a:t>Th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subTitle"/>
          </p:nvPr>
        </p:nvSpPr>
        <p:spPr>
          <a:xfrm>
            <a:off x="19303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333333"/>
                </a:solidFill>
                <a:latin typeface="Monotype Corsiva"/>
              </a:rPr>
              <a:t>End</a:t>
            </a:r>
            <a:endParaRPr b="0" lang="en-US" sz="10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otihuaca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334120" y="1600200"/>
            <a:ext cx="369576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4 well-known buildings in this ancient city: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27" name="Picture 5" descr="j0232310"/>
          <p:cNvPicPr/>
          <p:nvPr/>
        </p:nvPicPr>
        <p:blipFill>
          <a:blip r:embed="rId1"/>
          <a:stretch/>
        </p:blipFill>
        <p:spPr>
          <a:xfrm>
            <a:off x="1257480" y="2413080"/>
            <a:ext cx="4076640" cy="3049560"/>
          </a:xfrm>
          <a:prstGeom prst="rect">
            <a:avLst/>
          </a:prstGeom>
          <a:ln w="0">
            <a:noFill/>
          </a:ln>
        </p:spPr>
      </p:pic>
      <p:sp>
        <p:nvSpPr>
          <p:cNvPr id="728" name="Rectangle 8"/>
          <p:cNvSpPr/>
          <p:nvPr/>
        </p:nvSpPr>
        <p:spPr>
          <a:xfrm>
            <a:off x="5562720" y="2743200"/>
            <a:ext cx="2884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Pyramid of the Sun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Text Box 9"/>
          <p:cNvSpPr/>
          <p:nvPr/>
        </p:nvSpPr>
        <p:spPr>
          <a:xfrm>
            <a:off x="5334120" y="3733920"/>
            <a:ext cx="32763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Pyramid of the Moon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Text Box 10"/>
          <p:cNvSpPr/>
          <p:nvPr/>
        </p:nvSpPr>
        <p:spPr>
          <a:xfrm>
            <a:off x="5105520" y="4572000"/>
            <a:ext cx="40384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emple of Quetzalcoatl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Text Box 11"/>
          <p:cNvSpPr/>
          <p:nvPr/>
        </p:nvSpPr>
        <p:spPr>
          <a:xfrm>
            <a:off x="5334120" y="5486400"/>
            <a:ext cx="35049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emple of the Jaguars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7" dur="500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lmec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hey were the first major Indian Tribe.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Olmec means “rubber people.”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wo major cities were San Lorenzo and La Venta.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hey used a form of picture writing; had a number system and calendar.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34" name="Picture 5" descr="na01441_"/>
          <p:cNvPicPr/>
          <p:nvPr/>
        </p:nvPicPr>
        <p:blipFill>
          <a:blip r:embed="rId1"/>
          <a:stretch/>
        </p:blipFill>
        <p:spPr>
          <a:xfrm>
            <a:off x="6934320" y="609480"/>
            <a:ext cx="1890720" cy="213372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6" descr="j0215761"/>
          <p:cNvPicPr/>
          <p:nvPr/>
        </p:nvPicPr>
        <p:blipFill>
          <a:blip r:embed="rId2"/>
          <a:stretch/>
        </p:blipFill>
        <p:spPr>
          <a:xfrm>
            <a:off x="5334120" y="3352680"/>
            <a:ext cx="3124080" cy="26733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8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3" dur="500"/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8" dur="500"/>
                                        <p:tgtEl>
                                          <p:spTgt spid="7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3" dur="500"/>
                                        <p:tgtEl>
                                          <p:spTgt spid="7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8" dur="500"/>
                                        <p:tgtEl>
                                          <p:spTgt spid="7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ubber people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521964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The Aztec Indians gave the tribe this name because the Olmecs supplied them with sap from rubber trees.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38" name="Picture 5" descr="na01441_"/>
          <p:cNvPicPr/>
          <p:nvPr/>
        </p:nvPicPr>
        <p:blipFill>
          <a:blip r:embed="rId1"/>
          <a:stretch/>
        </p:blipFill>
        <p:spPr>
          <a:xfrm>
            <a:off x="1338120" y="1981080"/>
            <a:ext cx="364680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aya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5257800" y="1981080"/>
            <a:ext cx="3772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Appearance: Short in height, straight black hair, painted their bodies, had tattoos, valued crossed-eyes and flat foreheads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hree eras: pre-classic, classic, and post-classic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Mayans used glyphs in their writing.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41" name="Picture 7" descr="bd08510_"/>
          <p:cNvPicPr/>
          <p:nvPr/>
        </p:nvPicPr>
        <p:blipFill>
          <a:blip r:embed="rId1"/>
          <a:stretch/>
        </p:blipFill>
        <p:spPr>
          <a:xfrm>
            <a:off x="1447920" y="2438280"/>
            <a:ext cx="3276360" cy="30736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0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7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7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7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lyph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765828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eir glyph writing (picture) expanded largely using about 800 different glyph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44" name="Picture 1028" descr="sy01455_"/>
          <p:cNvPicPr/>
          <p:nvPr/>
        </p:nvPicPr>
        <p:blipFill>
          <a:blip r:embed="rId1"/>
          <a:stretch/>
        </p:blipFill>
        <p:spPr>
          <a:xfrm>
            <a:off x="4343400" y="3689280"/>
            <a:ext cx="1789200" cy="316872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1029" descr="an02038_"/>
          <p:cNvPicPr/>
          <p:nvPr/>
        </p:nvPicPr>
        <p:blipFill>
          <a:blip r:embed="rId2"/>
          <a:stretch/>
        </p:blipFill>
        <p:spPr>
          <a:xfrm>
            <a:off x="1600200" y="380880"/>
            <a:ext cx="1495440" cy="1733760"/>
          </a:xfrm>
          <a:prstGeom prst="rect">
            <a:avLst/>
          </a:prstGeom>
          <a:ln w="0">
            <a:noFill/>
          </a:ln>
        </p:spPr>
      </p:pic>
      <p:pic>
        <p:nvPicPr>
          <p:cNvPr id="746" name="Picture 1030" descr="an02044_"/>
          <p:cNvPicPr/>
          <p:nvPr/>
        </p:nvPicPr>
        <p:blipFill>
          <a:blip r:embed="rId3"/>
          <a:stretch/>
        </p:blipFill>
        <p:spPr>
          <a:xfrm>
            <a:off x="7010280" y="380880"/>
            <a:ext cx="1689120" cy="1658880"/>
          </a:xfrm>
          <a:prstGeom prst="rect">
            <a:avLst/>
          </a:prstGeom>
          <a:ln w="0">
            <a:noFill/>
          </a:ln>
        </p:spPr>
      </p:pic>
      <p:pic>
        <p:nvPicPr>
          <p:cNvPr id="747" name="Picture 1031" descr="an02045_"/>
          <p:cNvPicPr/>
          <p:nvPr/>
        </p:nvPicPr>
        <p:blipFill>
          <a:blip r:embed="rId4"/>
          <a:stretch/>
        </p:blipFill>
        <p:spPr>
          <a:xfrm>
            <a:off x="1219320" y="4724280"/>
            <a:ext cx="1827000" cy="196236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1032" descr="an02041_"/>
          <p:cNvPicPr/>
          <p:nvPr/>
        </p:nvPicPr>
        <p:blipFill>
          <a:blip r:embed="rId5"/>
          <a:stretch/>
        </p:blipFill>
        <p:spPr>
          <a:xfrm>
            <a:off x="7162920" y="5410080"/>
            <a:ext cx="1457280" cy="9543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ayan Relig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orshipped many different god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ach day, month, city, and occupation had its special god or goddes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Had a variety of religious festivals and celebra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Most ceremonies includes human sacrific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n many ceremonies, the priests cut themselves to get blood to present to the god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ir religion taught that there were 13 layers of heaven above the earth &amp; 9 underworlds below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orshipped the dea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1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0" fill="hold"/>
                                        <p:tgtEl>
                                          <p:spTgt spid="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0" fill="hold"/>
                                        <p:tgtEl>
                                          <p:spTgt spid="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0" fill="hold"/>
                                        <p:tgtEl>
                                          <p:spTgt spid="7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0" fill="hold"/>
                                        <p:tgtEl>
                                          <p:spTgt spid="7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0" fill="hold"/>
                                        <p:tgtEl>
                                          <p:spTgt spid="7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0" fill="hold"/>
                                        <p:tgtEl>
                                          <p:spTgt spid="7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0" fill="hold"/>
                                        <p:tgtEl>
                                          <p:spTgt spid="7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0" fill="hold"/>
                                        <p:tgtEl>
                                          <p:spTgt spid="7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0" fill="hold"/>
                                        <p:tgtEl>
                                          <p:spTgt spid="7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0" fill="hold"/>
                                        <p:tgtEl>
                                          <p:spTgt spid="7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0" fill="hold"/>
                                        <p:tgtEl>
                                          <p:spTgt spid="7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0" fill="hold"/>
                                        <p:tgtEl>
                                          <p:spTgt spid="7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0" fill="hold"/>
                                        <p:tgtEl>
                                          <p:spTgt spid="7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0" fill="hold"/>
                                        <p:tgtEl>
                                          <p:spTgt spid="7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uman Sacrific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7886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33"/>
                </a:solidFill>
                <a:latin typeface="Arial"/>
              </a:rPr>
              <a:t>The Mayas had 3 methods of giving the human sacrifices: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priests took the victim to the altar at the temple and cut the heart out of the living victim and presented it to the god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priests tied the victim to a wooden pole and threw spears and arrows at the victim’s chest in the area of the heart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y threw the victim into a sacred well.  If they survived the fall and did not drown, the priests pulled them back out of the well; believing that the god spared that victim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5" dur="500"/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0" dur="500"/>
                                        <p:tgtEl>
                                          <p:spTgt spid="7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5" dur="500"/>
                                        <p:tgtEl>
                                          <p:spTgt spid="7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0" dur="500"/>
                                        <p:tgtEl>
                                          <p:spTgt spid="7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orshipping the Dea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ey believed the dead became one with the god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ey worshipped their ancestors at many religious ceremonie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ey also built pyramids over the sacred remains of their dead ruler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2T15:29:38Z</dcterms:created>
  <dc:creator>Pam Tucker</dc:creator>
  <dc:description/>
  <dc:language>en-US</dc:language>
  <cp:lastModifiedBy>RomaK</cp:lastModifiedBy>
  <dcterms:modified xsi:type="dcterms:W3CDTF">2015-09-04T09:25:54Z</dcterms:modified>
  <cp:revision>15</cp:revision>
  <dc:subject/>
  <dc:title>Ancient Mexico</dc:title>
</cp:coreProperties>
</file>