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9AE2-B574-4F1A-BEEF-64C8510E83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ncient Mexico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, Incan, and Aztec Civilization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By: Mrs. Meredith Sande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ient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, Incan, and Aztec Civil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Meredith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ztec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is ancient tribe wandered for many yea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Founded their greatest city, Tenochtitlan (this is the site of modern Mexico City)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belonged to a large family group called calpolli, meaning “big house” or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zt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cient tribe wandered for many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their greatest city, Tenochtitlan (this is the site of modern Mexico C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elonged to a large family group called calpolli, meaning “big house” or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Calpolli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Each calpolli elected its own officials to run its business. They were a true democracy and voted on decision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men did not have a vote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Calpolli expected all of its able-bodied men to fight any wars.  The men considered it an honor to fight for their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family arranged for all marriages.  A young person could only marry someone outside the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 woman who married now joined her husband’s clan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pol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alpolli elected its own officials to run its business. They were a true democracy and voted on deci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men did not have a vo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polli expected all of its able-bodied men to fight any wars.  The men considered it an honor to fight for their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y arranged for all marriages.  A young person could only marry someone outside the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man who married now joined her husband’s c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Times New Roman"/>
              </a:rPr>
              <a:t>En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otihuaca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4 well-known buildings in this ancient city: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yramid of the Su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yramid of the Mo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mple of Quetzalcoatl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emple of the Jaguar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otihua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well-known buildings in this ancient c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 of the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le of Quetzalcoa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le of the Jagu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Olmec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were the first major Indian Tribe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Olmec means “rubber people.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wo major cities were San Lorenzo and La Venta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used a form of picture writing; had a number system and calendar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m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the first major Indian Tri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mec means “rubber peopl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ajor cities were San Lorenzo and La Ven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d a form of picture writing; had a number system and calend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Rubber people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Aztec Indians gave the tribe this name because the Olmecs supplied them with sap from rubber tree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bber peop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ztec Indians gave the tribe this name because the Olmecs supplied them with sap from rubber tr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ppearance: Short in height, straight black hair, painted their bodies, had tattoos, valued crossed-eyes and flat forehea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ree eras: pre-classic, classic, and post-classic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s used glyphs in their writing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arance: Short in height, straight black hair, painted their bodies, had tattoos, valued crossed-eyes and flat foreh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eras: pre-classic, classic, and post-clas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s used glyphs in their wri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Glyph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ir glyph writing (picture) expanded largely using about 800 different glyph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glyph writing (picture) expanded largely using about 800 different gly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ayan Relig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ed many different go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Each day, month, city, and occupation had its special god or goddes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Had a variety of religious festivals and celebration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ost ceremonies includes human sacrifice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In many ceremonies, the priests cut themselves to get blood to present to the god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ir religion taught that there were 13 layers of heaven above the earth &amp; 9 underworlds below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ed the dea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an Reli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ed many different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ay, month, city, and occupation had its special god or godd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 variety of religious festivals and celeb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eremonies includes 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ny ceremonies, the priests cut themselves to get blood to present to the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religion taught that there were 13 layers of heaven above the earth &amp; 9 underworlds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ed the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Mayas had 3 methods of giving the human sacrifices: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priests took the victim to the altar at the temple and cut the heart out of the living victim and presented it to the god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priests tied the victim to a wooden pole and threw spears and arrows at the victim’s chest in the area of the heart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yas had 3 methods of giving the human sacrifi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ests took the victim to the altar at the temple and cut the heart out of the living victim and presented it to the g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ests tied the victim to a wooden pole and threw spears and arrows at the victim’s chest in the area of 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orshipping the Dead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believed the dead became one with the god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worshipped their ancestors at many religious ceremonie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y also built pyramids over the sacred remains of their dead rulers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hipping the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elieved the dead became one with the g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rshipped their ancestors at many religious ceremon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lso built pyramids over the sacred remains of their dead rul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C427-157A-43DE-9A2F-5F16ADDBD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145E-9EBB-4B47-A882-02707E52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8C031-917B-4556-93DF-E2B58E66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C23DD-94C8-42A1-ABFC-CB01D685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7EA6A-BBD4-4CBC-815C-72EF073F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4C94C-6756-4552-8457-81110C26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6E4BC-6FF8-4B0B-BF9D-40BAE9B4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5745F-00D8-476B-8334-1FFF0407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314CC-8C26-4A5A-BC4D-0166AA84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01B02D-969C-4B5D-9B04-FEF69C791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81F91-2C8F-4B9B-A379-F9AD6CCDB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9E1B0-6FEC-476F-A45F-B0FB0F3A9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BFBC-C9D6-4DF9-8B9B-3DFE6F1E0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D8C260-E2A4-440C-9D5F-232CAFBE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D9B53-5F48-49BC-9F59-66786BA3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DB901-6099-4508-B754-5F64A462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16EBC-F340-44B2-AE4F-809273D1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66328-6A1A-4CA9-A1DE-141E6635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36970-0605-49FE-84D4-93C4674D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D694AD-5E6B-41CB-B2E6-F725D000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E90B74-3DB5-401D-BD31-FD64FCA4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C64BB-D006-47DD-B1A8-B75B5E34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611CDE-9DDD-43A8-AA45-5102F261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A546-67E7-450D-9760-9055816BA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C13C58-81F7-4E57-9AD3-B9B1092C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B5BEBB-E5F6-4EC6-85B7-806BFBD0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0FB3C-B424-4CC2-9212-400A5A0B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4CB6A-C562-4BA0-A56F-A351970E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90BC9-3DF2-4346-9CBB-6831A083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82965-CF5B-4BF8-AADE-EC1D6308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79E26-999C-4AC5-A82C-B1FA186A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B9248-A5EE-4238-8A69-A607B7DE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22E02-53E8-4181-89ED-F2DF8AEE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5B8CC-ECEE-4FE6-BCE1-0C64C9C8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CE24-D325-4B84-AE9C-C3FC7960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7FFBD-AB75-4262-AFDD-1BD8ADCE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50EBB-BFE7-4567-98F6-B34F7FCC9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EECEA-370C-4F9D-88A2-E9F94AEA8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2B7EA4-F628-480C-98E8-4D764DA88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AEE5A8-907D-4EF0-BD62-45B35DCC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98DD0-D911-41E7-9966-7C9E9172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3B61F5-7831-41B1-93ED-CB8FD48B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D273CA-4293-4FFE-8372-36975D2B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E27E56-D55F-4B49-8175-3F2DB349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AC7E6E-01BD-49BA-A8C7-A2FABD80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7C71-6653-4538-930B-1E2256DA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98A073-8323-42E9-A67D-BF356B70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23E577-F16C-40E4-B204-745DBFFE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E278AF-4AFD-437F-A3F0-BCF835B3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6188A5-5A55-4CD8-97B4-ABB6A88C0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97DBE8-FC9C-4BA5-B314-071948E51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59F969-6EA9-4944-8707-EECB7A5AB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7900C7-B0F3-4C27-9CB9-5A553FC7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724CC9-FFF1-4380-973A-BCE904D1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AA7BB8-AD51-42D3-96D6-19CDD6F7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0022B8-E848-4271-ABC1-1520255E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B0DB-8885-4D50-9ED7-0C252E0D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8CB9E9-271B-4E12-B359-C07241A1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76AE0D-ACAE-4E8E-AB44-67BF0B64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E955EB-23CF-4AB0-9AF0-99EF439A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5A33F6-99DB-46EF-A853-0E9A524F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2A44F6-9634-47C3-AB7F-59F68D88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EBD396-E165-4520-B79C-18605A442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1E13F0-1203-4895-9E57-B73C99FA0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6AD9C0-38B8-482A-99B0-EFDD6A10A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836C6A-C8BB-4AC8-BEA1-CB0508F6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5B39DA-A044-49A9-BE26-8750289E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FB1C-ADD8-498C-9DE1-404A3621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093061-ABCC-4842-80DA-65B1B9BC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A06A16-C9A6-47D4-B9CB-8D6D4BE3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3DA640-2279-45A2-AB8C-8EDCC673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D07FAD-B6FA-4CCE-91C4-2094C795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7ABFD6-30C2-4658-B1CD-43D07471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136C54-85E6-4236-AFD0-A1F2A40A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89BE54-B6A3-4877-874A-16912131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12A6DC-8F6B-4E39-8E61-1180BC600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ACCFD9-D696-4E1D-A85F-7B5C04A9E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0024-2D53-465A-AD6B-CF6B2080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3DEE-B98D-4E72-8972-25E4F2C7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1069-0F31-4232-A6C2-8E2B624A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89EE-716C-4D5D-9FBD-616ECFAE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A3F1-ACC6-4F4A-AF99-9A50B5C0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31F5-99B7-4029-ADF8-B8600B0F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1B45-4DA2-4F54-AE29-DF35B7F3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ACC1-F7F7-4355-83FF-26F9A88B1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7B67-123C-49B7-9273-B1802C85C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926BA-F602-4176-9A85-C1F77FB2B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C4C40-6852-4C83-81C5-1D19AD0E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BA7A9-7461-492F-A9F8-921005A2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FBE32-6CBE-4C0B-9A49-D793CBC9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716F4-418B-4A4A-B2A8-9DAA9DCF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881C-1019-4696-B64B-16B63E5F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870A1-53B3-41AA-AF51-223756D2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BEFD0-D30B-4AFF-9A47-2E205CC3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A3F89-F494-46CE-876A-9328A3F8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DBA63-D7C9-4649-95AE-5530CAB2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20CE1-F335-417A-8B66-1B2C27C2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96A20-C612-4768-82F8-3A4189C52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74CAC-74FB-4238-A686-74C36833B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5EA1A-5C67-482D-B0F8-1EDF6BD3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58751-12E3-4958-9C76-B9A3B7FC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87CF5-C9C3-4124-9F96-5714A4BB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A1D2-DBEB-4579-BA7E-6590E001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16A7B-3869-4ADB-AA93-15FDFDD2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7F97C-0816-45D0-9768-E1989B0D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F4E12-FCE2-4E19-9CB1-F3304E07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4818A-1BDB-4990-8255-1787E633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4F5B9-E27D-4396-B963-5BF6846D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8589C-5698-4679-9037-8F463604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C7DB6-FF75-4487-8010-633BD5F6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2CAC1-671E-4AD1-8178-8033D535E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4787B-6262-4FD6-9971-8F9952E41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DED0D-F108-47CF-BF0B-B4A44E7A9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295C-653E-4C52-A656-7165E1E2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6378B-25BF-4F43-9D26-568B2774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4E275-41D5-40C6-873B-58B802D2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41885-E25F-4BD7-988C-F21B3C61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FC1F0-1AAC-433B-AB99-B6A44F85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A97D4-FAD2-4EC0-8E62-07FA6B0B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21151-CDDF-456D-AB57-49913CE8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30840-38A8-43EB-AFF0-A3237254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5CECE-8CEE-44F2-B28D-91573C65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07294-06F2-4515-AF97-37336F80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8EB69-B295-4173-8BDB-4671ABA08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4E78-03F2-4FD8-B4FE-8A917D1E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45608-5D52-474E-B918-5B600D1FC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363B5-7F21-4702-9846-96E2807B7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C89A2-E5A1-4D13-8FB8-B84439FB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6DDB9-25E4-4F9A-B403-6D067226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66BCD-F3DD-42B4-8832-31BBEDF0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2A3B9-70EB-4A00-95D6-AE4E5F03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8BE95-9A8F-426C-B953-D291B404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475EF-4424-418B-B1D3-5CE1ECAD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958FC-F2E2-41F0-BF01-65A961C8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B9244-B3E1-4C67-9771-56D153CE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7240-9506-4E88-B1F2-B571A572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E6FEF-463A-4BC7-883E-EBE9E730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BFD23-F8B1-4FDA-993F-7E628ED03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327FA-346E-4263-9DF8-093FA3325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42EF9-50CC-4BBA-95E5-30A34CDB9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994CB-8DA7-449F-BDBC-FFB6EAF0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4EAA1-9958-42DB-875B-5E12B33D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1153E-6192-4F69-87CF-6EE47C48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F63E0-5F3E-45F6-97F8-4A7DDBA8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E8A2B-4EE9-4F2A-9B05-56356FC5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D4C37-BE4D-4E80-8C07-FAF79E1C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3138-32B8-4F57-914C-953BC332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4FDFC-26B7-4B35-93D2-FCBCF481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B3022-20B6-4464-B1A1-F86A1518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30D2A-9F79-4995-A173-4F393EE8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8C24B-B45E-41A4-8CF7-8D6F84BD5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AEB2F-FEC3-40EE-98DA-685EFB15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01EFF-E2E9-425C-9E33-E26F8B8DB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BCE97-BA34-472E-B023-6034C979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B3343-FC63-4FFC-8D21-1904BC33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E918B-B18D-49B6-9B36-8F015337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47B2F-E4C0-415D-9795-B744BC31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E2B1-9B6E-4117-9F18-DA7E5405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84181-CECF-429C-B664-437B8304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8E55F-A789-48A7-935C-63FE5622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8E6FB-23A3-4BD0-BFC1-B3870B9F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D946D-EB9E-4446-A48C-89761B13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C770C-837C-40EF-B0C3-6526102C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107B0-70B3-4A93-8C27-F51EFCDB6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B32C0-C6A3-41DE-B1AB-FB46EC28B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65B40-BA3F-41D8-9DC3-E822D7403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8E2C20-2178-490F-9D39-17B5BBA6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AF729-E78B-4577-A26D-0A24F8F8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C89F-0E5F-4E76-A0C5-9D1785E76328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462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463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5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6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7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8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9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70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28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29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0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54DA-70BE-4113-8236-7FE299936206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513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14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6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7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8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9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20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21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27BB-A4B5-4498-8908-A178DA81E0C9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564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65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7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8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9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0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1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72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34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35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36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D049-3745-4047-B98C-99CF0E74A842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615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616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8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9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0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1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2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23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B9F6-2893-4DFA-9553-B6C6FB046E1D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666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667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69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0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1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2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3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7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40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41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42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AA42-B932-451F-8BF3-D2298BC8DA50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3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28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9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10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11" descr="Astonbnr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14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13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8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9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26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E60C-DABD-4142-A8CC-4D70E6A138A8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05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06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0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1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13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C3EB-A629-4522-AD7B-4334143B9B6C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56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57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1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2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6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42FC-4299-494A-AABF-9153F7981CE4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207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08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0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1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2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3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15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B355-29D4-4AC7-A0AB-F555C7706ABF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258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59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3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4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66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09DA-C984-4994-BA49-7137BC6DCB9B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309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310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3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4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5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6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17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0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1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F0A2-DCB9-4ED4-B928-6DBBD1860DC0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360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361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3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4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5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6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7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68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3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4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287E-2401-41D7-B2DD-B70E8FBC9E32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41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41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19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5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6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7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61C4-A0A2-4828-9EF9-38FD05941169}" type="slidenum">
              <a:rPr b="0" lang="en-U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767088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Bookman Old Style"/>
              </a:rPr>
              <a:t>Ancient Mexic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3333"/>
                </a:solidFill>
                <a:latin typeface="Monotype Corsiva"/>
              </a:rPr>
              <a:t>Mayan, Incan, and Aztec Civilizations</a:t>
            </a:r>
            <a:endParaRPr b="0" lang="en-US" sz="65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Monotype Corsiva"/>
              </a:rPr>
              <a:t>By: Mrs. Meredith Sanders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is ancient tribe wandered for many year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Founded their greatest city, Tenochtitlan (this is the site of modern Mexico City)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belonged to a large family group called </a:t>
            </a:r>
            <a:r>
              <a:rPr b="0" i="1" lang="en-US" sz="2500" spc="-1" strike="noStrike">
                <a:solidFill>
                  <a:srgbClr val="333333"/>
                </a:solidFill>
                <a:latin typeface="Arial"/>
              </a:rPr>
              <a:t>calpolli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, meaning “big house” or clan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57" name="Picture 5" descr="bl00158_"/>
          <p:cNvPicPr/>
          <p:nvPr/>
        </p:nvPicPr>
        <p:blipFill>
          <a:blip r:embed="rId1"/>
          <a:stretch/>
        </p:blipFill>
        <p:spPr>
          <a:xfrm>
            <a:off x="4419720" y="2590920"/>
            <a:ext cx="4724280" cy="33969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</a:rPr>
              <a:t>Calpoll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2574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ach calpolli elected its own officials to run its business. They were a true democracy and voted on decisions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Women did not have a vote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alpolli expected all of its able-bodied men to fight any wars.  The men considered it an honor to fight for their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e family arranged for all marriages.  A young person could only marry someone outside the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 woman who married now joined her husband’s clan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97600" cy="17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Monotype Corsiva"/>
              </a:rPr>
              <a:t>Th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333333"/>
                </a:solidFill>
                <a:latin typeface="Monotype Corsiva"/>
              </a:rPr>
              <a:t>End</a:t>
            </a:r>
            <a:endParaRPr b="0" lang="en-US" sz="10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otihuac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334120" y="1600200"/>
            <a:ext cx="36957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4 well-known buildings in this ancient city: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27" name="Picture 5" descr="j0232310"/>
          <p:cNvPicPr/>
          <p:nvPr/>
        </p:nvPicPr>
        <p:blipFill>
          <a:blip r:embed="rId1"/>
          <a:stretch/>
        </p:blipFill>
        <p:spPr>
          <a:xfrm>
            <a:off x="1257480" y="2413080"/>
            <a:ext cx="4076640" cy="3049560"/>
          </a:xfrm>
          <a:prstGeom prst="rect">
            <a:avLst/>
          </a:prstGeom>
          <a:ln w="0">
            <a:noFill/>
          </a:ln>
        </p:spPr>
      </p:pic>
      <p:sp>
        <p:nvSpPr>
          <p:cNvPr id="728" name="Rectangle 8"/>
          <p:cNvSpPr/>
          <p:nvPr/>
        </p:nvSpPr>
        <p:spPr>
          <a:xfrm>
            <a:off x="5562720" y="2743200"/>
            <a:ext cx="2884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Pyramid of the Sun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Text Box 9"/>
          <p:cNvSpPr/>
          <p:nvPr/>
        </p:nvSpPr>
        <p:spPr>
          <a:xfrm>
            <a:off x="5334120" y="3733920"/>
            <a:ext cx="32763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Pyramid of the Moon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Text Box 10"/>
          <p:cNvSpPr/>
          <p:nvPr/>
        </p:nvSpPr>
        <p:spPr>
          <a:xfrm>
            <a:off x="5105520" y="4572000"/>
            <a:ext cx="40384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emple of Quetzalcoatl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Text Box 11"/>
          <p:cNvSpPr/>
          <p:nvPr/>
        </p:nvSpPr>
        <p:spPr>
          <a:xfrm>
            <a:off x="5334120" y="5486400"/>
            <a:ext cx="35049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emple of the Jaguar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lme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were the first major Indian Tribe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Olmec means “rubber people.”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wo major cities were San Lorenzo and La Venta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ey used a form of picture writing; had a number system and calendar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34" name="Picture 5" descr="na01441_"/>
          <p:cNvPicPr/>
          <p:nvPr/>
        </p:nvPicPr>
        <p:blipFill>
          <a:blip r:embed="rId1"/>
          <a:stretch/>
        </p:blipFill>
        <p:spPr>
          <a:xfrm>
            <a:off x="6934320" y="609480"/>
            <a:ext cx="1890720" cy="213372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6" descr="j0215761"/>
          <p:cNvPicPr/>
          <p:nvPr/>
        </p:nvPicPr>
        <p:blipFill>
          <a:blip r:embed="rId2"/>
          <a:stretch/>
        </p:blipFill>
        <p:spPr>
          <a:xfrm>
            <a:off x="5334120" y="3352680"/>
            <a:ext cx="3124080" cy="2673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3" dur="5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8" dur="500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3" dur="500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8" dur="500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ubber people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The Aztec Indians gave the tribe this name because the Olmecs supplied them with sap from rubber trees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38" name="Picture 5" descr="na01441_"/>
          <p:cNvPicPr/>
          <p:nvPr/>
        </p:nvPicPr>
        <p:blipFill>
          <a:blip r:embed="rId1"/>
          <a:stretch/>
        </p:blipFill>
        <p:spPr>
          <a:xfrm>
            <a:off x="1338120" y="1981080"/>
            <a:ext cx="36468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772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Appearance: Short in height, straight black hair, painted their bodies, had tattoos, valued crossed-eyes and flat forehead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Three eras: pre-classic, classic, and post-classic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Mayans used glyphs in their writing.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1" name="Picture 7" descr="bd08510_"/>
          <p:cNvPicPr/>
          <p:nvPr/>
        </p:nvPicPr>
        <p:blipFill>
          <a:blip r:embed="rId1"/>
          <a:stretch/>
        </p:blipFill>
        <p:spPr>
          <a:xfrm>
            <a:off x="1447920" y="2438280"/>
            <a:ext cx="3276360" cy="3073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lyph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6582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ir glyph writing (picture) expanded largely using about 800 different glyph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44" name="Picture 1028" descr="sy01455_"/>
          <p:cNvPicPr/>
          <p:nvPr/>
        </p:nvPicPr>
        <p:blipFill>
          <a:blip r:embed="rId1"/>
          <a:stretch/>
        </p:blipFill>
        <p:spPr>
          <a:xfrm>
            <a:off x="4343400" y="3689280"/>
            <a:ext cx="1789200" cy="316872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1029" descr="an02038_"/>
          <p:cNvPicPr/>
          <p:nvPr/>
        </p:nvPicPr>
        <p:blipFill>
          <a:blip r:embed="rId2"/>
          <a:stretch/>
        </p:blipFill>
        <p:spPr>
          <a:xfrm>
            <a:off x="1600200" y="380880"/>
            <a:ext cx="1495440" cy="173376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1030" descr="an02044_"/>
          <p:cNvPicPr/>
          <p:nvPr/>
        </p:nvPicPr>
        <p:blipFill>
          <a:blip r:embed="rId3"/>
          <a:stretch/>
        </p:blipFill>
        <p:spPr>
          <a:xfrm>
            <a:off x="7010280" y="380880"/>
            <a:ext cx="1689120" cy="165888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1031" descr="an02045_"/>
          <p:cNvPicPr/>
          <p:nvPr/>
        </p:nvPicPr>
        <p:blipFill>
          <a:blip r:embed="rId4"/>
          <a:stretch/>
        </p:blipFill>
        <p:spPr>
          <a:xfrm>
            <a:off x="1219320" y="4724280"/>
            <a:ext cx="1827000" cy="19623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1032" descr="an02041_"/>
          <p:cNvPicPr/>
          <p:nvPr/>
        </p:nvPicPr>
        <p:blipFill>
          <a:blip r:embed="rId5"/>
          <a:stretch/>
        </p:blipFill>
        <p:spPr>
          <a:xfrm>
            <a:off x="7162920" y="5410080"/>
            <a:ext cx="1457280" cy="954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an Relig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orshipped many different god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ach day, month, city, and occupation had its special god or goddes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ad a variety of religious festivals and celebra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st ceremonies includes human sacrific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 many ceremonies, the priests cut themselves to get blood to present to the god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ir religion taught that there were 13 layers of heaven above the earth &amp; 9 underworlds below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orshipped the dea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7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uman Sacrifi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7886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Arial"/>
              </a:rPr>
              <a:t>The Mayas had 3 methods of giving the human sacrifices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priests took the victim to the altar at the temple and cut the heart out of the living victim and presented it to the god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priests tied the victim to a wooden pole and threw spears and arrows at the victim’s chest in the area of the heart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y threw the victim into a sacred well.  If they survived the fall and did not drown, the priests pulled them back out of the well; believing that the god spared that victim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5" dur="500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5" dur="500"/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orshipping the De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believed the dead became one with the god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worshipped their ancestors at many religious ceremonie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y also built pyramids over the sacred remains of their dead ruler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15:29:38Z</dcterms:created>
  <dc:creator>Pam Tucker</dc:creator>
  <dc:description/>
  <dc:language>en-US</dc:language>
  <cp:lastModifiedBy>RomaK</cp:lastModifiedBy>
  <dcterms:modified xsi:type="dcterms:W3CDTF">2015-09-04T09:25:54Z</dcterms:modified>
  <cp:revision>15</cp:revision>
  <dc:subject/>
  <dc:title>Ancient Mexico</dc:title>
</cp:coreProperties>
</file>