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29.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C19C-5ACC-42D9-9398-B6BEC391A3C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s 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Ry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y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 30, 1889    Johnstown P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town, East Conemaugh, and Woodvale lived “downhill” of Lake Conemaugh, which had a dam built about 18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m was 1000 feet long.  The lake was 500 acres and held 25 million tons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e wasn’t needed anymore to supply water to the canal because of the railroad built in 185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30, 1889    Johnstown 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town, East Conemaugh, and Woodvale lived “downhill” of Lake Conemaugh, which had a dam built about 18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m was 1000 feet long.  The lake was 500 acres and held 25 million ton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ke wasn’t needed anymore to supply water to the canal because of the railroad built in 18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y 30, with over 8 inches of rain that day, the dam broke and the wall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ed downhill and destroyed 3 entire towns and killing over 2000.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0, with over 8 inches of rain that day, the dam broke and the wal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d downhill and destroyed 3 entire towns and killing over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2000 people died in this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2000 people died in this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ically, the railroad bridge was one of the few structures that with stood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aster.  Sorry to say, all the houses and trees that got stuck against the bri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ght on fire and killed all those standing on the bridge for safety.  Because of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all dams must now be inspected by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the railroad bridge was one of the few structures that with stoo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Sorry to say, all the houses and trees that got stuck against the bri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ght on fire and killed all those standing on the bridge for safety.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all dams must now be inspected by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1930’s (The Depression), there was little to no rain in the Mid-W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no rain, trees (wind breaks) and over farming, the topsoil “blew a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idwest was known as the Great Dustbow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forced many farmers to lose their farms and move to find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1930’s (The Depression), there was little to no rain in the Mid-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 rain, trees (wind breaks) and over farming, the topsoil “blew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west was known as the Great Dustb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ced many farmers to lose their farms and move to fi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ust Storms caused by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irie wind and drough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caused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rie wind and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was dust “everywhere” inside and outside, in your eyes, and in your mouth.  Many died from Dust Pneumo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dust “everywhere” inside and outside, in your eyes, and in your mouth.  Many died from Dust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8, 1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s were up to 150 miles per hou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m surge of over 16 f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6,000 people killed on Galveston Is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6,000 were killed in Tex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Hurricane ever to hit the U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 1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s were up to 1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of over 16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00 people killed on Galvesto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6,000 were killed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Hurricane ever to hit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errible things have happened to America and her citiz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ds, Hurricanes, Fires, Blizzards, Explosions,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death, injuries, loss of homes, money, jobs, communities, friendship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many good things arise too! Safety laws, sense of community &amp; accomplishment, new inventions/techn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rrible things have happened to America and her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s, Hurricanes, Fires, Blizzards, Explosion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death, injuries, loss of homes, money, jobs, communities,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good things arise too! Safety laws, sense of community &amp; accomplishment, new inventions/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e city has a sea wall, better building codes and is actua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ised up the entire city by putting sand under buildin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ity has a sea wall, better building codes and is ac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up the entire city by putting sand under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11,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England states were pounded with freezing temperatures, 70 mph winds and massive amounts of s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 Drifts over 30 feet hig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snow in JU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telegraph, telephone, electric poles and stopped all trains (including food and coal trai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tates were pounded with freezing temperatures, 70 mph winds and massive amounts of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Drifts over 30 feet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snow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telegraph, telephone, electric poles and stopped all trains (including food and coal tr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the Blizzard, NYC and 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 cities put electric and telepho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bles underground.  They also bui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bway undergroun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d to shovel out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Blizzard, NYC and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ities put electric and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s underground.  They also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way undergroun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to shovel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lu” killed 23 million world wide…500,000 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ian flu (today) is similar to 1918, but it does pass human to human like it did in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u” killed 23 million world wide…500,000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flu (today) is similar to 1918, but it does pass human to human like it did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ergency Tent Hospit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led to the creation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nter for Disease Contr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C).  They hire scientists t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e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Tent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led to the cre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Diseas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They hire scientist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e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th 1906 San Francisco 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quake lasted only one minut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s broke out afterwards because of broken gas pipes and down electric wir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y burned for 3 days because of no water because all the water mains were brok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of San Francisco was destroyed…it was home to over 400,0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th 1906 San Francisco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quake lasted only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broke out afterwards because of broken gas pipes and down electric w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burned for 3 days because of no water because all the water mains we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San Francisco was destroyed…it was home to over 400,0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California has some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rongest building cod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alifornia has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building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 Explo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st maritime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65 on the Mississippi River near Memphis T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 War POW’s were crammed onto the 260 ft. steamboat Sultana to go to the North for their freedom at the end of the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p meant to hold 376 passeng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 Expl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maritim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65 on the Mississippi River near Memphis 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War POW’s were crammed onto the 260 ft. steamboat Sultana to go to the North for their freedom at the end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meant to hold 376 pa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 1871  Peshtigo, Wiscons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mber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 Piles of debris and tree roots were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entire town and killed over 8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 1871  Peshtigo,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er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Piles of debris and tree roots were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entire town and killed over 8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th 1871</a:t>
            </a:r>
            <a:br>
              <a:rPr sz="1200"/>
            </a:br>
            <a:r>
              <a:rPr b="0" lang="en-US" sz="1200" spc="-1" strike="noStrike">
                <a:solidFill>
                  <a:srgbClr val="ffffff"/>
                </a:solidFill>
                <a:latin typeface="Arial"/>
              </a:rPr>
              <a:t>Another disaster is smolde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many people knew about the Wisconsin Forest Fire because of another event that night “stole” the headli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th 1871</a:t>
            </a:r>
            <a:br>
              <a:rPr sz="1200"/>
            </a:br>
            <a:r>
              <a:rPr b="0" lang="en-US" sz="1200" spc="-1" strike="noStrike">
                <a:solidFill>
                  <a:srgbClr val="000000"/>
                </a:solidFill>
                <a:latin typeface="Arial"/>
              </a:rPr>
              <a:t>Another disaster is smol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people knew about the Wisconsin Forest Fire because of another event that night “stole” the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middle of difficulty lies opportunity. </a:t>
            </a:r>
            <a:br>
              <a:rPr sz="1200"/>
            </a:br>
            <a:r>
              <a:rPr b="0" lang="en-US" sz="1200" spc="-1" strike="noStrike">
                <a:solidFill>
                  <a:srgbClr val="ffffff"/>
                </a:solidFill>
                <a:latin typeface="Arial"/>
              </a:rPr>
              <a:t>Author: Albert Einste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of difficulty lies opportunity. </a:t>
            </a:r>
            <a:br>
              <a:rPr sz="1200"/>
            </a:br>
            <a:r>
              <a:rPr b="0" lang="en-US" sz="1200" spc="-1" strike="noStrike">
                <a:solidFill>
                  <a:srgbClr val="000000"/>
                </a:solidFill>
                <a:latin typeface="Arial"/>
              </a:rPr>
              <a:t>Author: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re going to read The Great Fire by Jim Murph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 a great disaster, but it also showed the heroism and determination Americans had to survive and re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disaster always made our country safer by creating new safety laws…notice how many of the disasters were almost 10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ad The Great Fire by Jim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great disaster, but it also showed the heroism and determination Americans had to survive and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isaster always made our country safer by creating new safety laws…notice how many of the disasters were almost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it m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the title really mea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ould make 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inferring and predict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itle really mea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make 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nferring and predi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t. paid $5.00 per person, so Captain Mason put almost 3000 people plus animals and cargo on bo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ilers exploded killing many and setting the ship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poor records, nobody knows how many died: estimate 2300-30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famous because the Civil War just ended and President Lincoln was kille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ain M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t. paid $5.00 per person, so Captain Mason put almost 3000 people plus animals and cargo on b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s exploded killing many and setting the ship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poor records, nobody knows how many died: estimate 2300-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mous because the Civil War just ended and President Lincoln was kille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amboat out of NYC on June 15, 1904 for a church picnic on the East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1300 on board, ship meant to hold less than ½ of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en saw the fire and told the captain, but was igno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31 people died, mostly childr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boat out of NYC on June 15, 1904 for a church picnic on the Ea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300 on board, ship meant to hold less than ½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 saw the fire and told the captain, but was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1 people died, mostl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5A48D-4E96-42CA-A907-9E2CFBAA2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5E0F7-6279-4CD6-82B9-876A1C3B8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D8696-2F3F-4BCC-9548-F133DB305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5FDA7-13AF-40A5-BDF4-ECB7C52E5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A523E-BDA9-4530-873E-39CBD85910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2CD9C-12D0-4E8E-845B-7EBD8A7AF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95991-2286-4BD3-A26C-54ED99B50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7CCC2-D299-4B2E-8929-4CCD84704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4700C-07FE-40C5-A7F6-30B2CE2A0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8B060-11B4-4ABE-A3BC-05FBC8B33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8131F-53B8-4D9F-A644-B2363C177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D100C-34D5-4685-8ECF-783A49C38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DEB35-BCAC-4CC3-B51A-3D8165DD2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124D7-76B3-49CD-87D1-DE743D882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8A5F9-713F-4CF1-9388-DB246CA9A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B126A0-6CD6-4D8E-844A-F30FA88C7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ED8E7-A997-4E03-8365-537F1899B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1FCDB-EE98-431D-B942-46B14A70A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A3FD8-C75E-4DC5-A373-6C0B1643F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C2B0D-7263-4748-8823-B8FFCC632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176D5-550F-4873-87D5-C8C48AD48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2998A-23C5-4AF4-BB4D-1DBEB64FF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F09B7-476F-4548-B2DC-B5C5F4E7B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CF5E8-D758-48F1-98AA-4C0ABD8B0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23A4-88D8-4257-B0F4-D20C18A35D5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C0A5-D779-491A-ADA8-3A89D09C599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worldofquotes.com/author/Albert-Einstein/1/index.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s Great Disasters</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y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30, 1889    Johnstown PA</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town, East Conemaugh, and Woodvale lived “downhill” of Lake Conemaugh, which had a dam built about 18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m was 1000 feet long.  The lake was 500 acres and held 25 million tons of water</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ke wasn’t needed anymore to supply water to the canal because of the railroad built in 185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15" name="Picture 4" descr="Woodvale"/>
          <p:cNvPicPr/>
          <p:nvPr/>
        </p:nvPicPr>
        <p:blipFill>
          <a:blip r:embed="rId1"/>
          <a:stretch/>
        </p:blipFill>
        <p:spPr>
          <a:xfrm>
            <a:off x="2209680" y="1371600"/>
            <a:ext cx="4572000" cy="3735360"/>
          </a:xfrm>
          <a:prstGeom prst="rect">
            <a:avLst/>
          </a:prstGeom>
          <a:ln w="0">
            <a:noFill/>
          </a:ln>
        </p:spPr>
      </p:pic>
      <p:sp>
        <p:nvSpPr>
          <p:cNvPr id="416" name="Text Box 5"/>
          <p:cNvSpPr/>
          <p:nvPr/>
        </p:nvSpPr>
        <p:spPr>
          <a:xfrm>
            <a:off x="30960" y="5257800"/>
            <a:ext cx="91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May 30, with over 8 inches of rain that day, the dam broke and the wall of wate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ed downhill and destroyed 3 entire towns and killing over 2000.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18"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9"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1"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2"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23" name="Picture 14" descr="main_image9"/>
          <p:cNvPicPr/>
          <p:nvPr/>
        </p:nvPicPr>
        <p:blipFill>
          <a:blip r:embed="rId1"/>
          <a:stretch/>
        </p:blipFill>
        <p:spPr>
          <a:xfrm>
            <a:off x="228600" y="1371600"/>
            <a:ext cx="4191120" cy="3184560"/>
          </a:xfrm>
          <a:prstGeom prst="rect">
            <a:avLst/>
          </a:prstGeom>
          <a:ln w="0">
            <a:noFill/>
          </a:ln>
        </p:spPr>
      </p:pic>
      <p:pic>
        <p:nvPicPr>
          <p:cNvPr id="424" name="Picture 15" descr="johnstown2"/>
          <p:cNvPicPr/>
          <p:nvPr/>
        </p:nvPicPr>
        <p:blipFill>
          <a:blip r:embed="rId2"/>
          <a:stretch/>
        </p:blipFill>
        <p:spPr>
          <a:xfrm>
            <a:off x="4724280" y="4024440"/>
            <a:ext cx="4419720" cy="2833560"/>
          </a:xfrm>
          <a:prstGeom prst="rect">
            <a:avLst/>
          </a:prstGeom>
          <a:ln w="0">
            <a:noFill/>
          </a:ln>
        </p:spPr>
      </p:pic>
      <p:sp>
        <p:nvSpPr>
          <p:cNvPr id="425" name="Text Box 16"/>
          <p:cNvSpPr/>
          <p:nvPr/>
        </p:nvSpPr>
        <p:spPr>
          <a:xfrm>
            <a:off x="4681800" y="1905120"/>
            <a:ext cx="43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 2000 people died in this Mill tow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27" name="Picture 4" descr="ExplorePAHistory-a0c0e0-a_349"/>
          <p:cNvPicPr/>
          <p:nvPr/>
        </p:nvPicPr>
        <p:blipFill>
          <a:blip r:embed="rId1"/>
          <a:stretch/>
        </p:blipFill>
        <p:spPr>
          <a:xfrm>
            <a:off x="1219320" y="1143000"/>
            <a:ext cx="6553080" cy="4343400"/>
          </a:xfrm>
          <a:prstGeom prst="rect">
            <a:avLst/>
          </a:prstGeom>
          <a:ln w="0">
            <a:noFill/>
          </a:ln>
        </p:spPr>
      </p:pic>
      <p:sp>
        <p:nvSpPr>
          <p:cNvPr id="428" name="Text Box 5"/>
          <p:cNvSpPr/>
          <p:nvPr/>
        </p:nvSpPr>
        <p:spPr>
          <a:xfrm>
            <a:off x="253440" y="5486400"/>
            <a:ext cx="878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onically, the railroad bridge was one of the few structures that with stood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aster.  Sorry to say, all the houses and trees that got stuck against the bridg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ught on fire and killed all those standing on the bridge for safety.  Because of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all dams must now be inspected by the governm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sp>
        <p:nvSpPr>
          <p:cNvPr id="43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30’s (The Depression), there was little to no rain in the Mid-We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no rain, trees (wind breaks) and over farming, the topsoil “blew awa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west was known as the Great Dustbow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forced many farmers to lose their farms and move to find wor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32" name="Picture 4" descr="dustaudiophoto1_3_a"/>
          <p:cNvPicPr/>
          <p:nvPr/>
        </p:nvPicPr>
        <p:blipFill>
          <a:blip r:embed="rId1"/>
          <a:stretch/>
        </p:blipFill>
        <p:spPr>
          <a:xfrm>
            <a:off x="228600" y="1295280"/>
            <a:ext cx="3809880" cy="3048120"/>
          </a:xfrm>
          <a:prstGeom prst="rect">
            <a:avLst/>
          </a:prstGeom>
          <a:ln w="0">
            <a:noFill/>
          </a:ln>
        </p:spPr>
      </p:pic>
      <p:pic>
        <p:nvPicPr>
          <p:cNvPr id="433" name="Picture 5" descr="DustBowlLR"/>
          <p:cNvPicPr/>
          <p:nvPr/>
        </p:nvPicPr>
        <p:blipFill>
          <a:blip r:embed="rId2"/>
          <a:stretch/>
        </p:blipFill>
        <p:spPr>
          <a:xfrm>
            <a:off x="4038480" y="3962520"/>
            <a:ext cx="4838760" cy="2636640"/>
          </a:xfrm>
          <a:prstGeom prst="rect">
            <a:avLst/>
          </a:prstGeom>
          <a:ln w="0">
            <a:noFill/>
          </a:ln>
        </p:spPr>
      </p:pic>
      <p:sp>
        <p:nvSpPr>
          <p:cNvPr id="434" name="Text Box 6"/>
          <p:cNvSpPr/>
          <p:nvPr/>
        </p:nvSpPr>
        <p:spPr>
          <a:xfrm>
            <a:off x="4721760" y="2133720"/>
            <a:ext cx="351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ust Storms caused by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irie wind and drough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36" name="Picture 4" descr="images"/>
          <p:cNvPicPr/>
          <p:nvPr/>
        </p:nvPicPr>
        <p:blipFill>
          <a:blip r:embed="rId1"/>
          <a:stretch/>
        </p:blipFill>
        <p:spPr>
          <a:xfrm>
            <a:off x="380880" y="1981080"/>
            <a:ext cx="3962520" cy="3832200"/>
          </a:xfrm>
          <a:prstGeom prst="rect">
            <a:avLst/>
          </a:prstGeom>
          <a:ln w="0">
            <a:noFill/>
          </a:ln>
        </p:spPr>
      </p:pic>
      <p:sp>
        <p:nvSpPr>
          <p:cNvPr id="437" name="Text Box 5"/>
          <p:cNvSpPr/>
          <p:nvPr/>
        </p:nvSpPr>
        <p:spPr>
          <a:xfrm>
            <a:off x="5029200" y="2057400"/>
            <a:ext cx="336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was dust “everywhere” inside and outside, in your eyes, and in your mouth.  Many died from Dust Pneumon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rmers were then taught how to conserve water, plant wind breaks and how not to destroy the top soil by planting different kinds of plants that help put nutrients into the soi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8, 19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were up to 150 miles per h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m surge of over 16 fee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6,000 people killed on Galveston Islan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6,000 were killed in Tex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st Hurricane ever to hit the US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41" name="Picture 4" descr="galveston1"/>
          <p:cNvPicPr/>
          <p:nvPr/>
        </p:nvPicPr>
        <p:blipFill>
          <a:blip r:embed="rId1"/>
          <a:stretch/>
        </p:blipFill>
        <p:spPr>
          <a:xfrm>
            <a:off x="2043000" y="1471680"/>
            <a:ext cx="5058000" cy="391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444" name="Picture 4" descr="galveston6"/>
          <p:cNvPicPr/>
          <p:nvPr/>
        </p:nvPicPr>
        <p:blipFill>
          <a:blip r:embed="rId1"/>
          <a:stretch/>
        </p:blipFill>
        <p:spPr>
          <a:xfrm>
            <a:off x="228600" y="1295280"/>
            <a:ext cx="4191120" cy="3243240"/>
          </a:xfrm>
          <a:prstGeom prst="rect">
            <a:avLst/>
          </a:prstGeom>
          <a:ln w="0">
            <a:noFill/>
          </a:ln>
        </p:spPr>
      </p:pic>
      <p:pic>
        <p:nvPicPr>
          <p:cNvPr id="445" name="Picture 5" descr="galveston_hurricane_damage"/>
          <p:cNvPicPr/>
          <p:nvPr/>
        </p:nvPicPr>
        <p:blipFill>
          <a:blip r:embed="rId2"/>
          <a:stretch/>
        </p:blipFill>
        <p:spPr>
          <a:xfrm>
            <a:off x="4419720" y="3111480"/>
            <a:ext cx="4386240" cy="347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at Disasters</a:t>
            </a:r>
            <a:endParaRPr b="0" lang="en-US" sz="4400" spc="-1" strike="noStrike">
              <a:solidFill>
                <a:srgbClr val="ffffcc"/>
              </a:solidFill>
              <a:latin typeface="Tahoma"/>
            </a:endParaRPr>
          </a:p>
        </p:txBody>
      </p:sp>
      <p:sp>
        <p:nvSpPr>
          <p:cNvPr id="394" name="PlaceHolder 2"/>
          <p:cNvSpPr>
            <a:spLocks noGrp="1"/>
          </p:cNvSpPr>
          <p:nvPr>
            <p:ph/>
          </p:nvPr>
        </p:nvSpPr>
        <p:spPr>
          <a:xfrm>
            <a:off x="152280" y="1599840"/>
            <a:ext cx="8763120" cy="4498920"/>
          </a:xfrm>
          <a:prstGeom prst="rect">
            <a:avLst/>
          </a:prstGeom>
          <a:noFill/>
          <a:ln w="0">
            <a:noFill/>
          </a:ln>
        </p:spPr>
        <p:txBody>
          <a:bodyPr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rrible things have happened to America and her citizen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oods, Hurricanes, Fires, Blizzards, Explosions, Disease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s death, injuries, loss of homes, money, jobs, communities, friendship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many good things arise too! Safety laws, sense of community &amp; accomplishment, new inventions/technolog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47" name="Picture 4" descr="MK_AE989A_HIS_galves08312005211326"/>
          <p:cNvPicPr/>
          <p:nvPr/>
        </p:nvPicPr>
        <p:blipFill>
          <a:blip r:embed="rId1"/>
          <a:stretch/>
        </p:blipFill>
        <p:spPr>
          <a:xfrm>
            <a:off x="1676520" y="1676520"/>
            <a:ext cx="5567400" cy="4006800"/>
          </a:xfrm>
          <a:prstGeom prst="rect">
            <a:avLst/>
          </a:prstGeom>
          <a:ln w="0">
            <a:noFill/>
          </a:ln>
        </p:spPr>
      </p:pic>
      <p:sp>
        <p:nvSpPr>
          <p:cNvPr id="448" name="Text Box 6"/>
          <p:cNvSpPr/>
          <p:nvPr/>
        </p:nvSpPr>
        <p:spPr>
          <a:xfrm>
            <a:off x="1263240" y="5899320"/>
            <a:ext cx="70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the city has a sea wall, better building codes and is actuall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d up the entire city by putting sand under building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1, 1888</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England states were pounded with freezing temperatures, 70 mph winds and massive amounts of snow</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ow Drifts over 30 feet high</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ill snow in JUL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telegraph, telephone, electric poles and stopped all trains (including food and coal trai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52" name="Picture 4" descr="1888bliz"/>
          <p:cNvPicPr/>
          <p:nvPr/>
        </p:nvPicPr>
        <p:blipFill>
          <a:blip r:embed="rId1"/>
          <a:stretch/>
        </p:blipFill>
        <p:spPr>
          <a:xfrm>
            <a:off x="304920" y="2133720"/>
            <a:ext cx="4543200" cy="3216240"/>
          </a:xfrm>
          <a:prstGeom prst="rect">
            <a:avLst/>
          </a:prstGeom>
          <a:ln w="0">
            <a:noFill/>
          </a:ln>
        </p:spPr>
      </p:pic>
      <p:pic>
        <p:nvPicPr>
          <p:cNvPr id="453" name="Picture 5" descr="1888madison"/>
          <p:cNvPicPr/>
          <p:nvPr/>
        </p:nvPicPr>
        <p:blipFill>
          <a:blip r:embed="rId2"/>
          <a:stretch/>
        </p:blipFill>
        <p:spPr>
          <a:xfrm>
            <a:off x="5105520" y="1676520"/>
            <a:ext cx="3657600" cy="422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55" name="Picture 4" descr="blizzard2"/>
          <p:cNvPicPr/>
          <p:nvPr/>
        </p:nvPicPr>
        <p:blipFill>
          <a:blip r:embed="rId1"/>
          <a:stretch/>
        </p:blipFill>
        <p:spPr>
          <a:xfrm>
            <a:off x="380880" y="1600200"/>
            <a:ext cx="4572000" cy="2700360"/>
          </a:xfrm>
          <a:prstGeom prst="rect">
            <a:avLst/>
          </a:prstGeom>
          <a:ln w="0">
            <a:noFill/>
          </a:ln>
        </p:spPr>
      </p:pic>
      <p:pic>
        <p:nvPicPr>
          <p:cNvPr id="456" name="Picture 5" descr="wea00977"/>
          <p:cNvPicPr/>
          <p:nvPr/>
        </p:nvPicPr>
        <p:blipFill>
          <a:blip r:embed="rId2"/>
          <a:srcRect l="0" t="52566" r="0" b="0"/>
          <a:stretch/>
        </p:blipFill>
        <p:spPr>
          <a:xfrm>
            <a:off x="4419720" y="3048120"/>
            <a:ext cx="4457520" cy="3546360"/>
          </a:xfrm>
          <a:prstGeom prst="rect">
            <a:avLst/>
          </a:prstGeom>
          <a:ln w="0">
            <a:noFill/>
          </a:ln>
        </p:spPr>
      </p:pic>
      <p:sp>
        <p:nvSpPr>
          <p:cNvPr id="457" name="Text Box 6"/>
          <p:cNvSpPr/>
          <p:nvPr/>
        </p:nvSpPr>
        <p:spPr>
          <a:xfrm>
            <a:off x="228600" y="4724280"/>
            <a:ext cx="415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Blizzard, NYC and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cities put electric and telepho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bles underground.  They also buil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ubway underground too!</a:t>
            </a:r>
            <a:endParaRPr b="0" lang="en-US" sz="1800" spc="-1" strike="noStrike">
              <a:solidFill>
                <a:srgbClr val="ffffff"/>
              </a:solidFill>
              <a:latin typeface="Tahoma"/>
            </a:endParaRPr>
          </a:p>
        </p:txBody>
      </p:sp>
      <p:sp>
        <p:nvSpPr>
          <p:cNvPr id="458" name="Text Box 7"/>
          <p:cNvSpPr/>
          <p:nvPr/>
        </p:nvSpPr>
        <p:spPr>
          <a:xfrm>
            <a:off x="5492520" y="1828800"/>
            <a:ext cx="29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had to shovel out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e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sp>
        <p:nvSpPr>
          <p:cNvPr id="460" name="PlaceHolder 2"/>
          <p:cNvSpPr>
            <a:spLocks noGrp="1"/>
          </p:cNvSpPr>
          <p:nvPr>
            <p:ph/>
          </p:nvPr>
        </p:nvSpPr>
        <p:spPr>
          <a:xfrm>
            <a:off x="3016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lu” killed 23 million world wide…500,000 in the United St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ian flu (today) is similar to 1918, but it does pass human to human like it did in 19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pic>
        <p:nvPicPr>
          <p:cNvPr id="462" name="Picture 4" descr="tents"/>
          <p:cNvPicPr/>
          <p:nvPr/>
        </p:nvPicPr>
        <p:blipFill>
          <a:blip r:embed="rId1"/>
          <a:stretch/>
        </p:blipFill>
        <p:spPr>
          <a:xfrm>
            <a:off x="152280" y="1219320"/>
            <a:ext cx="3733920" cy="2933640"/>
          </a:xfrm>
          <a:prstGeom prst="rect">
            <a:avLst/>
          </a:prstGeom>
          <a:ln w="0">
            <a:noFill/>
          </a:ln>
        </p:spPr>
      </p:pic>
      <p:pic>
        <p:nvPicPr>
          <p:cNvPr id="463" name="Picture 5" descr="1918_afp001a"/>
          <p:cNvPicPr/>
          <p:nvPr/>
        </p:nvPicPr>
        <p:blipFill>
          <a:blip r:embed="rId2"/>
          <a:stretch/>
        </p:blipFill>
        <p:spPr>
          <a:xfrm>
            <a:off x="4038480" y="3048120"/>
            <a:ext cx="4876920" cy="3627360"/>
          </a:xfrm>
          <a:prstGeom prst="rect">
            <a:avLst/>
          </a:prstGeom>
          <a:ln w="0">
            <a:noFill/>
          </a:ln>
        </p:spPr>
      </p:pic>
      <p:sp>
        <p:nvSpPr>
          <p:cNvPr id="464" name="Text Box 6"/>
          <p:cNvSpPr/>
          <p:nvPr/>
        </p:nvSpPr>
        <p:spPr>
          <a:xfrm>
            <a:off x="383760" y="426708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Tent Hospital </a:t>
            </a:r>
            <a:endParaRPr b="0" lang="en-US" sz="1800" spc="-1" strike="noStrike">
              <a:solidFill>
                <a:srgbClr val="ffffff"/>
              </a:solidFill>
              <a:latin typeface="Tahoma"/>
            </a:endParaRPr>
          </a:p>
        </p:txBody>
      </p:sp>
      <p:sp>
        <p:nvSpPr>
          <p:cNvPr id="465" name="Text Box 7"/>
          <p:cNvSpPr/>
          <p:nvPr/>
        </p:nvSpPr>
        <p:spPr>
          <a:xfrm>
            <a:off x="115200" y="483228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led to the creation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enter for Disease Contr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C).  They hire scientists to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e diseas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sp>
        <p:nvSpPr>
          <p:cNvPr id="467"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a:t>
            </a:r>
            <a:r>
              <a:rPr b="0" lang="en-US" sz="3200" spc="-1" strike="noStrike" baseline="30000">
                <a:solidFill>
                  <a:srgbClr val="ffffff"/>
                </a:solidFill>
                <a:latin typeface="Tahoma"/>
              </a:rPr>
              <a:t>th</a:t>
            </a:r>
            <a:r>
              <a:rPr b="0" lang="en-US" sz="3200" spc="-1" strike="noStrike">
                <a:solidFill>
                  <a:srgbClr val="ffffff"/>
                </a:solidFill>
                <a:latin typeface="Tahoma"/>
              </a:rPr>
              <a:t> 1906 San Francisco C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quake lasted only one minut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s broke out afterwards because of broken gas pipes and down electric wir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burned for 3 days because of no water because all the water mains were broke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of San Francisco was destroyed…it was home to over 400,000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69" name="Picture 4" descr="111agf"/>
          <p:cNvPicPr/>
          <p:nvPr/>
        </p:nvPicPr>
        <p:blipFill>
          <a:blip r:embed="rId1"/>
          <a:stretch/>
        </p:blipFill>
        <p:spPr>
          <a:xfrm>
            <a:off x="0" y="2514600"/>
            <a:ext cx="917244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71" name="Picture 4" descr="1906sfquake"/>
          <p:cNvPicPr/>
          <p:nvPr/>
        </p:nvPicPr>
        <p:blipFill>
          <a:blip r:embed="rId1"/>
          <a:stretch/>
        </p:blipFill>
        <p:spPr>
          <a:xfrm>
            <a:off x="0" y="1219320"/>
            <a:ext cx="4800600" cy="3843360"/>
          </a:xfrm>
          <a:prstGeom prst="rect">
            <a:avLst/>
          </a:prstGeom>
          <a:ln w="0">
            <a:noFill/>
          </a:ln>
        </p:spPr>
      </p:pic>
      <p:pic>
        <p:nvPicPr>
          <p:cNvPr id="472" name="Picture 5" descr="1906"/>
          <p:cNvPicPr/>
          <p:nvPr/>
        </p:nvPicPr>
        <p:blipFill>
          <a:blip r:embed="rId2"/>
          <a:stretch/>
        </p:blipFill>
        <p:spPr>
          <a:xfrm>
            <a:off x="4114800" y="3305160"/>
            <a:ext cx="5029200" cy="3552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74" name="Picture 4" descr="earthquake08"/>
          <p:cNvPicPr/>
          <p:nvPr/>
        </p:nvPicPr>
        <p:blipFill>
          <a:blip r:embed="rId1"/>
          <a:stretch/>
        </p:blipFill>
        <p:spPr>
          <a:xfrm>
            <a:off x="685800" y="1295280"/>
            <a:ext cx="8191440" cy="2662200"/>
          </a:xfrm>
          <a:prstGeom prst="rect">
            <a:avLst/>
          </a:prstGeom>
          <a:ln w="0">
            <a:noFill/>
          </a:ln>
        </p:spPr>
      </p:pic>
      <p:pic>
        <p:nvPicPr>
          <p:cNvPr id="475" name="Picture 5" descr="Ggk2893thumb"/>
          <p:cNvPicPr/>
          <p:nvPr/>
        </p:nvPicPr>
        <p:blipFill>
          <a:blip r:embed="rId2"/>
          <a:srcRect l="0" t="6148" r="0" b="31038"/>
          <a:stretch/>
        </p:blipFill>
        <p:spPr>
          <a:xfrm>
            <a:off x="228600" y="3962520"/>
            <a:ext cx="3962520" cy="2895480"/>
          </a:xfrm>
          <a:prstGeom prst="rect">
            <a:avLst/>
          </a:prstGeom>
          <a:ln w="0">
            <a:noFill/>
          </a:ln>
        </p:spPr>
      </p:pic>
      <p:sp>
        <p:nvSpPr>
          <p:cNvPr id="476" name="Text Box 7"/>
          <p:cNvSpPr/>
          <p:nvPr/>
        </p:nvSpPr>
        <p:spPr>
          <a:xfrm>
            <a:off x="5146560" y="4876920"/>
            <a:ext cx="32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California has some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ngest building cod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the United Stat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 Explosion</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st maritime disas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65 on the Mississippi River near Memphis T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 War POW’s were crammed onto the 260 ft. steamboat Sultana to go to the North for their freedom at the end of the w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p meant to hold 376 passeng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8, 1871  Peshtigo, Wisconsi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mber Mill Tow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Piles of debris and tree roots were o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entire town and killed over 800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480" name="Picture 4" descr="forestfire"/>
          <p:cNvPicPr/>
          <p:nvPr/>
        </p:nvPicPr>
        <p:blipFill>
          <a:blip r:embed="rId1"/>
          <a:stretch/>
        </p:blipFill>
        <p:spPr>
          <a:xfrm>
            <a:off x="228600" y="1600200"/>
            <a:ext cx="4191120" cy="3017880"/>
          </a:xfrm>
          <a:prstGeom prst="rect">
            <a:avLst/>
          </a:prstGeom>
          <a:ln w="0">
            <a:noFill/>
          </a:ln>
        </p:spPr>
      </p:pic>
      <p:pic>
        <p:nvPicPr>
          <p:cNvPr id="481" name="Picture 5" descr="catphoto"/>
          <p:cNvPicPr/>
          <p:nvPr/>
        </p:nvPicPr>
        <p:blipFill>
          <a:blip r:embed="rId2"/>
          <a:stretch/>
        </p:blipFill>
        <p:spPr>
          <a:xfrm>
            <a:off x="4572000" y="3505320"/>
            <a:ext cx="4253040" cy="319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483" name="Picture 4" descr="3"/>
          <p:cNvPicPr/>
          <p:nvPr/>
        </p:nvPicPr>
        <p:blipFill>
          <a:blip r:embed="rId1"/>
          <a:stretch/>
        </p:blipFill>
        <p:spPr>
          <a:xfrm>
            <a:off x="1447920" y="1828800"/>
            <a:ext cx="6019560" cy="4087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ctober 8</a:t>
            </a:r>
            <a:r>
              <a:rPr b="0" lang="en-US" sz="4000" spc="-1" strike="noStrike" baseline="30000">
                <a:solidFill>
                  <a:srgbClr val="ffffcc"/>
                </a:solidFill>
                <a:latin typeface="Tahoma"/>
              </a:rPr>
              <a:t>th</a:t>
            </a:r>
            <a:r>
              <a:rPr b="0" lang="en-US" sz="4000" spc="-1" strike="noStrike">
                <a:solidFill>
                  <a:srgbClr val="ffffcc"/>
                </a:solidFill>
                <a:latin typeface="Tahoma"/>
              </a:rPr>
              <a:t> 1871</a:t>
            </a:r>
            <a:br>
              <a:rPr sz="4000"/>
            </a:br>
            <a:r>
              <a:rPr b="0" lang="en-US" sz="4000" spc="-1" strike="noStrike">
                <a:solidFill>
                  <a:srgbClr val="ffffcc"/>
                </a:solidFill>
                <a:latin typeface="Tahoma"/>
              </a:rPr>
              <a:t>Another disaster is smoldering…</a:t>
            </a:r>
            <a:endParaRPr b="0" lang="en-US" sz="4000" spc="-1" strike="noStrike">
              <a:solidFill>
                <a:srgbClr val="ffffcc"/>
              </a:solidFill>
              <a:latin typeface="Tahoma"/>
            </a:endParaRPr>
          </a:p>
        </p:txBody>
      </p:sp>
      <p:sp>
        <p:nvSpPr>
          <p:cNvPr id="48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many people knew about the Wisconsin Forest Fire because of another event that night “stole” the headlines…</a:t>
            </a:r>
            <a:endParaRPr b="0" lang="en-US" sz="3200" spc="-1" strike="noStrike">
              <a:solidFill>
                <a:srgbClr val="ffffff"/>
              </a:solidFill>
              <a:latin typeface="Tahoma"/>
            </a:endParaRPr>
          </a:p>
        </p:txBody>
      </p:sp>
      <p:pic>
        <p:nvPicPr>
          <p:cNvPr id="486" name="Picture 4" descr="images"/>
          <p:cNvPicPr/>
          <p:nvPr/>
        </p:nvPicPr>
        <p:blipFill>
          <a:blip r:embed="rId1"/>
          <a:stretch/>
        </p:blipFill>
        <p:spPr>
          <a:xfrm>
            <a:off x="3581280" y="3657600"/>
            <a:ext cx="2125800" cy="2362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pic>
        <p:nvPicPr>
          <p:cNvPr id="488" name="Picture 5" descr="chicagofire"/>
          <p:cNvPicPr/>
          <p:nvPr/>
        </p:nvPicPr>
        <p:blipFill>
          <a:blip r:embed="rId1"/>
          <a:stretch/>
        </p:blipFill>
        <p:spPr>
          <a:xfrm>
            <a:off x="1752480" y="1219320"/>
            <a:ext cx="6191280" cy="4197240"/>
          </a:xfrm>
          <a:prstGeom prst="rect">
            <a:avLst/>
          </a:prstGeom>
          <a:ln w="0">
            <a:noFill/>
          </a:ln>
        </p:spPr>
      </p:pic>
      <p:sp>
        <p:nvSpPr>
          <p:cNvPr id="489" name="Rectangle 6"/>
          <p:cNvSpPr/>
          <p:nvPr/>
        </p:nvSpPr>
        <p:spPr>
          <a:xfrm>
            <a:off x="2148120" y="5638680"/>
            <a:ext cx="51015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middle of difficulty lies opportunity.</a:t>
            </a:r>
            <a:r>
              <a:rPr b="0" lang="en-US" sz="1800" spc="-1" strike="noStrike">
                <a:solidFill>
                  <a:srgbClr val="ffffff"/>
                </a:solidFill>
                <a:latin typeface="Tahoma"/>
              </a:rPr>
              <a:t> </a:t>
            </a:r>
            <a:br>
              <a:rPr sz="1800"/>
            </a:br>
            <a:r>
              <a:rPr b="0" lang="en-US" sz="1800" spc="-1" strike="noStrike">
                <a:solidFill>
                  <a:srgbClr val="ffffff"/>
                </a:solidFill>
                <a:latin typeface="Tahoma"/>
              </a:rPr>
              <a:t>Author: </a:t>
            </a:r>
            <a:r>
              <a:rPr b="0" lang="en-US" sz="1800" spc="-1" strike="noStrike" u="sng">
                <a:solidFill>
                  <a:srgbClr val="a3c145"/>
                </a:solidFill>
                <a:uFillTx/>
                <a:latin typeface="Tahoma"/>
                <a:hlinkClick r:id="rId2"/>
              </a:rPr>
              <a:t>Albert Einste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o read </a:t>
            </a:r>
            <a:r>
              <a:rPr b="0" lang="en-US" sz="3200" spc="-1" strike="noStrike" u="sng">
                <a:solidFill>
                  <a:srgbClr val="ffffff"/>
                </a:solidFill>
                <a:uFillTx/>
                <a:latin typeface="Tahoma"/>
              </a:rPr>
              <a:t>The Great Fire</a:t>
            </a:r>
            <a:r>
              <a:rPr b="0" lang="en-US" sz="3200" spc="-1" strike="noStrike">
                <a:solidFill>
                  <a:srgbClr val="ffffff"/>
                </a:solidFill>
                <a:latin typeface="Tahoma"/>
              </a:rPr>
              <a:t> by Jim Murph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as a great disaster, but it also showed the heroism and determination Americans had to survive and rebuild.</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disaster always made our country safer by creating new safety laws…notice how many of the disasters were almost 100 years ag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5" descr="MPj04000160000[1]"/>
          <p:cNvPicPr/>
          <p:nvPr/>
        </p:nvPicPr>
        <p:blipFill>
          <a:blip r:embed="rId1"/>
          <a:stretch/>
        </p:blipFill>
        <p:spPr>
          <a:xfrm>
            <a:off x="0" y="0"/>
            <a:ext cx="9144000" cy="6858000"/>
          </a:xfrm>
          <a:prstGeom prst="rect">
            <a:avLst/>
          </a:prstGeom>
          <a:ln w="0">
            <a:noFill/>
          </a:ln>
        </p:spPr>
      </p:pic>
      <p:sp>
        <p:nvSpPr>
          <p:cNvPr id="49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A City Ready to Burn”</a:t>
            </a:r>
            <a:endParaRPr b="0" lang="en-US" sz="4400" spc="-1" strike="noStrike">
              <a:solidFill>
                <a:srgbClr val="ffffcc"/>
              </a:solidFill>
              <a:latin typeface="Tahoma"/>
            </a:endParaRPr>
          </a:p>
        </p:txBody>
      </p:sp>
      <p:sp>
        <p:nvSpPr>
          <p:cNvPr id="49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it me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title really mea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make a city “ready” to bur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inferring and predict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6" descr="sultana"/>
          <p:cNvPicPr/>
          <p:nvPr/>
        </p:nvPicPr>
        <p:blipFill>
          <a:blip r:embed="rId1"/>
          <a:stretch/>
        </p:blipFill>
        <p:spPr>
          <a:xfrm>
            <a:off x="1752480" y="1523880"/>
            <a:ext cx="5867640" cy="4407120"/>
          </a:xfrm>
          <a:prstGeom prst="rect">
            <a:avLst/>
          </a:prstGeom>
          <a:ln w="0">
            <a:noFill/>
          </a:ln>
        </p:spPr>
      </p:pic>
      <p:sp>
        <p:nvSpPr>
          <p:cNvPr id="398" name="Text Box 7"/>
          <p:cNvSpPr/>
          <p:nvPr/>
        </p:nvSpPr>
        <p:spPr>
          <a:xfrm>
            <a:off x="3124080" y="533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S Sultana</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a:t>
            </a:r>
            <a:endParaRPr b="0" lang="en-US" sz="4400" spc="-1" strike="noStrike">
              <a:solidFill>
                <a:srgbClr val="ffffcc"/>
              </a:solidFill>
              <a:latin typeface="Tahoma"/>
            </a:endParaRPr>
          </a:p>
        </p:txBody>
      </p:sp>
      <p:sp>
        <p:nvSpPr>
          <p:cNvPr id="400" name="PlaceHolder 2"/>
          <p:cNvSpPr>
            <a:spLocks noGrp="1"/>
          </p:cNvSpPr>
          <p:nvPr>
            <p:ph/>
          </p:nvPr>
        </p:nvSpPr>
        <p:spPr>
          <a:xfrm>
            <a:off x="301320" y="1599840"/>
            <a:ext cx="73184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t. paid $5.00 per person, so Captain Mason put almost 3000 people plus animals and cargo on bo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ilers exploded killing many and setting the ship on f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poor records, nobody knows how many died: estimate 2300-300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famous because the Civil War just ended and President Lincoln was killed too!</a:t>
            </a:r>
            <a:endParaRPr b="0" lang="en-US" sz="2800" spc="-1" strike="noStrike">
              <a:solidFill>
                <a:srgbClr val="ffffff"/>
              </a:solidFill>
              <a:latin typeface="Tahoma"/>
            </a:endParaRPr>
          </a:p>
        </p:txBody>
      </p:sp>
      <p:pic>
        <p:nvPicPr>
          <p:cNvPr id="401" name="Picture 4" descr="Captain Mason"/>
          <p:cNvPicPr/>
          <p:nvPr/>
        </p:nvPicPr>
        <p:blipFill>
          <a:blip r:embed="rId1"/>
          <a:stretch/>
        </p:blipFill>
        <p:spPr>
          <a:xfrm>
            <a:off x="7569360" y="0"/>
            <a:ext cx="1574640" cy="1819440"/>
          </a:xfrm>
          <a:prstGeom prst="rect">
            <a:avLst/>
          </a:prstGeom>
          <a:ln w="0">
            <a:noFill/>
          </a:ln>
        </p:spPr>
      </p:pic>
      <p:sp>
        <p:nvSpPr>
          <p:cNvPr id="402" name="Text Box 5"/>
          <p:cNvSpPr/>
          <p:nvPr/>
        </p:nvSpPr>
        <p:spPr>
          <a:xfrm>
            <a:off x="7416360" y="18288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ain Mas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 Disaster</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boat out of NYC on June 15, 1904 for a church picnic on the East Riv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300 on board, ship meant to hold less than ½ of tha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n saw the fire and told the captain, but was ignor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31 people died, mostly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06" name="Picture 4" descr="slocum-photo-lg"/>
          <p:cNvPicPr/>
          <p:nvPr/>
        </p:nvPicPr>
        <p:blipFill>
          <a:blip r:embed="rId1"/>
          <a:stretch/>
        </p:blipFill>
        <p:spPr>
          <a:xfrm>
            <a:off x="1476360" y="1395360"/>
            <a:ext cx="6191280" cy="40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08" name="Picture 4" descr="General_slocum_burning"/>
          <p:cNvPicPr/>
          <p:nvPr/>
        </p:nvPicPr>
        <p:blipFill>
          <a:blip r:embed="rId1"/>
          <a:stretch/>
        </p:blipFill>
        <p:spPr>
          <a:xfrm>
            <a:off x="1447920" y="1828800"/>
            <a:ext cx="6400800" cy="409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sp>
        <p:nvSpPr>
          <p:cNvPr id="410" name="PlaceHolder 2"/>
          <p:cNvSpPr>
            <a:spLocks noGrp="1"/>
          </p:cNvSpPr>
          <p:nvPr>
            <p:ph/>
          </p:nvPr>
        </p:nvSpPr>
        <p:spPr>
          <a:xfrm>
            <a:off x="301680" y="1599840"/>
            <a:ext cx="8540640" cy="2057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life boats were wired together too tightly and the life vests were too heavy…many died.  This created an uproar and many new laws were passed to make sure it doesn’t happen again.</a:t>
            </a:r>
            <a:endParaRPr b="0" lang="en-US" sz="2800" spc="-1" strike="noStrike">
              <a:solidFill>
                <a:srgbClr val="ffffff"/>
              </a:solidFill>
              <a:latin typeface="Tahoma"/>
            </a:endParaRPr>
          </a:p>
        </p:txBody>
      </p:sp>
      <p:pic>
        <p:nvPicPr>
          <p:cNvPr id="411" name="Picture 4" descr="general_slocum_2"/>
          <p:cNvPicPr/>
          <p:nvPr/>
        </p:nvPicPr>
        <p:blipFill>
          <a:blip r:embed="rId1"/>
          <a:stretch/>
        </p:blipFill>
        <p:spPr>
          <a:xfrm>
            <a:off x="1905120" y="3429000"/>
            <a:ext cx="5295960" cy="319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2:39:24Z</dcterms:created>
  <dc:creator>Ricky</dc:creator>
  <dc:description/>
  <dc:language>en-US</dc:language>
  <cp:lastModifiedBy>RomaK</cp:lastModifiedBy>
  <dcterms:modified xsi:type="dcterms:W3CDTF">2015-09-04T09:25:22Z</dcterms:modified>
  <cp:revision>15</cp:revision>
  <dc:subject/>
  <dc:title>America’s Great Disasters</dc:title>
</cp:coreProperties>
</file>