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C42A-245A-4E2B-9E45-5F1FC284EF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1EC-F240-4ADC-9430-921195C9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52A-665D-4D04-A237-0F54CBCB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6D7-5B53-4869-BAA2-519615ED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114-86FC-4B6B-9976-BC3B0913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ABB-BE84-4839-94A5-0C3B29CB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5C4-4B95-49FC-A034-E0205217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60F-DDA8-4C84-89CB-A910994F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9D0-6BC2-4E01-AFCB-C2D0DCFC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545-CC0B-4F9F-9925-E68080CB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D88-AE2C-4FCD-B770-8858D157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307-630F-4C64-9356-3E9FE66D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A6D-D567-434B-9FF9-06769BD0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F1FE-B1F0-4792-9337-C1C247C478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8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8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RomaK</cp:lastModifiedBy>
  <dcterms:modified xsi:type="dcterms:W3CDTF">2015-09-04T09:25:15Z</dcterms:modified>
  <cp:revision>8</cp:revision>
  <dc:subject/>
  <dc:title>A Brief History of Life</dc:title>
</cp:coreProperties>
</file>