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6913F-DEDE-4954-AAAC-06C2BA1417E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Brief History of Lif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Did Everything Begin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rief History of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id Everything Begi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rom single-celled organisms to complex creatures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volu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Natural selection- helpful traits vs. harmful trait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daptation- best suited for environ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enetic drift- independent process that produces random changes; ch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Diversification in natu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rom single-celled organisms to complex creature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v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atural selection- helpful traits vs. harmful trai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daptation- best suited for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tic drift- independent process that produces random changes; ch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versification in n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ambrian Explos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mbrian Explo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Descent of Man and the Attacks on Evolu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escent of Man and the Attacks on Ev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Human Story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enozoic Era (“Age of Mammals”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ound 2.5 million years ago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frican Savann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mmals including primat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umans and chimpanzees share a common ancestor between 7 to 6 million years ag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uman Stor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ozoic Era (“Age of Mammals”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ound 2.5 million years ag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rican Savan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mmals including prim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ans and chimpanzees share a common ancestor between 7 to 6 million years 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f they are happy swinging in trees, why come down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vidences found in the Great Rift Valley, savannas on the Eastern part of Afric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fficulty in knuckle walking → adapt to bipedalis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edators abound → flight or fight, shelter and protec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cattered plants → change in diet, enriched food selec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y are happy swinging in trees, why come dow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idences found in the Great Rift Valley, savannas on the Eastern part of 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iculty in knuckle walking → adapt to bipedal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dators abound → flight or fight, shelter and prot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attered plants → change in diet, enriched food sel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Southern Ape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ustralopithecu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 to 1 million years ag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aracteristics similar to humans and ap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parable brain size with a chimpanze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. afarensis →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uthern Ap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stralopithec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to 1 million years 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similar to humans and a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able brain size with a chimpanz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afarensis →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ero murampa na ni siya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ipedal; hands like huma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. africanu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Lucy in the Sky with Diamon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ro murampa na ni siya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ipedal; hands like hum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. africa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ucy in the Sky with Diam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r. Handy M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mo habil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.5 to 1.5 million years ag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pposable thumbs- efficient means of handling things and creating too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. Handy 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o habil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5 to 1.5 million years 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posable thumbs- efficient means of handling things and creating to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Original Laag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mo erectu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.6 million years to 200,000 years ag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igger brains, tall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←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king M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riginal Laag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o erect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6 million years to 200,000 years 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brains, tal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←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king 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Intelligent Design Theories</a:t>
            </a:r>
            <a:br>
              <a:rPr sz="1200"/>
            </a:b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(Creation Myth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telligent Design Theories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Creation Myth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Taller, Smarter, Wiser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Homo sapie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Neandertha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Cro-magn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Taller, Smarter, Wis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Homo sapi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Neanderth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Cro-magn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isest of them all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mo sapiens sapie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sest of them al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o sapiens sapi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re Stories from Around the World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Stories from Around the World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n how the world began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how the world began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ll of them uniqu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l of them un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f the earth has existed for 4.5 billion years, what about life on earth?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arliest evidence: cyanobacteria called stromatolites (3.4 billion years), in Austral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s early as 3.8 billion years ag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arth was stable enough to support lif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ibonucleic Acid (RNA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earth has existed for 4.5 billion years, what about life on earth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liest evidence: cyanobacteria called stromatolites (3.4 billion years), in Austral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early as 3.8 billion years 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 was stable enough to support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bonucleic Acid (RN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ut where?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ssibly the ocean, based on evidenc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ssi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ep sea microb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moker fossils in Chin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ere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ibly the ocean, based on evid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ssi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ep sea micro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oker fossils in Ch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5D61-1673-4E6B-B727-EE417F3BD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8F58-E45D-4487-9A90-D391525B2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4B0D-4648-4DF4-8433-86A88A08A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1F8C-086F-4FF2-8300-A72AE8EF0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2E44-C5C1-4C9B-B52E-5A5430630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25D7-8CFB-4C63-874C-194B0058E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69B8-5A44-4541-8F9F-0A81C8E6E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2124-CFEB-4A99-A425-A85419C65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03B9-A742-4F81-8669-129BE82FC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0CA9-1F60-4773-A725-6FA8712DF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3078-DFCE-4FFD-90EF-A59F27BEE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E368-2341-4C34-B5FE-969C1A39F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D0846-21FE-4074-8426-52585D75D97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bf1"/>
                </a:solidFill>
                <a:latin typeface="Arial"/>
              </a:rPr>
              <a:t>A Brief History of Life</a:t>
            </a:r>
            <a:endParaRPr b="0" lang="en-US" sz="6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Did Everything Begi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From single-celled organisms to complex creatures…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200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Evolu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ural selection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elpful traits vs. harmful trait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daptation- best suited for environm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enetic drift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ndependent process that produces random changes; ch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versification in na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71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712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Picture 10" descr="darwin"/>
          <p:cNvPicPr/>
          <p:nvPr/>
        </p:nvPicPr>
        <p:blipFill>
          <a:blip r:embed="rId1"/>
          <a:stretch/>
        </p:blipFill>
        <p:spPr>
          <a:xfrm>
            <a:off x="3352680" y="3429000"/>
            <a:ext cx="2428920" cy="31240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1" descr="origin of species"/>
          <p:cNvPicPr/>
          <p:nvPr/>
        </p:nvPicPr>
        <p:blipFill>
          <a:blip r:embed="rId2"/>
          <a:stretch/>
        </p:blipFill>
        <p:spPr>
          <a:xfrm>
            <a:off x="5638680" y="1751040"/>
            <a:ext cx="2903760" cy="38116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3" descr="Charles_Darwin"/>
          <p:cNvPicPr/>
          <p:nvPr/>
        </p:nvPicPr>
        <p:blipFill>
          <a:blip r:embed="rId3"/>
          <a:stretch/>
        </p:blipFill>
        <p:spPr>
          <a:xfrm>
            <a:off x="3941640" y="1447920"/>
            <a:ext cx="17067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5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cambrian"/>
          <p:cNvPicPr/>
          <p:nvPr/>
        </p:nvPicPr>
        <p:blipFill>
          <a:blip r:embed="rId1"/>
          <a:stretch/>
        </p:blipFill>
        <p:spPr>
          <a:xfrm>
            <a:off x="0" y="-228600"/>
            <a:ext cx="9144000" cy="70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ambrian Explo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8" name="Picture 5" descr="cambrian explosion"/>
          <p:cNvPicPr/>
          <p:nvPr/>
        </p:nvPicPr>
        <p:blipFill>
          <a:blip r:embed="rId1"/>
          <a:stretch/>
        </p:blipFill>
        <p:spPr>
          <a:xfrm>
            <a:off x="1066680" y="1371600"/>
            <a:ext cx="7162920" cy="51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77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4" dur="770" fill="hold"/>
                                        <p:tgtEl>
                                          <p:spTgt spid="7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6" dur="77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8" dur="77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77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5" dur="770" fill="hold"/>
                                        <p:tgtEl>
                                          <p:spTgt spid="7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7" dur="77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9" dur="77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The Descent of Man and the Attacks on Evolution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80" name="Picture 5" descr="Darwin_ape"/>
          <p:cNvPicPr/>
          <p:nvPr/>
        </p:nvPicPr>
        <p:blipFill>
          <a:blip r:embed="rId1"/>
          <a:stretch/>
        </p:blipFill>
        <p:spPr>
          <a:xfrm>
            <a:off x="1066680" y="1828800"/>
            <a:ext cx="3173400" cy="43434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EvolutionDarwinism"/>
          <p:cNvPicPr/>
          <p:nvPr/>
        </p:nvPicPr>
        <p:blipFill>
          <a:blip r:embed="rId2"/>
          <a:stretch/>
        </p:blipFill>
        <p:spPr>
          <a:xfrm>
            <a:off x="4648320" y="1828800"/>
            <a:ext cx="35287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Human Story 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nozoic Era (“Age of Mammals”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ound 2.5 million years ag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frican Savan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mmals including prim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umans and chimpanzees share a common ancestor between 7 to 6 million years ag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7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7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0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If they are happy swinging in trees, why come down?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idences found in the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reat Rift Valley,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vannas on the Eastern part of Afr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fficulty in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knuckle walking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apt to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ipedal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dators abound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→ flight or fight, shelter and prot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cattered plants → change in diet, enriched food sel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2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7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2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7" dur="5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Southern Ape”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ustralopithe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 to 1 million years a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racteristics similar to humans and a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arable brain size with a chimpanze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. afarensi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→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Picture 6" descr="a afarensis"/>
          <p:cNvPicPr/>
          <p:nvPr/>
        </p:nvPicPr>
        <p:blipFill>
          <a:blip r:embed="rId1"/>
          <a:stretch/>
        </p:blipFill>
        <p:spPr>
          <a:xfrm>
            <a:off x="4495680" y="1743120"/>
            <a:ext cx="4343400" cy="45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9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4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9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4" dur="5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9" dur="5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o murampa na ni siya…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505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ipedal; hands like huma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. african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7009920" y="5181120"/>
            <a:ext cx="213372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ucy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the Sky with Diamon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Picture 5" descr="a africanus"/>
          <p:cNvPicPr/>
          <p:nvPr/>
        </p:nvPicPr>
        <p:blipFill>
          <a:blip r:embed="rId1"/>
          <a:stretch/>
        </p:blipFill>
        <p:spPr>
          <a:xfrm>
            <a:off x="380880" y="3124080"/>
            <a:ext cx="3657600" cy="3429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8" descr="lucy"/>
          <p:cNvPicPr/>
          <p:nvPr/>
        </p:nvPicPr>
        <p:blipFill>
          <a:blip r:embed="rId2"/>
          <a:stretch/>
        </p:blipFill>
        <p:spPr>
          <a:xfrm>
            <a:off x="4267080" y="1447920"/>
            <a:ext cx="2743200" cy="50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1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2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3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3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r. Handy Ma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mo habil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5 to 1.5 million years a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posable thumbs- efficient means of handling things and creating t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2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2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2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Original Laaga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98" name="Picture 5" descr="peking man"/>
          <p:cNvPicPr/>
          <p:nvPr/>
        </p:nvPicPr>
        <p:blipFill>
          <a:blip r:embed="rId1"/>
          <a:stretch/>
        </p:blipFill>
        <p:spPr>
          <a:xfrm>
            <a:off x="685800" y="1447920"/>
            <a:ext cx="3718080" cy="495288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mo erect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6 million years to 200,000 years a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gger brains, tall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←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king M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6" descr="homo erectus"/>
          <p:cNvPicPr/>
          <p:nvPr/>
        </p:nvPicPr>
        <p:blipFill>
          <a:blip r:embed="rId2"/>
          <a:stretch/>
        </p:blipFill>
        <p:spPr>
          <a:xfrm>
            <a:off x="5105520" y="4114800"/>
            <a:ext cx="27432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7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8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9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4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9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4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9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Intelligent Design Theories</a:t>
            </a: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(Creation Myths)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8" descr="greek pantheon"/>
          <p:cNvPicPr/>
          <p:nvPr/>
        </p:nvPicPr>
        <p:blipFill>
          <a:blip r:embed="rId1"/>
          <a:stretch/>
        </p:blipFill>
        <p:spPr>
          <a:xfrm>
            <a:off x="457200" y="1832040"/>
            <a:ext cx="4343400" cy="41860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9" descr="norse"/>
          <p:cNvPicPr/>
          <p:nvPr/>
        </p:nvPicPr>
        <p:blipFill>
          <a:blip r:embed="rId2"/>
          <a:stretch/>
        </p:blipFill>
        <p:spPr>
          <a:xfrm>
            <a:off x="4952880" y="1751040"/>
            <a:ext cx="33530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aller, Smarter, Wiser 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mo sapie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anderth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o-magn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4" descr="neanderthal skeleton"/>
          <p:cNvPicPr/>
          <p:nvPr/>
        </p:nvPicPr>
        <p:blipFill>
          <a:blip r:embed="rId1"/>
          <a:stretch/>
        </p:blipFill>
        <p:spPr>
          <a:xfrm>
            <a:off x="5105520" y="1676520"/>
            <a:ext cx="2334960" cy="49528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neanderthal child"/>
          <p:cNvPicPr/>
          <p:nvPr/>
        </p:nvPicPr>
        <p:blipFill>
          <a:blip r:embed="rId2"/>
          <a:stretch/>
        </p:blipFill>
        <p:spPr>
          <a:xfrm>
            <a:off x="1143000" y="3352680"/>
            <a:ext cx="25606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2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7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2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isest of them all?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mo sapiens sapie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6" descr="intramurals (42)"/>
          <p:cNvPicPr/>
          <p:nvPr/>
        </p:nvPicPr>
        <p:blipFill>
          <a:blip r:embed="rId1"/>
          <a:stretch/>
        </p:blipFill>
        <p:spPr>
          <a:xfrm>
            <a:off x="457200" y="22860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8" descr="DSC01755"/>
          <p:cNvPicPr/>
          <p:nvPr/>
        </p:nvPicPr>
        <p:blipFill>
          <a:blip r:embed="rId2"/>
          <a:stretch/>
        </p:blipFill>
        <p:spPr>
          <a:xfrm>
            <a:off x="3505320" y="2362320"/>
            <a:ext cx="4952880" cy="42447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0" descr="DSC00011"/>
          <p:cNvPicPr/>
          <p:nvPr/>
        </p:nvPicPr>
        <p:blipFill>
          <a:blip r:embed="rId3"/>
          <a:stretch/>
        </p:blipFill>
        <p:spPr>
          <a:xfrm>
            <a:off x="380880" y="4572000"/>
            <a:ext cx="29718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77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0" dur="770" fill="hold"/>
                                        <p:tgtEl>
                                          <p:spTgt spid="10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32" dur="77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34" dur="77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0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1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2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More Stories from Around the World…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55" name="Picture 4" descr="african gods"/>
          <p:cNvPicPr/>
          <p:nvPr/>
        </p:nvPicPr>
        <p:blipFill>
          <a:blip r:embed="rId1"/>
          <a:stretch/>
        </p:blipFill>
        <p:spPr>
          <a:xfrm>
            <a:off x="533520" y="1752480"/>
            <a:ext cx="2971800" cy="44960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nut"/>
          <p:cNvPicPr/>
          <p:nvPr/>
        </p:nvPicPr>
        <p:blipFill>
          <a:blip r:embed="rId2"/>
          <a:stretch/>
        </p:blipFill>
        <p:spPr>
          <a:xfrm>
            <a:off x="3809880" y="1752480"/>
            <a:ext cx="50292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…</a:t>
            </a: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n how the world began…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58" name="Picture 8" descr="vishnu-painting"/>
          <p:cNvPicPr/>
          <p:nvPr/>
        </p:nvPicPr>
        <p:blipFill>
          <a:blip r:embed="rId1"/>
          <a:stretch/>
        </p:blipFill>
        <p:spPr>
          <a:xfrm>
            <a:off x="380880" y="1523880"/>
            <a:ext cx="5257800" cy="48006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9" descr="Izanami_and_izanagi"/>
          <p:cNvPicPr/>
          <p:nvPr/>
        </p:nvPicPr>
        <p:blipFill>
          <a:blip r:embed="rId2"/>
          <a:stretch/>
        </p:blipFill>
        <p:spPr>
          <a:xfrm>
            <a:off x="5943600" y="1295280"/>
            <a:ext cx="249228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…</a:t>
            </a: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all of them uniqu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61" name="Picture 10" descr="quetzalcoatl"/>
          <p:cNvPicPr/>
          <p:nvPr/>
        </p:nvPicPr>
        <p:blipFill>
          <a:blip r:embed="rId1"/>
          <a:stretch/>
        </p:blipFill>
        <p:spPr>
          <a:xfrm>
            <a:off x="228600" y="1981080"/>
            <a:ext cx="4572000" cy="38005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" descr="malakas at maganda"/>
          <p:cNvPicPr/>
          <p:nvPr/>
        </p:nvPicPr>
        <p:blipFill>
          <a:blip r:embed="rId2"/>
          <a:stretch/>
        </p:blipFill>
        <p:spPr>
          <a:xfrm>
            <a:off x="4840200" y="1600200"/>
            <a:ext cx="3819600" cy="44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big ba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77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0" dur="770" fill="hold"/>
                                        <p:tgtEl>
                                          <p:spTgt spid="6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" dur="77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" dur="77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bigbang2"/>
          <p:cNvPicPr/>
          <p:nvPr/>
        </p:nvPicPr>
        <p:blipFill>
          <a:blip r:embed="rId1"/>
          <a:stretch/>
        </p:blipFill>
        <p:spPr>
          <a:xfrm>
            <a:off x="0" y="0"/>
            <a:ext cx="9144000" cy="72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ebf1"/>
                </a:solidFill>
                <a:latin typeface="Arial"/>
              </a:rPr>
              <a:t>If the earth has existed for 4.5 billion years, what about </a:t>
            </a:r>
            <a:r>
              <a:rPr b="1" lang="en-US" sz="3200" spc="-1" strike="noStrike">
                <a:solidFill>
                  <a:srgbClr val="e3ebf1"/>
                </a:solidFill>
                <a:latin typeface="Arial"/>
              </a:rPr>
              <a:t>life on earth</a:t>
            </a:r>
            <a:r>
              <a:rPr b="0" lang="en-US" sz="3200" spc="-1" strike="noStrike">
                <a:solidFill>
                  <a:srgbClr val="e3ebf1"/>
                </a:solidFill>
                <a:latin typeface="Arial"/>
              </a:rPr>
              <a:t>?</a:t>
            </a: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657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rliest evidence: cyanobacteria called stromatolites (3.4 billion years), in Austral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 early as 3.8 billion years a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rth was stable enough to support lif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bonucleic Acid (RN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Picture 6" descr="RNA"/>
          <p:cNvPicPr/>
          <p:nvPr/>
        </p:nvPicPr>
        <p:blipFill>
          <a:blip r:embed="rId1"/>
          <a:stretch/>
        </p:blipFill>
        <p:spPr>
          <a:xfrm>
            <a:off x="4191120" y="1828800"/>
            <a:ext cx="4572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ut where? 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ssibly the ocean, based on eviden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ssi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ep sea microb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moker fossils in Chi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Picture 8" descr="smoker fossil"/>
          <p:cNvPicPr/>
          <p:nvPr/>
        </p:nvPicPr>
        <p:blipFill>
          <a:blip r:embed="rId1"/>
          <a:stretch/>
        </p:blipFill>
        <p:spPr>
          <a:xfrm>
            <a:off x="304920" y="1676520"/>
            <a:ext cx="419076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7T06:45:49Z</dcterms:created>
  <dc:creator>deiyow_t</dc:creator>
  <dc:description/>
  <dc:language>en-US</dc:language>
  <cp:lastModifiedBy>RomaK</cp:lastModifiedBy>
  <dcterms:modified xsi:type="dcterms:W3CDTF">2015-09-04T09:25:15Z</dcterms:modified>
  <cp:revision>8</cp:revision>
  <dc:subject/>
  <dc:title>A Brief History of Life</dc:title>
</cp:coreProperties>
</file>