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37BE-467B-4578-A107-4C374D0109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RNAD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RN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Strong Are Tornad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ngth is measured by the Fujita Sca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0 = weakest, F5 = Strong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trong Are Torna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is measured by the Fujita Scal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0 = weakest, F5 = Str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Most Tornados Stro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1% of all tornados fall in the F4 – F5 r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Most Tornados Str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1% of all tornados fall in the F4 – F5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Up With Xenia, O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enia has been the target of several major tornados down through the year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recent: Sept. 200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Notable: April 3, 1974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Up With Xenia, 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enia has been the target of several major tornados down through the yea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cent: Sept.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Notable: April 3, 197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. 2000 Da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do you  think this Tornado ranked on the Fujita Sca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000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 think this Tornado ranked on the Fujita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ril 3, 1974 Torn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ril 3, 1974 Tor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3, 1974 Da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do you think this tornado ranked on the Fujita Sca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3, 1974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think this tornado ranked on the Fujita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. 2000 = F3-F4 (Severe/Devastating Damage; Winds of 200-260 mp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1974 = F5 (Incredible Damage; Winds of 260-300+ mph!!!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. 2000 = F3-F4 (Severe/Devastating Damage; Winds of 200-260 m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1974 = F5 (Incredible Damage; Winds of 260-300+ mph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most tornados strong or wea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ould cause more damage, an F1 or an F5 torn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which season do most tornados occur in the U.S.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ickname of the region in the U.S. where many tornados occu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used to classify the intensity of tornad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nus**: How do experts think tornados for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most tornados strong or wea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ould cause more damage, an F1 or an F5 torna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hich season do most tornados occur in the U.S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ickname of the region in the U.S. where many tornados occu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used to classify the intensity of torna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us**: How do experts think tornados 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ornados Really Sound Like Freight Trains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interaxs.net/pub/hgr/xenia_tornado.mp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 after listening to the Xenia Tornado of April 3, 1974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ornados Really Sound Like Freight Train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teraxs.net/pub/hgr/xenia_tornado.m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fter listening to the Xenia Tornado of April 3, 1974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s can exceed 300 mph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1,000 occur on average each year in the U.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ll 80, injure 1,500 people each year on ave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ave a path up to a mile wid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occur any time of the year, but peak during the spring (March-Jun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 most frequently in the central U.S. in a region nicknamed “Tornado Alley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nado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can exceed 300 mph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1,000 occur on average each year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 80, injure 1,500 people each year on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ave a path up to a mile w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ccur any time of the year, but peak during the spring (March-Ju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 most frequently in the central U.S. in a region nicknamed “Tornado Alle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nado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xactly Is A Torn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xactly Is A Torna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For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ually, no one knows for sur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…We have a pretty good ide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, no one knows for s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We have a pretty good id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ction Dem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basic principle behind a tornado vortex (funnel; column of fire in this ca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m air moves up the vortex (updra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ols and sinks as it funnels out of the top (downdra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ir drawn in = faster and tighter sp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called a convection 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basic principle behind a tornado vortex (funnel; column of fire in this 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air moves up the vortex (updra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s and sinks as it funnels out of the top (downdra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ir drawn in = faster and tighter s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a convec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D52-89D7-4BD2-913E-AA2393BD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8F3-3553-4D72-8655-69820E34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D71-614D-40C8-BF4A-3562372C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251-39A0-4F8C-9D3D-3496FC53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126C-F5EB-4A96-B04C-6D77E624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8232-992E-487E-9DDB-14E3DB71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11CC-3D4D-4235-B3DF-AC2E97E4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7124-9A2F-4CEC-A476-C3EED21A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FCA3-5522-43A9-B86D-69965266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86FD-973C-46A2-B4F9-92366B22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791C-D4D9-4E5A-9E87-F67BA78E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FDA-67D6-4C13-8C71-BE8B14DD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9324-B372-412E-B8DD-E68C6E75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46AE-3BE1-4F36-9E23-C766B28D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F765-F36D-4997-8A77-9B36AE41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7104-996D-4B7D-9D42-CED6F157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FA9F-A86A-4598-A49F-A3780218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342-CB49-4FAC-A9A9-FD1798B7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C29-9C65-4F4E-9C92-7E6E6777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DF2-338E-4532-BAAD-B1E6AAAA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A71-F667-42D6-9476-0C49BDA1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B4E-6CEE-496C-9904-E6DCCBD0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F15-5B5E-48A3-9BC7-973293BC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044-1B5E-4474-A325-222B2488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55C5-618B-4F87-A5EA-96ACD74EE5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D034-196B-443A-88D1-1ABC48C51E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teraxs.net/pub/hgr/xenia_tornado.mp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02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2286000" y="1752480"/>
            <a:ext cx="4800600" cy="232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RNADO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Strong Are Tornado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 is measured by the Fujita Scal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0 = weakest, F5 = Strong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fujita"/>
          <p:cNvPicPr/>
          <p:nvPr/>
        </p:nvPicPr>
        <p:blipFill>
          <a:blip r:embed="rId1"/>
          <a:stretch/>
        </p:blipFill>
        <p:spPr>
          <a:xfrm>
            <a:off x="838080" y="2666880"/>
            <a:ext cx="7086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re Most Tornados Strong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ornados are potentially deadly, but most are actually relatively weak (74%)…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1% of all tornados fall in the F4 – F5 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fujpie"/>
          <p:cNvPicPr/>
          <p:nvPr/>
        </p:nvPicPr>
        <p:blipFill>
          <a:blip r:embed="rId1"/>
          <a:stretch/>
        </p:blipFill>
        <p:spPr>
          <a:xfrm>
            <a:off x="1447920" y="3352680"/>
            <a:ext cx="6095880" cy="3353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’s Up With Xenia, OH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enia has been the target of several major tornados down through the year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recent: Sept. 20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Notable: April 3, 197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House%20gutted"/>
          <p:cNvPicPr/>
          <p:nvPr/>
        </p:nvPicPr>
        <p:blipFill>
          <a:blip r:embed="rId1"/>
          <a:stretch/>
        </p:blipFill>
        <p:spPr>
          <a:xfrm>
            <a:off x="4724280" y="3733920"/>
            <a:ext cx="3048120" cy="218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urvived%20in%20bathroom"/>
          <p:cNvPicPr/>
          <p:nvPr/>
        </p:nvPicPr>
        <p:blipFill>
          <a:blip r:embed="rId2"/>
          <a:stretch/>
        </p:blipFill>
        <p:spPr>
          <a:xfrm>
            <a:off x="1295280" y="3733920"/>
            <a:ext cx="32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Dollar%20Tree"/>
          <p:cNvPicPr/>
          <p:nvPr/>
        </p:nvPicPr>
        <p:blipFill>
          <a:blip r:embed="rId3"/>
          <a:stretch/>
        </p:blipFill>
        <p:spPr>
          <a:xfrm>
            <a:off x="1295280" y="1295280"/>
            <a:ext cx="32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richard5"/>
          <p:cNvPicPr/>
          <p:nvPr/>
        </p:nvPicPr>
        <p:blipFill>
          <a:blip r:embed="rId4"/>
          <a:stretch/>
        </p:blipFill>
        <p:spPr>
          <a:xfrm>
            <a:off x="4724280" y="1295280"/>
            <a:ext cx="3048120" cy="21891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pt. 2000 Da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4495680" y="6278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533520" y="6008760"/>
            <a:ext cx="133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you  think this Tornado ranked on the Fujita Sca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ril 3, 1974 Tornad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Picture 6" descr="xenia060"/>
          <p:cNvPicPr/>
          <p:nvPr/>
        </p:nvPicPr>
        <p:blipFill>
          <a:blip r:embed="rId1"/>
          <a:stretch/>
        </p:blipFill>
        <p:spPr>
          <a:xfrm>
            <a:off x="838080" y="2209680"/>
            <a:ext cx="4038840" cy="3353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xenia03"/>
          <p:cNvPicPr/>
          <p:nvPr/>
        </p:nvPicPr>
        <p:blipFill>
          <a:blip r:embed="rId2"/>
          <a:stretch/>
        </p:blipFill>
        <p:spPr>
          <a:xfrm>
            <a:off x="5095800" y="1600200"/>
            <a:ext cx="314172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xenia04"/>
          <p:cNvPicPr/>
          <p:nvPr/>
        </p:nvPicPr>
        <p:blipFill>
          <a:blip r:embed="rId3"/>
          <a:stretch/>
        </p:blipFill>
        <p:spPr>
          <a:xfrm>
            <a:off x="5079960" y="3941640"/>
            <a:ext cx="31734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ril 3, 1974 Da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6" name="Picture 4" descr="xen8"/>
          <p:cNvPicPr/>
          <p:nvPr/>
        </p:nvPicPr>
        <p:blipFill>
          <a:blip r:embed="rId1"/>
          <a:stretch/>
        </p:blipFill>
        <p:spPr>
          <a:xfrm>
            <a:off x="76320" y="1219320"/>
            <a:ext cx="3024000" cy="21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xen12"/>
          <p:cNvPicPr/>
          <p:nvPr/>
        </p:nvPicPr>
        <p:blipFill>
          <a:blip r:embed="rId2"/>
          <a:stretch/>
        </p:blipFill>
        <p:spPr>
          <a:xfrm>
            <a:off x="3151080" y="1219320"/>
            <a:ext cx="302112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xen17"/>
          <p:cNvPicPr/>
          <p:nvPr/>
        </p:nvPicPr>
        <p:blipFill>
          <a:blip r:embed="rId3"/>
          <a:stretch/>
        </p:blipFill>
        <p:spPr>
          <a:xfrm>
            <a:off x="76320" y="3505320"/>
            <a:ext cx="2971800" cy="21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xen9"/>
          <p:cNvPicPr/>
          <p:nvPr/>
        </p:nvPicPr>
        <p:blipFill>
          <a:blip r:embed="rId4"/>
          <a:stretch/>
        </p:blipFill>
        <p:spPr>
          <a:xfrm>
            <a:off x="3124080" y="3505320"/>
            <a:ext cx="3021120" cy="2189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xen22"/>
          <p:cNvPicPr/>
          <p:nvPr/>
        </p:nvPicPr>
        <p:blipFill>
          <a:blip r:embed="rId5"/>
          <a:stretch/>
        </p:blipFill>
        <p:spPr>
          <a:xfrm>
            <a:off x="6248520" y="123840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xen6"/>
          <p:cNvPicPr/>
          <p:nvPr/>
        </p:nvPicPr>
        <p:blipFill>
          <a:blip r:embed="rId6"/>
          <a:stretch/>
        </p:blipFill>
        <p:spPr>
          <a:xfrm>
            <a:off x="6248520" y="3505320"/>
            <a:ext cx="2895480" cy="2209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380880" y="59072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you think this tornado ranked on the Fujita Sca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. 2000 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3-F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Severe/Devastating Damage; Winds of 200-260 mp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974 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credible Damage; Winds of 260-300+ mph!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twister2"/>
          <p:cNvPicPr/>
          <p:nvPr/>
        </p:nvPicPr>
        <p:blipFill>
          <a:blip r:embed="rId1"/>
          <a:stretch/>
        </p:blipFill>
        <p:spPr>
          <a:xfrm>
            <a:off x="6105600" y="2260440"/>
            <a:ext cx="1123920" cy="866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twister2"/>
          <p:cNvPicPr/>
          <p:nvPr/>
        </p:nvPicPr>
        <p:blipFill>
          <a:blip r:embed="rId2"/>
          <a:stretch/>
        </p:blipFill>
        <p:spPr>
          <a:xfrm>
            <a:off x="6105600" y="4602240"/>
            <a:ext cx="112392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ck Re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most tornados strong or we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uld cause more damage, an F1 or an F5 torna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which season do most tornados occur in the U.S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nickname of the region in the U.S. where many tornados occu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used to classify the intensity of tornad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us**: How do experts think tornados f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5" descr="twister4"/>
          <p:cNvPicPr/>
          <p:nvPr/>
        </p:nvPicPr>
        <p:blipFill>
          <a:blip r:embed="rId1"/>
          <a:stretch/>
        </p:blipFill>
        <p:spPr>
          <a:xfrm>
            <a:off x="380880" y="1371600"/>
            <a:ext cx="2133720" cy="2874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twister1"/>
          <p:cNvPicPr/>
          <p:nvPr/>
        </p:nvPicPr>
        <p:blipFill>
          <a:blip r:embed="rId2"/>
          <a:stretch/>
        </p:blipFill>
        <p:spPr>
          <a:xfrm>
            <a:off x="4648320" y="1760400"/>
            <a:ext cx="4038480" cy="1868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twister3"/>
          <p:cNvPicPr/>
          <p:nvPr/>
        </p:nvPicPr>
        <p:blipFill>
          <a:blip r:embed="rId3"/>
          <a:stretch/>
        </p:blipFill>
        <p:spPr>
          <a:xfrm>
            <a:off x="0" y="4419720"/>
            <a:ext cx="4038480" cy="1868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intwist"/>
          <p:cNvPicPr/>
          <p:nvPr/>
        </p:nvPicPr>
        <p:blipFill>
          <a:blip r:embed="rId4"/>
          <a:stretch/>
        </p:blipFill>
        <p:spPr>
          <a:xfrm>
            <a:off x="6141960" y="4038480"/>
            <a:ext cx="3002040" cy="2189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orainbow"/>
          <p:cNvPicPr/>
          <p:nvPr/>
        </p:nvPicPr>
        <p:blipFill>
          <a:blip r:embed="rId5"/>
          <a:stretch/>
        </p:blipFill>
        <p:spPr>
          <a:xfrm>
            <a:off x="2819520" y="3352680"/>
            <a:ext cx="3340080" cy="2495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wizard"/>
          <p:cNvPicPr/>
          <p:nvPr/>
        </p:nvPicPr>
        <p:blipFill>
          <a:blip r:embed="rId6"/>
          <a:stretch/>
        </p:blipFill>
        <p:spPr>
          <a:xfrm>
            <a:off x="2362320" y="1295280"/>
            <a:ext cx="2832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o Tornados Really Sound Like Freight Trains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interaxs.net/pub/hgr/xenia_tornado.mp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after listening to the Xenia Tornado of April 3, 1974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twister2"/>
          <p:cNvPicPr/>
          <p:nvPr/>
        </p:nvPicPr>
        <p:blipFill>
          <a:blip r:embed="rId1"/>
          <a:stretch/>
        </p:blipFill>
        <p:spPr>
          <a:xfrm>
            <a:off x="533520" y="380880"/>
            <a:ext cx="1123920" cy="866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twister2"/>
          <p:cNvPicPr/>
          <p:nvPr/>
        </p:nvPicPr>
        <p:blipFill>
          <a:blip r:embed="rId2"/>
          <a:stretch/>
        </p:blipFill>
        <p:spPr>
          <a:xfrm>
            <a:off x="7378560" y="380880"/>
            <a:ext cx="1135080" cy="863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s can exceed 300 mph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1,000 occur on average each yea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 80, injure 1,500 people each year on a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ve a path up to a mile wide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ccur any time of the year, but peak during the spring (March-Ju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 most frequently in the central U.S. in a region nicknamed “Tornado Alle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3048120" y="609480"/>
            <a:ext cx="2590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Tornado F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002171"/>
          <p:cNvPicPr/>
          <p:nvPr/>
        </p:nvPicPr>
        <p:blipFill>
          <a:blip r:embed="rId1"/>
          <a:stretch/>
        </p:blipFill>
        <p:spPr>
          <a:xfrm>
            <a:off x="3240" y="0"/>
            <a:ext cx="9140760" cy="7010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Exactly Is A Tornado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olently rotating column of air (Vortex) extending from a thunderstorm to the 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8" descr="g-torn2"/>
          <p:cNvPicPr/>
          <p:nvPr/>
        </p:nvPicPr>
        <p:blipFill>
          <a:blip r:embed="rId2"/>
          <a:stretch/>
        </p:blipFill>
        <p:spPr>
          <a:xfrm>
            <a:off x="380880" y="3886200"/>
            <a:ext cx="2772000" cy="1924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torn2"/>
          <p:cNvPicPr/>
          <p:nvPr/>
        </p:nvPicPr>
        <p:blipFill>
          <a:blip r:embed="rId3"/>
          <a:srcRect l="6533" t="2925" r="6533" b="5905"/>
          <a:stretch/>
        </p:blipFill>
        <p:spPr>
          <a:xfrm>
            <a:off x="5105520" y="2133720"/>
            <a:ext cx="3047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 They Form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no one knows for su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…We have a pretty good ide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9" descr="form1"/>
          <p:cNvPicPr/>
          <p:nvPr/>
        </p:nvPicPr>
        <p:blipFill>
          <a:blip r:embed="rId1"/>
          <a:stretch/>
        </p:blipFill>
        <p:spPr>
          <a:xfrm>
            <a:off x="0" y="3962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twister2"/>
          <p:cNvPicPr/>
          <p:nvPr/>
        </p:nvPicPr>
        <p:blipFill>
          <a:blip r:embed="rId2"/>
          <a:stretch/>
        </p:blipFill>
        <p:spPr>
          <a:xfrm>
            <a:off x="533520" y="30492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twister2"/>
          <p:cNvPicPr/>
          <p:nvPr/>
        </p:nvPicPr>
        <p:blipFill>
          <a:blip r:embed="rId3"/>
          <a:stretch/>
        </p:blipFill>
        <p:spPr>
          <a:xfrm>
            <a:off x="7543800" y="304920"/>
            <a:ext cx="1123920" cy="86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form2"/>
          <p:cNvPicPr/>
          <p:nvPr/>
        </p:nvPicPr>
        <p:blipFill>
          <a:blip r:embed="rId4"/>
          <a:stretch/>
        </p:blipFill>
        <p:spPr>
          <a:xfrm>
            <a:off x="3048120" y="3962520"/>
            <a:ext cx="3047760" cy="2590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form3"/>
          <p:cNvPicPr/>
          <p:nvPr/>
        </p:nvPicPr>
        <p:blipFill>
          <a:blip r:embed="rId5"/>
          <a:stretch/>
        </p:blipFill>
        <p:spPr>
          <a:xfrm>
            <a:off x="6095880" y="3962520"/>
            <a:ext cx="3048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a t-storm, a change in wind direction and an increase in speed forms an invisible, horizontal spinning effect in the lower atmosphere (at the base of the st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form1"/>
          <p:cNvPicPr/>
          <p:nvPr/>
        </p:nvPicPr>
        <p:blipFill>
          <a:blip r:embed="rId1"/>
          <a:stretch/>
        </p:blipFill>
        <p:spPr>
          <a:xfrm>
            <a:off x="4038480" y="1828800"/>
            <a:ext cx="4724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ing air within the t-storm (updrafts) tilts the rotating air from horizontal to ver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form2"/>
          <p:cNvPicPr/>
          <p:nvPr/>
        </p:nvPicPr>
        <p:blipFill>
          <a:blip r:embed="rId1"/>
          <a:stretch/>
        </p:blipFill>
        <p:spPr>
          <a:xfrm>
            <a:off x="4495680" y="182880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cal rotation now extends 2-6 miles up into the t-storm. Now a tornado may form and extend from this area of rotation to the g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form3"/>
          <p:cNvPicPr/>
          <p:nvPr/>
        </p:nvPicPr>
        <p:blipFill>
          <a:blip r:embed="rId1"/>
          <a:stretch/>
        </p:blipFill>
        <p:spPr>
          <a:xfrm>
            <a:off x="4495680" y="1828800"/>
            <a:ext cx="4648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vection Dem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basic principle behind a tornado vortex (funnel; column of fire in this c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air moves up the vortex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updraf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s and sinks as it funnels out of the top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(downdraf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e air drawn in = faster and tighter s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vection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5:30:45Z</dcterms:created>
  <dc:creator>s1250620</dc:creator>
  <dc:description/>
  <dc:language>en-US</dc:language>
  <cp:lastModifiedBy>RomaK</cp:lastModifiedBy>
  <dcterms:modified xsi:type="dcterms:W3CDTF">2015-09-04T09:45:56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