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5B43-B7CD-47D2-B7DB-6AFA678452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D15-F655-4096-A699-7E8358BC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33A-1227-4265-98C5-E3602E2B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935-72AA-4247-A69A-F91594D3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A57-3CC8-4104-8071-3EBFFE9A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2BDB-5F53-46C4-81F1-B3750CB8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131C-6B52-4CE0-B0FF-D0DE8C75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6BA2-7D91-4A12-BD40-F778540E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48FB-89A9-4C40-B2E1-0A495177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35F1-E9BB-4069-8899-D755302B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C1DD-874F-4E90-B10B-03C35F2F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EA72-1698-4F9A-A570-8A0DBCD1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3C9-1F71-49E5-B908-040B4242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FAF4-8170-4CF9-85AC-61E919E4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BD46-9E22-43F7-92E0-6BCBFCA3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0949-18D8-44F2-B126-119C6F3C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FACC-FBE5-4679-A9CD-BA68DCE3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2AD3-63A4-4AB4-BDB0-F6D6AAB2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4CE-4020-4A80-ABA1-3A4DC597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3C8-938C-49EE-9EFC-2814A3ED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78B-71BE-43C5-B008-FA3131E0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7A4-024F-4889-B0D8-A637D4F1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1A4-41F4-4165-86BB-FEED4551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422-B651-49B2-8C63-F3D4A250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0C1-8C8E-4229-9381-57520262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4BB1-8E19-40A8-9AB5-C5937CF57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D199-700B-499E-8D5F-F4DF4102F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259092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p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80880" y="182880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82880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609480" y="1676520"/>
            <a:ext cx="7696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7696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aulic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676520"/>
            <a:ext cx="7696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/Cor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121932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river (velocity &amp; load)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river (transport)"/>
          <p:cNvPicPr/>
          <p:nvPr/>
        </p:nvPicPr>
        <p:blipFill>
          <a:blip r:embed="rId1"/>
          <a:stretch/>
        </p:blipFill>
        <p:spPr>
          <a:xfrm>
            <a:off x="990720" y="251460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25909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tation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ltim: by leaps/ju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2:44:59Z</dcterms:created>
  <dc:creator>Melvin Chng</dc:creator>
  <dc:description/>
  <dc:language>en-US</dc:language>
  <cp:lastModifiedBy>RomaK</cp:lastModifiedBy>
  <dcterms:modified xsi:type="dcterms:W3CDTF">2015-09-04T09:45:48Z</dcterms:modified>
  <cp:revision>7</cp:revision>
  <dc:subject/>
  <dc:title>The Work of Rivers</dc:title>
</cp:coreProperties>
</file>