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8F0-11E7-4234-ABBE-DA42D1BBD4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unctions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us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load like silt and clay (fine-grained) will float al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only be deposited when stream velocity reaches near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bulence in the water is crucial in holding a load of sed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are transported in dissolv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will drop its load w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volume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region with high eva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permeabl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ding flood w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D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’s speed decrease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calm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enters a gently slop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a river depends on it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 func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water flow (dependent on gradi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ver may erode in 4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rasion/corra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carried by a river will grind against its bed and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slowly wears the bed and sides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Hydraulic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turbulence in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water causes friction in the joints of rocks in a stream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s may be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ned fragments of rocks get swept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olution/Cor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 minerals in rocks like limestone can b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are then ero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velocity and sediment size to er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and heavier rocks/gravels are dragged or rolled along the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ransportation (4 w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altation (saltim: by leaps/jum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66A-4AB4-4122-9FF9-5A53A795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2D0-A33C-4C98-BE25-B651DC1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F68-310C-4929-86DA-0F2C5CCB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D4E-4DEA-49F4-A9AB-3FE96213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7DCD-10E0-4E2E-94F1-578D47B9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5BAF-7912-4761-A387-B0B9EADD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B02B-1056-4F01-8142-098BCC7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0C8A-7955-4380-9A91-9376D02C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E2ED-19E3-4298-BCE9-D85B3655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CE28-0561-47F5-8200-EC9CC3EA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CE6D-1BB4-4292-AFB1-03F4E28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E5F-5A2C-46AC-95C6-AD5653EE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114D-DC42-4194-A217-039BD71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3FC0-7090-40F3-BDF7-DD648FAF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68AF-5A34-4ADA-AA8F-CB974165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3746-01C4-455F-9709-F11CD328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AFBD-6044-42CC-AAE5-72276D75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A19-71DF-48E8-ADE0-29C05C65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0F6-9454-4A3A-9407-C1D77948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871-5EAF-46D7-A3D9-7DAA082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BE8-E1D7-48D4-BD34-D985235F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1D0-5F24-454A-AC2D-FB983F4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5B3-FF8F-410A-A8E1-074F6E0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6D5-AE4C-4356-94A6-8A6B0970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7738-2C7A-49EF-9717-CB3FD8323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9297-66F3-4DF6-88EC-3D4F9F7EC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rosional work of streams/rivers carves and shapes the landscape through which they f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functions of r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259092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sp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f the load like silt and clay (fine-grained) will float alo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only be deposited when stream velocity reaches near 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bulence in the water is crucial in holding a load of sedi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inerals are transported in dissolv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pecially chemical solution derived from minerals like limestone or dolom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will drop its load wh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decr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80880" y="1828800"/>
            <a:ext cx="8229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volume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sea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region with high evapo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ce of permeabl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ding flood wa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828800"/>
            <a:ext cx="8229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Depo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’s speed decreases w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l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calm s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enters a gently sloping p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1828800"/>
            <a:ext cx="8229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a river depends on its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of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water flow (dependent on gradi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iver may erode in 4 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rasion/corr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 carried by a river will grind against its bed and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cess slowly wears the bed and sides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609480" y="1676520"/>
            <a:ext cx="7696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r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rown against the sides and bed of rivers, the load gets broken into smaller pie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7696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draulic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of turbulence in the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ning water causes friction in the joints of rocks in a stream cha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s may be enlar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sened fragments of rocks get swept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09480" y="1676520"/>
            <a:ext cx="7696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/Cor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rtain minerals in rocks like limestone can be dissolved in wa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cks are then ero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1219320"/>
            <a:ext cx="8534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velocity and sediment size to ero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river (velocity &amp; load)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6" descr="river (transport)"/>
          <p:cNvPicPr/>
          <p:nvPr/>
        </p:nvPicPr>
        <p:blipFill>
          <a:blip r:embed="rId1"/>
          <a:stretch/>
        </p:blipFill>
        <p:spPr>
          <a:xfrm>
            <a:off x="990720" y="251460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25909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and heavier rocks/gravels are dragged or rolled along the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The Work of Riv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0880" y="1905120"/>
            <a:ext cx="8534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Transportation (4 way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85800" y="24382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59092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tation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ltim: by leaps/ju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and lighter rock fragments and sand hop and bounce along the river b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 times, the distinction between traction and saltation may be difficult to determ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12:44:59Z</dcterms:created>
  <dc:creator>Melvin Chng</dc:creator>
  <dc:description/>
  <dc:language>en-US</dc:language>
  <cp:lastModifiedBy>RomaK</cp:lastModifiedBy>
  <dcterms:modified xsi:type="dcterms:W3CDTF">2015-09-04T09:45:48Z</dcterms:modified>
  <cp:revision>7</cp:revision>
  <dc:subject/>
  <dc:title>The Work of Rivers</dc:title>
</cp:coreProperties>
</file>