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5891-9A4F-42AD-90FD-EB693EBF66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herlands, also known as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MILL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itional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enches of the p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n the polders in not just for the c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ing cheese wheels the traditional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herlands, Holland: Tradition and Mod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ding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VAL CAS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LIPS ARE THE NETHERLANDS NUMBER ON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tch tulips are sent all over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dress at a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DTIONAL WOODEN 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 ARE NO LONGER FOR THE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54A-E8A4-46BA-9EA8-BD9B4229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B46-A997-44BA-A3EF-025DFC45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176-93F5-45A3-BC40-BEDB5251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EBF-AD6E-4C74-9AA9-5D6A5AE3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B35-F736-4A78-8B12-9ED405D3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760-92CD-4708-A0FE-C38A4CAE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1C3-E885-45D0-820B-D82B4B89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A9C-1BED-4CE9-9EA0-32895B78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400-B593-418D-B4FC-2017A7D9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D05-30A4-4F99-9868-4475C672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94A-8618-45B5-8640-E069424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934-E48B-4B62-B802-A00726A6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6EBA-39F6-46BE-BBF6-CBA45BF339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Netherlands, also known as Holla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9" descr="netherlands"/>
          <p:cNvPicPr/>
          <p:nvPr/>
        </p:nvPicPr>
        <p:blipFill>
          <a:blip r:embed="rId1"/>
          <a:stretch/>
        </p:blipFill>
        <p:spPr>
          <a:xfrm>
            <a:off x="2743200" y="1905120"/>
            <a:ext cx="294948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791320" y="20462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FOR 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MILL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ditional d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VoorkantboekTerschellingDanst"/>
          <p:cNvPicPr/>
          <p:nvPr/>
        </p:nvPicPr>
        <p:blipFill>
          <a:blip r:embed="rId1"/>
          <a:stretch/>
        </p:blipFill>
        <p:spPr>
          <a:xfrm>
            <a:off x="2340000" y="2057400"/>
            <a:ext cx="3251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olders"/>
          <p:cNvPicPr/>
          <p:nvPr/>
        </p:nvPicPr>
        <p:blipFill>
          <a:blip r:embed="rId1"/>
          <a:stretch/>
        </p:blipFill>
        <p:spPr>
          <a:xfrm>
            <a:off x="762120" y="1171440"/>
            <a:ext cx="7619760" cy="4515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93640" y="13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nches of the pol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enminiland2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3051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09480" y="590400"/>
            <a:ext cx="86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on the polders in not just for the c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aasdragers-150"/>
          <p:cNvPicPr/>
          <p:nvPr/>
        </p:nvPicPr>
        <p:blipFill>
          <a:blip r:embed="rId1"/>
          <a:stretch/>
        </p:blipFill>
        <p:spPr>
          <a:xfrm>
            <a:off x="1905120" y="6094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608840" y="4857840"/>
            <a:ext cx="73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ying cheese wheels the traditional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860879-Travel_Picture-Netherlands"/>
          <p:cNvPicPr/>
          <p:nvPr/>
        </p:nvPicPr>
        <p:blipFill>
          <a:blip r:embed="rId1"/>
          <a:stretch/>
        </p:blipFill>
        <p:spPr>
          <a:xfrm>
            <a:off x="1143000" y="1347840"/>
            <a:ext cx="6858000" cy="551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-495360" y="133200"/>
            <a:ext cx="880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herlands, Holland: Tradition and Mod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netherlands"/>
          <p:cNvPicPr/>
          <p:nvPr/>
        </p:nvPicPr>
        <p:blipFill>
          <a:blip r:embed="rId1"/>
          <a:stretch/>
        </p:blipFill>
        <p:spPr>
          <a:xfrm>
            <a:off x="0" y="0"/>
            <a:ext cx="4267080" cy="32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17956-Travel_Picture-Netherlands"/>
          <p:cNvPicPr/>
          <p:nvPr/>
        </p:nvPicPr>
        <p:blipFill>
          <a:blip r:embed="rId2"/>
          <a:stretch/>
        </p:blipFill>
        <p:spPr>
          <a:xfrm>
            <a:off x="4114800" y="3436920"/>
            <a:ext cx="5029200" cy="342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690120" y="4933800"/>
            <a:ext cx="259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ding in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 S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Muiden%2520castle,%2520Netherlands"/>
          <p:cNvPicPr/>
          <p:nvPr/>
        </p:nvPicPr>
        <p:blipFill>
          <a:blip r:embed="rId1"/>
          <a:stretch/>
        </p:blipFill>
        <p:spPr>
          <a:xfrm>
            <a:off x="914400" y="1079640"/>
            <a:ext cx="5334120" cy="3725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17840" y="49417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VAL CA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netherlands_keukenhofpark"/>
          <p:cNvPicPr/>
          <p:nvPr/>
        </p:nvPicPr>
        <p:blipFill>
          <a:blip r:embed="rId1"/>
          <a:stretch/>
        </p:blipFill>
        <p:spPr>
          <a:xfrm>
            <a:off x="838080" y="628560"/>
            <a:ext cx="6591600" cy="4943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57200" y="5794200"/>
            <a:ext cx="96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PS ARE THE NETHERLANDS NUMBER ONE F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utch tulips are sent all over the wor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plan_netherlands_bulb_field_near_haarlem"/>
          <p:cNvPicPr/>
          <p:nvPr/>
        </p:nvPicPr>
        <p:blipFill>
          <a:blip r:embed="rId1"/>
          <a:stretch/>
        </p:blipFill>
        <p:spPr>
          <a:xfrm>
            <a:off x="838080" y="2057400"/>
            <a:ext cx="4891320" cy="323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usarium_tulip_bulb6978s"/>
          <p:cNvPicPr/>
          <p:nvPr/>
        </p:nvPicPr>
        <p:blipFill>
          <a:blip r:embed="rId2"/>
          <a:stretch/>
        </p:blipFill>
        <p:spPr>
          <a:xfrm>
            <a:off x="6019920" y="13716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stockphoto_415827_tulip"/>
          <p:cNvPicPr/>
          <p:nvPr/>
        </p:nvPicPr>
        <p:blipFill>
          <a:blip r:embed="rId3"/>
          <a:stretch/>
        </p:blipFill>
        <p:spPr>
          <a:xfrm>
            <a:off x="6095880" y="3276720"/>
            <a:ext cx="24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5" descr="Netherlands_Amsterdam_Dec01_04_Canal_in_Amsterdam"/>
          <p:cNvPicPr/>
          <p:nvPr/>
        </p:nvPicPr>
        <p:blipFill>
          <a:blip r:embed="rId1"/>
          <a:stretch/>
        </p:blipFill>
        <p:spPr>
          <a:xfrm>
            <a:off x="1052640" y="790560"/>
            <a:ext cx="7038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traditional_dress"/>
          <p:cNvPicPr/>
          <p:nvPr/>
        </p:nvPicPr>
        <p:blipFill>
          <a:blip r:embed="rId1"/>
          <a:stretch/>
        </p:blipFill>
        <p:spPr>
          <a:xfrm>
            <a:off x="304920" y="262080"/>
            <a:ext cx="8381880" cy="551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98560" y="577224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dress at a fest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5" descr="283713-Travel_Picture-Netherlands"/>
          <p:cNvPicPr/>
          <p:nvPr/>
        </p:nvPicPr>
        <p:blipFill>
          <a:blip r:embed="rId1"/>
          <a:stretch/>
        </p:blipFill>
        <p:spPr>
          <a:xfrm>
            <a:off x="2895480" y="685800"/>
            <a:ext cx="422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5" descr="fietser2"/>
          <p:cNvPicPr/>
          <p:nvPr/>
        </p:nvPicPr>
        <p:blipFill>
          <a:blip r:embed="rId1"/>
          <a:stretch/>
        </p:blipFill>
        <p:spPr>
          <a:xfrm>
            <a:off x="609480" y="2057400"/>
            <a:ext cx="3014640" cy="233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3636360" y="29718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TIONAL WOODEN 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ES ARE NO LONGER FOR THE FE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5" descr="788828-Travel_Picture-Netherlands"/>
          <p:cNvPicPr/>
          <p:nvPr/>
        </p:nvPicPr>
        <p:blipFill>
          <a:blip r:embed="rId1"/>
          <a:stretch/>
        </p:blipFill>
        <p:spPr>
          <a:xfrm>
            <a:off x="2438280" y="1943280"/>
            <a:ext cx="39322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0:19:46Z</dcterms:created>
  <dc:creator> Karen</dc:creator>
  <dc:description/>
  <dc:language>en-US</dc:language>
  <cp:lastModifiedBy>RomaK</cp:lastModifiedBy>
  <dcterms:modified xsi:type="dcterms:W3CDTF">2015-09-04T09:45:42Z</dcterms:modified>
  <cp:revision>5</cp:revision>
  <dc:subject/>
  <dc:title>The Netherlands</dc:title>
</cp:coreProperties>
</file>