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A5C0-2448-4377-A2CA-DE5105DAD0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850-C2B6-4C36-AFDF-A0F5E8CD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8CE-F809-4508-9108-4F8998C0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812-CC96-4B49-ADF1-C9B79CA8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117-428F-45BC-B5C0-C8E5762F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877-F41C-4D64-8166-2A3A4DF2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F8F-209F-4CBB-8E5C-5F12E1AB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E34-AF53-45D9-816E-CB027564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A91-F447-4D26-81EB-233D65AA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2A4-5E25-441B-BBF9-050CC56A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43C-29A7-4AB8-8FAE-AD5C2CED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603-559B-4ECB-ABCF-9D3EEE2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0CD-8BA5-4A6B-9B69-23C0F720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057F-A221-4113-AEED-A4F9C4F976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 Influence of Human Activity on the Environmen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0" name="Picture 4" descr="j0285360"/>
          <p:cNvPicPr/>
          <p:nvPr/>
        </p:nvPicPr>
        <p:blipFill>
          <a:blip r:embed="rId1"/>
          <a:stretch/>
        </p:blipFill>
        <p:spPr>
          <a:xfrm>
            <a:off x="2987640" y="3357720"/>
            <a:ext cx="2762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4" name="Picture 5" descr="image033"/>
          <p:cNvPicPr/>
          <p:nvPr/>
        </p:nvPicPr>
        <p:blipFill>
          <a:blip r:embed="rId1"/>
          <a:stretch/>
        </p:blipFill>
        <p:spPr>
          <a:xfrm>
            <a:off x="1332000" y="1139760"/>
            <a:ext cx="6480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roblems with Fertiliser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ertilisers enable farmers to grow more food as they are replacing the nutrients removed from the soil by plan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However, if too much fertiliser is added and it then rains, the fertiliser finds its way into rivers and lak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the water plants to grow  and as there is competition for light, some will d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66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acteria decay the dead plants and in so doing use up oxygen from the wat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the fish suffocate and die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cess is called Eutrophic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Raw sewage pumped into rivers has the same effec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9" name="Picture 5" descr="swan_algae"/>
          <p:cNvPicPr/>
          <p:nvPr/>
        </p:nvPicPr>
        <p:blipFill>
          <a:blip r:embed="rId1"/>
          <a:stretch/>
        </p:blipFill>
        <p:spPr>
          <a:xfrm>
            <a:off x="4925880" y="404640"/>
            <a:ext cx="3795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 kill insects that will damage crop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also kill harmless insects or  can get washed into rivers and pollute the wate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may even end up in the food ch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the 1960s, DDT in the food chain threatened  bird populations.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ny birds of prey came close to extinc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4" name="Picture 7" descr="bird%20of%20prey"/>
          <p:cNvPicPr/>
          <p:nvPr/>
        </p:nvPicPr>
        <p:blipFill>
          <a:blip r:embed="rId1"/>
          <a:stretch/>
        </p:blipFill>
        <p:spPr>
          <a:xfrm>
            <a:off x="1908000" y="1514520"/>
            <a:ext cx="43149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7" name="Picture 5" descr="DDT"/>
          <p:cNvPicPr/>
          <p:nvPr/>
        </p:nvPicPr>
        <p:blipFill>
          <a:blip r:embed="rId1"/>
          <a:stretch/>
        </p:blipFill>
        <p:spPr>
          <a:xfrm>
            <a:off x="155520" y="46080"/>
            <a:ext cx="69375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What can we Do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9" name="Picture 4" descr="MCj04077340000[1]"/>
          <p:cNvPicPr/>
          <p:nvPr/>
        </p:nvPicPr>
        <p:blipFill>
          <a:blip r:embed="rId1"/>
          <a:stretch/>
        </p:blipFill>
        <p:spPr>
          <a:xfrm>
            <a:off x="2268360" y="199080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Organic Farmin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duces less food and is more expensive but it does not produce the pollution problems of intensive farming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2" name="Picture 4" descr="MCj02331180000[1]"/>
          <p:cNvPicPr/>
          <p:nvPr/>
        </p:nvPicPr>
        <p:blipFill>
          <a:blip r:embed="rId1"/>
          <a:stretch/>
        </p:blipFill>
        <p:spPr>
          <a:xfrm>
            <a:off x="4427640" y="1481040"/>
            <a:ext cx="47163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se farmyard manure as a fertiliser and set aside land for growth of wild plant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5" name="Picture 5" descr="cow-manure"/>
          <p:cNvPicPr/>
          <p:nvPr/>
        </p:nvPicPr>
        <p:blipFill>
          <a:blip r:embed="rId1"/>
          <a:stretch/>
        </p:blipFill>
        <p:spPr>
          <a:xfrm>
            <a:off x="2484360" y="2084400"/>
            <a:ext cx="4896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iological Control of Pes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using natural predators to eat pests instead of pesticid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t does not have harmful effec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8" name="Picture 5" descr="g1251"/>
          <p:cNvPicPr/>
          <p:nvPr/>
        </p:nvPicPr>
        <p:blipFill>
          <a:blip r:embed="rId1"/>
          <a:stretch/>
        </p:blipFill>
        <p:spPr>
          <a:xfrm>
            <a:off x="4427640" y="1654200"/>
            <a:ext cx="4032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mprovements in agriculture health and medicine have produced a dramatic rise in the human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increase in population size leads to an increase in pollution and higher demand for the world’s resour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3" name="Picture 5" descr="worldpop"/>
          <p:cNvPicPr/>
          <p:nvPr/>
        </p:nvPicPr>
        <p:blipFill>
          <a:blip r:embed="rId1"/>
          <a:stretch/>
        </p:blipFill>
        <p:spPr>
          <a:xfrm>
            <a:off x="1619280" y="2597040"/>
            <a:ext cx="56246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velop alternative energy sourc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nserve our rapidly diminishing fossil fuel reserves by using solar power or wind pow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1" name="Picture 5" descr="photo_13890"/>
          <p:cNvPicPr/>
          <p:nvPr/>
        </p:nvPicPr>
        <p:blipFill>
          <a:blip r:embed="rId1"/>
          <a:stretch/>
        </p:blipFill>
        <p:spPr>
          <a:xfrm>
            <a:off x="5072040" y="1628640"/>
            <a:ext cx="3193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enefits of conserving endangered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Ecotourism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gricultural benefi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pecies indicator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intaining diversity in gene pool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4" name="Picture 5" descr="elephantnewbie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Humans are using up the earth’s resources, including fossil fuels.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6" name="Picture 5" descr="2630"/>
          <p:cNvPicPr/>
          <p:nvPr/>
        </p:nvPicPr>
        <p:blipFill>
          <a:blip r:embed="rId1"/>
          <a:stretch/>
        </p:blipFill>
        <p:spPr>
          <a:xfrm>
            <a:off x="1476360" y="2092320"/>
            <a:ext cx="63356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urning fossil fuels in cars and power stations produces carbon dioxide, sulphur dioxide  and other greenhouse gas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carbon dioxide traps heat in the atmosphere and causes the temperature of the earth to rise.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This leads to disruption of the weather patterns eg drought, flood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Some weeds may thrive on the extra carbon dioxide while other plants are killed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9" name="Picture 5" descr="Greenhouseeffect"/>
          <p:cNvPicPr/>
          <p:nvPr/>
        </p:nvPicPr>
        <p:blipFill>
          <a:blip r:embed="rId1"/>
          <a:stretch/>
        </p:blipFill>
        <p:spPr>
          <a:xfrm>
            <a:off x="4834080" y="1484280"/>
            <a:ext cx="3855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ulphur dioxide will dissolve in rain producing Acid Rai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damages trees and pollutes rivers and lake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2" name="Picture 7" descr="acidraindamage"/>
          <p:cNvPicPr/>
          <p:nvPr/>
        </p:nvPicPr>
        <p:blipFill>
          <a:blip r:embed="rId1"/>
          <a:stretch/>
        </p:blipFill>
        <p:spPr>
          <a:xfrm>
            <a:off x="2340000" y="2708280"/>
            <a:ext cx="5256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causes erosion of buildings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nd statues particularly if they are made of limestone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4" name="Picture 4" descr="acidrainstatueed"/>
          <p:cNvPicPr/>
          <p:nvPr/>
        </p:nvPicPr>
        <p:blipFill>
          <a:blip r:embed="rId1"/>
          <a:stretch/>
        </p:blipFill>
        <p:spPr>
          <a:xfrm>
            <a:off x="2778120" y="1600200"/>
            <a:ext cx="358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may countries people are chopping down forests to provide timber or space for agriculture for the growing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7" name="Picture 5" descr="deforestation_aerial_0066"/>
          <p:cNvPicPr/>
          <p:nvPr/>
        </p:nvPicPr>
        <p:blipFill>
          <a:blip r:embed="rId1"/>
          <a:stretch/>
        </p:blipFill>
        <p:spPr>
          <a:xfrm>
            <a:off x="4427640" y="1628640"/>
            <a:ext cx="4259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several problems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urning the timber increases the level of carbon dioxide in the ai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trees means less carbon dioxide absorbed for photosynthesi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Soil is eroded as it is exposed to the wind and r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water is transpired into the atmospher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animal and plant habitats are destroyed causing extinction of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tensive Farmin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arming has become more intensive to provide a higher % yield from lan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people regard intensive farming of animals to be cru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 order to produce more food from the land farmers have to use more fertilisers and 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2:35:44Z</dcterms:created>
  <dc:creator>Mary</dc:creator>
  <dc:description>The Influence of Human Activity on the Environment</dc:description>
  <cp:keywords>The Influence of Human Activity on the Environment</cp:keywords>
  <dc:language>en-US</dc:language>
  <cp:lastModifiedBy>RomaK</cp:lastModifiedBy>
  <dcterms:modified xsi:type="dcterms:W3CDTF">2015-09-04T09:45:36Z</dcterms:modified>
  <cp:revision>8</cp:revision>
  <dc:subject>The Influence of Human Activity on the Environment</dc:subject>
  <dc:title>The Influence of Human Activity on the Environment</dc:title>
</cp:coreProperties>
</file>