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media/image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5523-DC2D-4B8E-8307-4ECF35A7DF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5F2-3B56-4046-99AC-876A82EC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282-889F-4515-9BE8-400DDD07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291-24F1-4CC0-8B17-5934F34A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031-0309-40F7-83CD-2B627FD1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496FE-FF09-4716-9F55-2EBCB889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04310-4938-4446-9DD2-008A3372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D82E9-07DE-4F75-8065-3BFB5093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4C325-FC20-4469-A89A-1502136C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BAF1-925F-4C26-BD49-A4C062EF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6D999-901D-473D-A3CE-2CC801B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9F428-7DF6-4D55-9B9D-184E504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5D9-EF04-41F6-936E-22300873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DA99C-0849-44DB-B74B-2F768DE6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E62FA-5F1A-44D3-80D3-F5F3C02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C9356-D72E-463D-BD58-D1F43DF2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A69B4-96F1-4B99-997A-D9AFF946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CE438-20FD-4095-AE6A-5BD6B4F7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90A-4E56-4D71-AD22-5E615E0C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AD7-9274-4C10-90D4-17983806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5D3-E08E-42E1-9298-E88CDE69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FFC-FAD3-40DA-B3F5-6C77B95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5BE-0D07-437F-9A75-E31541A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566-ABC1-4BB8-989C-1E3A20A8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ACF-BFFB-403B-B2D2-377F7FAE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FB2D-E0B2-4A97-9D0C-0A702C5F10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8507-ED1F-49FB-9866-39E961F549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ps.gov/nts/legisl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Trail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Many??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36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,830 hike compl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recorded by A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7" descr="catrock3"/>
          <p:cNvPicPr/>
          <p:nvPr/>
        </p:nvPicPr>
        <p:blipFill>
          <a:blip r:embed="rId1"/>
          <a:stretch/>
        </p:blipFill>
        <p:spPr>
          <a:xfrm>
            <a:off x="2057400" y="12193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ppalachian_trail_cling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gardenpath"/>
          <p:cNvPicPr/>
          <p:nvPr/>
        </p:nvPicPr>
        <p:blipFill>
          <a:blip r:embed="rId1"/>
          <a:stretch/>
        </p:blipFill>
        <p:spPr>
          <a:xfrm>
            <a:off x="2166840" y="0"/>
            <a:ext cx="486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1580"/>
          <p:cNvPicPr/>
          <p:nvPr/>
        </p:nvPicPr>
        <p:blipFill>
          <a:blip r:embed="rId1"/>
          <a:stretch/>
        </p:blipFill>
        <p:spPr>
          <a:xfrm>
            <a:off x="457200" y="55872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ctsr2ezg[1]"/>
          <p:cNvPicPr/>
          <p:nvPr/>
        </p:nvPicPr>
        <p:blipFill>
          <a:blip r:embed="rId1"/>
          <a:stretch/>
        </p:blipFill>
        <p:spPr>
          <a:xfrm>
            <a:off x="2971800" y="1828800"/>
            <a:ext cx="3322800" cy="349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5 W’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The Appalachian Trail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ppalachian Tra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ontinuous marked footpath that goes from Katahdin in Maine to Springer Mountain in Georgia, a distance of about 2160 mi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j0286034"/>
          <p:cNvPicPr/>
          <p:nvPr/>
        </p:nvPicPr>
        <p:blipFill>
          <a:blip r:embed="rId1"/>
          <a:stretch/>
        </p:blipFill>
        <p:spPr>
          <a:xfrm>
            <a:off x="6705720" y="38088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j0286034"/>
          <p:cNvPicPr/>
          <p:nvPr/>
        </p:nvPicPr>
        <p:blipFill>
          <a:blip r:embed="rId2"/>
          <a:stretch/>
        </p:blipFill>
        <p:spPr>
          <a:xfrm>
            <a:off x="1523880" y="38088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j0297551"/>
          <p:cNvPicPr/>
          <p:nvPr/>
        </p:nvPicPr>
        <p:blipFill>
          <a:blip r:embed="rId1"/>
          <a:stretch/>
        </p:blipFill>
        <p:spPr>
          <a:xfrm>
            <a:off x="6796080" y="2895480"/>
            <a:ext cx="23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at-map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nd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National Trails System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dopted late in 1968, made for a series of "national scenic trails" within the national park and forest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20:06:50Z</dcterms:created>
  <dc:creator>Earl F. Armstrong Jr.</dc:creator>
  <dc:description/>
  <dc:language>en-US</dc:language>
  <cp:lastModifiedBy>RomaK</cp:lastModifiedBy>
  <dcterms:modified xsi:type="dcterms:W3CDTF">2015-09-04T09:45:29Z</dcterms:modified>
  <cp:revision>12</cp:revision>
  <dc:subject/>
  <dc:title>The Appalachian Trail </dc:title>
</cp:coreProperties>
</file>