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laser.wav" ContentType="audio/x-wav"/>
  <Override PartName="/ppt/media/image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D8CA-7CEC-45C9-9D40-F214DC2E5A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ppalachian Trai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Mr. Armstr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alachian Trai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Mr. Arm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??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1936, 7,830 hike completions have been recorded by A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,000-Milers By Dec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0-193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0-194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50-195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60-196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0-197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4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0-198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,4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0-199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,24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0-presen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,361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1936, 7,830 hike completions have been recorded by A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000-Milers By Dec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0-193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0-19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50-195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0-196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0-197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0-198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4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0-199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2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0-pres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61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5 W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5 W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Appalachian Trai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ppalachian Trail is a continuous marked footpath that goes from Katahdin in Maine to Springer Mountain in Georgia, a distance of about 2160 mil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ppalachian Tr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alachian Trail is a continuous marked footpath that goes from Katahdin in Maine to Springer Mountain in Georgia, a distance of about 2160 mi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 Ques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walked 10 miles a day, how many days would it take you to complete the Appalachian Trai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nt: The trail is 2160 miles lo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lked 10 miles a day, how many days would it take you to complete the Appalachian Tr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The trail is 216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walked 10 miles a day, it would take you 216 days or 7.2 months to complete the Appalachian Trail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lked 10 miles a day, it would take you 216 days or 7.2 months to complete the Appalachian Tra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&amp; W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ppalachian Trail was the "brainchild" of Benton MacKaye, educated as a forester, who proposed connecting thread of already existing trail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1 he published his ide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&amp;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alachian Trail was the "brainchild" of Benton MacKaye, educated as a forester, who proposed connecting thread of already existing trai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he published his id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&amp; W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ugust 14, 1937, the Appalachian Trail became a real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8, however, the trail was no longer continuous. A hurricane destroyed much of it in New Engla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erson to walk the whole trail or do a “thru hike” was Earl Shaff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&amp;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ugust 14, 1937, the Appalachian Trail became a re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8, however, the trail was no longer continuous. A hurricane destroyed much of it in New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erson to walk the whole trail or do a “thru hike” was Earl Shaf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and W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ional Trails System Act, adopted late in 1968, made for a series of "national scenic trails" within the national park and forest syst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ppalachian Trail was the first trail to fall under this Ac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nd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Trails System Act, adopted late in 1968, made for a series of "national scenic trails" within the national park and forest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alachian Trail was the first trail to fall under this A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1645-91EB-4B04-8F29-C739FC11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1CD0-9106-4939-B3BF-D5327D0F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E12-84BF-4BD6-BC9D-C5098155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706C-EC54-42D4-951E-424D5411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C95C4-4874-4529-AC61-92BC750B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9D872-1B0A-46F6-80B9-9FB018C2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C0EE1-2FC8-4C67-B13D-C3A34750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9CB0E-57F1-41BD-9C72-32514DD7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05E14-3017-48D1-8B28-CB989C0C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719B6-1335-45C4-A81F-C3EE9703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551E7-5429-411E-98BE-3F9BDF3F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789E-CA7C-4F17-850B-A494D5C0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61F18-3424-4FEB-8110-F39453C8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F082A-1827-46C6-9C54-9D82BE85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AA53E-0709-48CB-B97B-12F55019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A8ED5-1E72-439D-8C79-7B597D08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865C9-2EFA-4992-8F1A-9A29FEBD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9EE5-6674-4771-AC55-34C3783E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128C-1585-4D9E-B1A0-A884089F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F06D-6CE1-44AB-9848-F71F2A12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C859-CA4A-412E-BE66-3079D91F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B28E-3451-4D4F-92D3-2DAD5F40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4236-1164-48E0-8580-8D7389D5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AC33-CB7C-44C3-825D-CA4EF10B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DF6E-499C-48E7-9CD5-E0A2C0C7A7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51B0-2F6B-4C36-B53F-7B13C0945E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ps.gov/nts/legislation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e Appalachian Trail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Mr. Armstr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Many???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1936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,830 hike comple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ve been recorded by A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,000-Milers By Dec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30-193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0-194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50-195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0-196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70-197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80-198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4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90-19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,24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0-pres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,361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Picture 7" descr="catrock3"/>
          <p:cNvPicPr/>
          <p:nvPr/>
        </p:nvPicPr>
        <p:blipFill>
          <a:blip r:embed="rId1"/>
          <a:stretch/>
        </p:blipFill>
        <p:spPr>
          <a:xfrm>
            <a:off x="2057400" y="1219320"/>
            <a:ext cx="4800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appalachian_trail_cling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gardenpath"/>
          <p:cNvPicPr/>
          <p:nvPr/>
        </p:nvPicPr>
        <p:blipFill>
          <a:blip r:embed="rId1"/>
          <a:stretch/>
        </p:blipFill>
        <p:spPr>
          <a:xfrm>
            <a:off x="2166840" y="0"/>
            <a:ext cx="4867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01580"/>
          <p:cNvPicPr/>
          <p:nvPr/>
        </p:nvPicPr>
        <p:blipFill>
          <a:blip r:embed="rId1"/>
          <a:stretch/>
        </p:blipFill>
        <p:spPr>
          <a:xfrm>
            <a:off x="457200" y="558720"/>
            <a:ext cx="82296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8" descr="ctsr2ezg[1]"/>
          <p:cNvPicPr/>
          <p:nvPr/>
        </p:nvPicPr>
        <p:blipFill>
          <a:blip r:embed="rId1"/>
          <a:stretch/>
        </p:blipFill>
        <p:spPr>
          <a:xfrm>
            <a:off x="2971800" y="1828800"/>
            <a:ext cx="3322800" cy="34923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5 W’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The Appalachian Trail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ppalachian Trai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continuous marked footpath that goes from Katahdin in Maine to Springer Mountain in Georgia, a distance of about 2160 mil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th Ques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alked 10 miles a day, how many days would it take you to complete the Appalachian Trai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nt: The trail is 2160 miles l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2" descr="j0286034"/>
          <p:cNvPicPr/>
          <p:nvPr/>
        </p:nvPicPr>
        <p:blipFill>
          <a:blip r:embed="rId1"/>
          <a:stretch/>
        </p:blipFill>
        <p:spPr>
          <a:xfrm>
            <a:off x="6705720" y="38088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j0286034"/>
          <p:cNvPicPr/>
          <p:nvPr/>
        </p:nvPicPr>
        <p:blipFill>
          <a:blip r:embed="rId2"/>
          <a:stretch/>
        </p:blipFill>
        <p:spPr>
          <a:xfrm>
            <a:off x="1523880" y="380880"/>
            <a:ext cx="919440" cy="8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alked 10 miles a day, it would take you 216 days or 7.2 months to complete the Appalachian Trai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5" descr="j0297551"/>
          <p:cNvPicPr/>
          <p:nvPr/>
        </p:nvPicPr>
        <p:blipFill>
          <a:blip r:embed="rId1"/>
          <a:stretch/>
        </p:blipFill>
        <p:spPr>
          <a:xfrm>
            <a:off x="6796080" y="2895480"/>
            <a:ext cx="23479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e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Picture 5" descr="at-map"/>
          <p:cNvPicPr/>
          <p:nvPr/>
        </p:nvPicPr>
        <p:blipFill>
          <a:blip r:embed="rId1"/>
          <a:stretch/>
        </p:blipFill>
        <p:spPr>
          <a:xfrm>
            <a:off x="2057400" y="1143000"/>
            <a:ext cx="5334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o &amp; Wh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palachian Trail was the "brainchild" of Benton MacKaye, educated as a forester, who proposed connecting thread of already existing trail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21 he published his id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o &amp; Wh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August 14, 1937, the Appalachian Trail became a re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8, however, the trail was no longer continuous. A hurricane destroyed much of it in New Eng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person to walk the whole trail or do a “thru hike” was Earl Shaff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o and Wh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National Trails System A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dopted late in 1968, made for a series of "national scenic trails" within the national park and forest syst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palachian Trail was the first trail to fall under this Ac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20:06:50Z</dcterms:created>
  <dc:creator>Earl F. Armstrong Jr.</dc:creator>
  <dc:description/>
  <dc:language>en-US</dc:language>
  <cp:lastModifiedBy>RomaK</cp:lastModifiedBy>
  <dcterms:modified xsi:type="dcterms:W3CDTF">2015-09-04T09:45:29Z</dcterms:modified>
  <cp:revision>12</cp:revision>
  <dc:subject/>
  <dc:title>The Appalachian Trail </dc:title>
</cp:coreProperties>
</file>