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3099-921A-4D38-9EF7-4D653D2F26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a McGuire, Ph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rida Sea Grant Extension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ia McGuire, Ph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rida Sea Grant Extension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jority of commercially-important marine species rely on estuaries/salt marsh at some stage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include blue crab, oysters, hard clams, shrimp, red drum, seatrout, sheepshead, bluefish, m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jority of commercially-important marine species rely on estuaries/salt marsh at some stage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include blue crab, oysters, hard clams, shrimp, red drum, seatrout, sheepshead, bluefish, m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portance of salt mar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os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mportance of salt mar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ros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term—amount of carbon produced per m²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kg (ash free dry weight)/m²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factors include nutrients,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marsh plants provide detritus for the estuarine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grazers on blades (&lt; 10% of biom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etrital biomass supports broad food w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term—amount of carbon produced per m²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kg (ash free dry weight)/m²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ing factors include nutrients,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 marsh plants provide detritus for the estuarine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grazers on blades (&lt; 10% of bioma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etrital biomass supports broad food w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 salt marsh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ri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,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t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y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 salt marsh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ri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,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n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t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plank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y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ry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eding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ro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essfu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changes in temperature, salinity, water depth, dissolve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di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ry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eding g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ro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essfu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changes in temperature, salinity, water depth, dissolve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di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salt mars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unity of emerged halophytic vegetation in areas alternately inundated and drained by tidal acti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ve inter- or supratidal areas occupied by rooted emergent vascular macrophytes and a variety of epiphytes and epifauna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: sticking out of the water;  Halophytic: salt-loving;  Inundated: flooded; macrophyte: plant that’s large enough to see; epiphyte: plant growing on another organism but not a parasite; epifauna: animal version of epi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salt mars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unity of emerged halophytic vegetation in areas alternately inundated and drained by tidal acti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sive inter- or supratidal areas occupied by rooted emergent vascular macrophytes and a variety of epiphytes and epifauna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: sticking out of the water;  Halophytic: salt-loving;  Inundated: flooded; macrophyte: plant that’s large enough to see; epiphyte: plant growing on another organism but not a parasite; epifauna: animal version of epi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salt marshes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intertidal shore of estu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, protecte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from Maine-Florida, along Gulf coast from Florida-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L, most abundant north of the freeze line (70% of state’s salt mar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salt marshes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intertidal shore of estu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, protecte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from Maine-Florida, along Gulf coast from Florida-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L, most abundant north of the freeze line (70% of state’s salt mar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lt marsh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halophytic (salt-tolerant)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anent res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lt marsh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halophytic (salt-tolerant)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anent res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alterni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ooth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cus roemeri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ack needle r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dium marisc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wamp saw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pat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eadow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gr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alternifl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ooth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cus roemeri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ack needle r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dium marisco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wamp saw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rtina pat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eadow cord 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ociate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succu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ptions include salt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edible (saltwort, glasswort, sea pursl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 transitional zone between salt marsh and maritime hamm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sociate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succu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ptions include saltg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are edible (saltwort, glasswort, sea pursl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 transitional zone between salt marsh and maritime hamm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zo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tidal—Spartina, Jun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arsh (above mean high water)—Distichlis spicata, Batis maritima, Salicornia spp., Borrichia sp., Sueda linearis, Limonium carolina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per edge of high marsh—Iva frutescens, Baccharis halm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-mangrove transition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lt marsh zo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tidal—Spartina, Jun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arsh (above mean high water)—Distichlis spicata, Batis maritima, Salicornia spp., Borrichia sp., Sueda linearis, Limonium carolina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per edge of high marsh—Iva frutescens, Baccharis halm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-mangrove transition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ident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torina irro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periwinkle (sna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ddler crabs (Uc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crabs (Sesarm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ukensia demi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bbed mu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ident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torina irro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periwinkle (sna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ddler crabs (Uc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 crabs (Sesarma spp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ukensia demi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bbed mu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dal Marsh 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ondback terrap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idal Marsh Vis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mondback terrap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A821-95C0-4BBC-AFD2-47759E89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696-8C9A-4AC7-9FFF-10406CB6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8C12-3BCB-407D-BE70-8FA0FD0D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842-BC38-4891-83B1-997EE577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F43-901D-4954-AB29-AB251EEC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801-EA60-4446-9392-754B770A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572A-83CC-4961-BC26-2FE35238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E32B-6803-4135-8E62-3778219F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04E3-D5D5-4F7E-B870-11D4327D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527-C392-4C85-91B8-9EA85870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304-8DAE-44FE-AC39-1DF20984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C89-1292-44C7-99C0-47A58F8D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F21E-5947-4536-A0D9-97069B1DE5DD}" type="slidenum">
              <a:rPr b="0" lang="en-US" sz="1400" spc="-1" strike="noStrike">
                <a:solidFill>
                  <a:srgbClr val="ffff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salt marsh"/>
          <p:cNvPicPr/>
          <p:nvPr/>
        </p:nvPicPr>
        <p:blipFill>
          <a:blip r:embed="rId1"/>
          <a:srcRect l="0" t="0" r="11539" b="11794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alt Marshes</a:t>
            </a:r>
            <a:br>
              <a:rPr sz="48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-biotic perspectiv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ia McGuire, PhD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lorida Sea Grant Extension Ag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4" descr="EXTBlue654OlineOnWhite"/>
          <p:cNvPicPr/>
          <p:nvPr/>
        </p:nvPicPr>
        <p:blipFill>
          <a:blip r:embed="rId2"/>
          <a:stretch/>
        </p:blipFill>
        <p:spPr>
          <a:xfrm>
            <a:off x="2971800" y="518148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lorida Sea Grant-blue"/>
          <p:cNvPicPr/>
          <p:nvPr/>
        </p:nvPicPr>
        <p:blipFill>
          <a:blip r:embed="rId3"/>
          <a:stretch/>
        </p:blipFill>
        <p:spPr>
          <a:xfrm>
            <a:off x="4952880" y="5181480"/>
            <a:ext cx="129564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majority of commercially-important marine species rely on estuaries/salt marsh at some stage of lif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xamples include blue crab, oysters, hard clams, shrimp, red drum, seatrout, sheepshead, bluefish, mulle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ortance of salt marsh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abit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rosion contro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ltra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ductiv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iological term—amount of carbon produced per m² per unit tim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3 kg (ash free dry weight)/m²/year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imiting factors include nutrients, ligh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alt marsh plants provide detritus for the estuarine food web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ew grazers on blades (&lt; 10% of biomass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arge detrital biomass supports broad food web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rtial salt marsh food web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609480" y="44197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sh g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438280" y="4800600"/>
            <a:ext cx="10670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581280" y="5257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ri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447920" y="501984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a, fun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621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410080" y="4267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657600" y="4114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 flipV="1">
            <a:off x="1447920" y="38001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4191120" y="2438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1981080" y="2362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5"/>
          <p:cNvSpPr/>
          <p:nvPr/>
        </p:nvSpPr>
        <p:spPr>
          <a:xfrm flipV="1">
            <a:off x="1447920" y="28195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6"/>
          <p:cNvSpPr/>
          <p:nvPr/>
        </p:nvSpPr>
        <p:spPr>
          <a:xfrm flipV="1">
            <a:off x="1676520" y="2819520"/>
            <a:ext cx="2438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7"/>
          <p:cNvSpPr/>
          <p:nvPr/>
        </p:nvSpPr>
        <p:spPr>
          <a:xfrm flipV="1">
            <a:off x="4114800" y="4605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4343400" y="4724280"/>
            <a:ext cx="10666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 flipH="1" flipV="1">
            <a:off x="2514600" y="28195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0"/>
          <p:cNvSpPr/>
          <p:nvPr/>
        </p:nvSpPr>
        <p:spPr>
          <a:xfrm flipV="1">
            <a:off x="4191120" y="2895120"/>
            <a:ext cx="2286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1"/>
          <p:cNvSpPr/>
          <p:nvPr/>
        </p:nvSpPr>
        <p:spPr>
          <a:xfrm flipH="1" flipV="1">
            <a:off x="2666880" y="2742840"/>
            <a:ext cx="289584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6172200" y="5638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ytoplan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6934320" y="44197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oplank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y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7543800" y="335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6"/>
          <p:cNvSpPr/>
          <p:nvPr/>
        </p:nvSpPr>
        <p:spPr>
          <a:xfrm flipV="1">
            <a:off x="7238880" y="48765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7"/>
          <p:cNvSpPr/>
          <p:nvPr/>
        </p:nvSpPr>
        <p:spPr>
          <a:xfrm flipH="1" flipV="1">
            <a:off x="6705360" y="3657600"/>
            <a:ext cx="6094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8"/>
          <p:cNvSpPr/>
          <p:nvPr/>
        </p:nvSpPr>
        <p:spPr>
          <a:xfrm flipV="1">
            <a:off x="7543800" y="3809520"/>
            <a:ext cx="304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9"/>
          <p:cNvSpPr/>
          <p:nvPr/>
        </p:nvSpPr>
        <p:spPr>
          <a:xfrm flipH="1" flipV="1">
            <a:off x="5028840" y="274320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6248520" y="190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1"/>
          <p:cNvSpPr/>
          <p:nvPr/>
        </p:nvSpPr>
        <p:spPr>
          <a:xfrm flipV="1">
            <a:off x="6400800" y="2362320"/>
            <a:ext cx="1522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2"/>
          <p:cNvSpPr/>
          <p:nvPr/>
        </p:nvSpPr>
        <p:spPr>
          <a:xfrm flipV="1">
            <a:off x="4419720" y="2362320"/>
            <a:ext cx="190476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3"/>
          <p:cNvSpPr/>
          <p:nvPr/>
        </p:nvSpPr>
        <p:spPr>
          <a:xfrm flipV="1">
            <a:off x="2590920" y="2133720"/>
            <a:ext cx="35812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4"/>
          <p:cNvSpPr/>
          <p:nvPr/>
        </p:nvSpPr>
        <p:spPr>
          <a:xfrm flipH="1" flipV="1">
            <a:off x="1676520" y="3809880"/>
            <a:ext cx="22096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5"/>
          <p:cNvSpPr/>
          <p:nvPr/>
        </p:nvSpPr>
        <p:spPr>
          <a:xfrm>
            <a:off x="2081160" y="36576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ri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6"/>
          <p:cNvSpPr/>
          <p:nvPr/>
        </p:nvSpPr>
        <p:spPr>
          <a:xfrm flipH="1" flipV="1">
            <a:off x="3047760" y="4190760"/>
            <a:ext cx="99036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7"/>
          <p:cNvSpPr/>
          <p:nvPr/>
        </p:nvSpPr>
        <p:spPr>
          <a:xfrm flipH="1" flipV="1">
            <a:off x="2285640" y="2895120"/>
            <a:ext cx="152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8"/>
          <p:cNvSpPr/>
          <p:nvPr/>
        </p:nvSpPr>
        <p:spPr>
          <a:xfrm flipV="1">
            <a:off x="2971800" y="2895120"/>
            <a:ext cx="12952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9"/>
          <p:cNvSpPr/>
          <p:nvPr/>
        </p:nvSpPr>
        <p:spPr>
          <a:xfrm flipV="1">
            <a:off x="3276720" y="2285640"/>
            <a:ext cx="29718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1"/>
          <p:cNvSpPr/>
          <p:nvPr/>
        </p:nvSpPr>
        <p:spPr>
          <a:xfrm flipH="1">
            <a:off x="4572000" y="3581280"/>
            <a:ext cx="1371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2"/>
          <p:cNvSpPr/>
          <p:nvPr/>
        </p:nvSpPr>
        <p:spPr>
          <a:xfrm>
            <a:off x="685800" y="1600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lph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43"/>
          <p:cNvSpPr/>
          <p:nvPr/>
        </p:nvSpPr>
        <p:spPr>
          <a:xfrm flipH="1" flipV="1">
            <a:off x="1600200" y="205740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44"/>
          <p:cNvSpPr/>
          <p:nvPr/>
        </p:nvSpPr>
        <p:spPr>
          <a:xfrm flipH="1" flipV="1">
            <a:off x="4648320" y="4419360"/>
            <a:ext cx="76176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5"/>
          <p:cNvSpPr/>
          <p:nvPr/>
        </p:nvSpPr>
        <p:spPr>
          <a:xfrm>
            <a:off x="25909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6"/>
          <p:cNvSpPr/>
          <p:nvPr/>
        </p:nvSpPr>
        <p:spPr>
          <a:xfrm flipH="1" flipV="1">
            <a:off x="2437920" y="2895480"/>
            <a:ext cx="160020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abit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Nursery ground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eeding ground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icrohabita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erial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enthic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quatic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tressful environmen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apid changes in temperature, salinity, water depth, dissolved oxygen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edimentation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salt marsh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 community of emerged halophytic vegetation in areas alternately inundated and drained by tidal action.”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xpansive inter- or supratidal areas occupied by rooted emergent vascular macrophytes and a variety of epiphytes and epifauna.”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09480" y="525780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merg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ticking out of the water;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Halophyt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alt-loving;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Inundat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flooded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macrophy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plant that’s large enough to see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piphy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plant growing on another organism but not a parasite;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pifaun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animal version of epiph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are salt marshes foun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long intertidal shore of estuari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lat, protected water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xtensive from Maine-Florida, along Gulf coast from Florida-Texa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n FL, most abundant north of the freeze line (70% of state’s salt marsh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alt marsh commun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lan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grasse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ssociated halophytic (salt-tolerant) plan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nimal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Permanent residen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Visitor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spartina patens"/>
          <p:cNvPicPr/>
          <p:nvPr/>
        </p:nvPicPr>
        <p:blipFill>
          <a:blip r:embed="rId2"/>
          <a:srcRect l="14075" t="0" r="0" b="0"/>
          <a:stretch/>
        </p:blipFill>
        <p:spPr>
          <a:xfrm>
            <a:off x="5756400" y="1600200"/>
            <a:ext cx="3387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lt marsh gras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 alterniflor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mooth cord 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Juncus roemerianu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Black needle rush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Cladium mariscoid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wamp saw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 paten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alt meadow cord 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ssociated pla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ny are succul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Exceptions include saltgra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ny are edible (saltwort, glasswort, sea purslane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rm transitional zone between salt marsh and maritime hammock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5" name="Picture 5" descr="Glasswort-red"/>
          <p:cNvPicPr/>
          <p:nvPr/>
        </p:nvPicPr>
        <p:blipFill>
          <a:blip r:embed="rId1"/>
          <a:stretch/>
        </p:blipFill>
        <p:spPr>
          <a:xfrm>
            <a:off x="6172200" y="2057400"/>
            <a:ext cx="2800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lt marsh zon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ntertidal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partina, Juncu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igh marsh (above mean high water)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Distichlis spicata, Batis maritim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alicorni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spp.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Borrichi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sp.,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Sueda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linearis, Limonium carolinanum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Upper edge of high marsh—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Iva frutescens, Baccharis halmifoli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rsh-mangrove transition zon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Fiddler crabs"/>
          <p:cNvPicPr/>
          <p:nvPr/>
        </p:nvPicPr>
        <p:blipFill>
          <a:blip r:embed="rId1"/>
          <a:srcRect l="42394" t="13769" r="22826" b="31886"/>
          <a:stretch/>
        </p:blipFill>
        <p:spPr>
          <a:xfrm>
            <a:off x="6095880" y="3124080"/>
            <a:ext cx="2795760" cy="3276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ident anima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Littorina irrorat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periwinkle (snail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rab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iddler crabs (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Uca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spp.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sh crabs (</a:t>
            </a: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Sesarma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spp.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Geukensia demiss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ibbed muss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1" name="Picture 4" descr="Marsh periwinkle"/>
          <p:cNvPicPr/>
          <p:nvPr/>
        </p:nvPicPr>
        <p:blipFill>
          <a:blip r:embed="rId2"/>
          <a:srcRect l="10100" t="31253" r="6293" b="17504"/>
          <a:stretch/>
        </p:blipFill>
        <p:spPr>
          <a:xfrm>
            <a:off x="6400800" y="914400"/>
            <a:ext cx="2438280" cy="22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ibbed mussel-NOAA"/>
          <p:cNvPicPr/>
          <p:nvPr/>
        </p:nvPicPr>
        <p:blipFill>
          <a:blip r:embed="rId3"/>
          <a:stretch/>
        </p:blipFill>
        <p:spPr>
          <a:xfrm>
            <a:off x="4267080" y="5257800"/>
            <a:ext cx="21337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idal Marsh Visito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ir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rab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hrimp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sh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iamondback terrapi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9:09:19Z</dcterms:created>
  <dc:creator>Maia P  McGUire</dc:creator>
  <dc:description/>
  <dc:language>en-US</dc:language>
  <cp:lastModifiedBy>RomaK</cp:lastModifiedBy>
  <dcterms:modified xsi:type="dcterms:W3CDTF">2015-09-04T09:45:03Z</dcterms:modified>
  <cp:revision>11</cp:revision>
  <dc:subject/>
  <dc:title>Salt Marshes -biotic perspectives</dc:title>
</cp:coreProperties>
</file>