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8561-0DB3-4E3F-A909-4EBFCE9146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November 2008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noe Journey Down the River Se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 – To plan a river journey from Source to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November 2008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noe Journey Down the River Se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 – To plan a river journey from Source to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uary – the Severn Bridge (low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uary – the Severn Bridge (low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s at Plynlim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pp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s at Plynlim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pp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Cours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f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Cours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f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ders on the Seve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iddle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ders on the Seve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iddle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ewsbury – in a me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ewsbury – in a me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evern Bore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evern Bore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3DF2-C4F5-4EC6-ACFA-01FDAF6A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DEFB-B8B4-4445-8A4C-25971C81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0656-93F9-4CFD-B83E-B910586DB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2B82-BE10-4BE1-9D20-3A2C41F3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0E06-C04C-4E19-BF57-0793BC25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7B37-5953-4482-BE3E-48985E4E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4CDD-E7E6-452D-9053-AB318DB3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EF4B-7EBE-4A16-B5B1-3DC2D08A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EECA-3A8B-44FC-B35D-83C21784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CE98-EF66-423B-AF17-308C21F3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A9E0-3DAF-4D64-9EC4-16152BDC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5177-FF73-4354-9E9F-0844B9F8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1662-F269-4B89-8CE1-81D2C66A8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hropshiretourism.info/mary-webb/trails/trail_2_map.htm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19 November 2008</a:t>
            </a:r>
            <a:br>
              <a:rPr sz="6000"/>
            </a:br>
            <a:br>
              <a:rPr sz="6000"/>
            </a:br>
            <a:r>
              <a:rPr b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A Canoe Journey Down the River Sever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5029200"/>
            <a:ext cx="62481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 – To plan a river journey from Source to 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stuary – the Severn Bridge (lower cour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New_severn_bridge_best_750pix"/>
          <p:cNvPicPr/>
          <p:nvPr/>
        </p:nvPicPr>
        <p:blipFill>
          <a:blip r:embed="rId1"/>
          <a:stretch/>
        </p:blipFill>
        <p:spPr>
          <a:xfrm>
            <a:off x="1143000" y="1523880"/>
            <a:ext cx="7162920" cy="5119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severn"/>
          <p:cNvPicPr/>
          <p:nvPr/>
        </p:nvPicPr>
        <p:blipFill>
          <a:blip r:embed="rId1"/>
          <a:stretch/>
        </p:blipFill>
        <p:spPr>
          <a:xfrm>
            <a:off x="228600" y="0"/>
            <a:ext cx="8763120" cy="69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severn-boating map of River Severn"/>
          <p:cNvPicPr/>
          <p:nvPr/>
        </p:nvPicPr>
        <p:blipFill>
          <a:blip r:embed="rId1"/>
          <a:srcRect l="0" t="0" r="0" b="12687"/>
          <a:stretch/>
        </p:blipFill>
        <p:spPr>
          <a:xfrm>
            <a:off x="914400" y="0"/>
            <a:ext cx="7010280" cy="6813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arts at Plynlimo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Upper Cour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lyn"/>
          <p:cNvPicPr/>
          <p:nvPr/>
        </p:nvPicPr>
        <p:blipFill>
          <a:blip r:embed="rId1"/>
          <a:stretch/>
        </p:blipFill>
        <p:spPr>
          <a:xfrm>
            <a:off x="609480" y="1371600"/>
            <a:ext cx="3541680" cy="507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8" name="Picture 7" descr="273616_842f86b2"/>
          <p:cNvPicPr/>
          <p:nvPr/>
        </p:nvPicPr>
        <p:blipFill>
          <a:blip r:embed="rId2"/>
          <a:stretch/>
        </p:blipFill>
        <p:spPr>
          <a:xfrm>
            <a:off x="4800600" y="1295280"/>
            <a:ext cx="3867120" cy="5153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Upper Course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The Rapids"/>
          <p:cNvPicPr/>
          <p:nvPr/>
        </p:nvPicPr>
        <p:blipFill>
          <a:blip r:embed="rId1"/>
          <a:stretch/>
        </p:blipFill>
        <p:spPr>
          <a:xfrm>
            <a:off x="533520" y="1447920"/>
            <a:ext cx="4038480" cy="3289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403848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f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sev4"/>
          <p:cNvPicPr/>
          <p:nvPr/>
        </p:nvPicPr>
        <p:blipFill>
          <a:blip r:embed="rId2"/>
          <a:stretch/>
        </p:blipFill>
        <p:spPr>
          <a:xfrm>
            <a:off x="5029200" y="1371600"/>
            <a:ext cx="3664080" cy="5181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148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eanders on the Sever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middle cour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Mary Webb M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380880"/>
            <a:ext cx="4497480" cy="6153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River Severn"/>
          <p:cNvPicPr/>
          <p:nvPr/>
        </p:nvPicPr>
        <p:blipFill>
          <a:blip r:embed="rId3"/>
          <a:stretch/>
        </p:blipFill>
        <p:spPr>
          <a:xfrm>
            <a:off x="0" y="3352680"/>
            <a:ext cx="4876920" cy="3121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hrewsbury – in a mea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shrewsburyfull"/>
          <p:cNvPicPr/>
          <p:nvPr/>
        </p:nvPicPr>
        <p:blipFill>
          <a:blip r:embed="rId1"/>
          <a:stretch/>
        </p:blipFill>
        <p:spPr>
          <a:xfrm>
            <a:off x="685800" y="1066680"/>
            <a:ext cx="7562880" cy="5407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orc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worcester04"/>
          <p:cNvPicPr/>
          <p:nvPr/>
        </p:nvPicPr>
        <p:blipFill>
          <a:blip r:embed="rId1"/>
          <a:stretch/>
        </p:blipFill>
        <p:spPr>
          <a:xfrm>
            <a:off x="990720" y="1066680"/>
            <a:ext cx="7315200" cy="5475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Severn Bore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Severn%20Bore%20005"/>
          <p:cNvPicPr/>
          <p:nvPr/>
        </p:nvPicPr>
        <p:blipFill>
          <a:blip r:embed="rId1"/>
          <a:stretch/>
        </p:blipFill>
        <p:spPr>
          <a:xfrm>
            <a:off x="838080" y="1257480"/>
            <a:ext cx="7467840" cy="560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1:32:13Z</dcterms:created>
  <dc:creator/>
  <dc:description/>
  <dc:language>en-US</dc:language>
  <cp:lastModifiedBy>RomaK</cp:lastModifiedBy>
  <dcterms:modified xsi:type="dcterms:W3CDTF">2015-09-04T09:44:55Z</dcterms:modified>
  <cp:revision>31</cp:revision>
  <dc:subject/>
  <dc:title>Slide 1</dc:title>
</cp:coreProperties>
</file>