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5F4F-5E08-4EDA-9918-ACA3579175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November 200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noe Journey Down the River Se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– To plan a river journey from Source to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November 200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noe Journey Down the River Se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– To plan a river journey from Source to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uary – the Severn Bridge (low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uary – the Severn Bridge (low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s at Plynlim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pp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s at Plynlim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pp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Cours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Cours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ders on the Seve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iddle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ders on the Seve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iddle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ewsbury – in a me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ewsbury – in a me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vern Bore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vern Bore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4397-4AF7-484B-835F-E31441EA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5BA2-0113-4EEF-85C3-A68A5E10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A845-B16B-4994-9CDD-13F498FC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9D6D-5BDF-4C99-B8CA-B006DFE9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F5D7-E6D5-44FF-A1E7-EE13074C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1C42-14AE-49D9-8C57-D43D1DC4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6D9C-A27D-458E-AF38-D34457FD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783E-B24E-4EE3-9914-29BF5BA0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BF75-8D31-4B4C-BE2E-BA16025C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5BDC-9916-490D-B341-69DF8B88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32F3-65C5-4C0F-BFAF-23F6F61B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887B-8E04-456A-8D11-6F605428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EB74-9924-4F2F-B6A3-D03222BD7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hropshiretourism.info/mary-webb/trails/trail_2_map.htm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19 November 2008</a:t>
            </a:r>
            <a:br>
              <a:rPr sz="6000"/>
            </a:br>
            <a:br>
              <a:rPr sz="6000"/>
            </a:br>
            <a:r>
              <a:rPr b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A Canoe Journey Down the River Sever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5029200"/>
            <a:ext cx="62481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 – To plan a river journey from Source to 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stuary – the Severn Bridge (lower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New_severn_bridge_best_750pix"/>
          <p:cNvPicPr/>
          <p:nvPr/>
        </p:nvPicPr>
        <p:blipFill>
          <a:blip r:embed="rId1"/>
          <a:stretch/>
        </p:blipFill>
        <p:spPr>
          <a:xfrm>
            <a:off x="1143000" y="1523880"/>
            <a:ext cx="7162920" cy="5119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evern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evern-boating map of River Severn"/>
          <p:cNvPicPr/>
          <p:nvPr/>
        </p:nvPicPr>
        <p:blipFill>
          <a:blip r:embed="rId1"/>
          <a:srcRect l="0" t="0" r="0" b="12687"/>
          <a:stretch/>
        </p:blipFill>
        <p:spPr>
          <a:xfrm>
            <a:off x="914400" y="0"/>
            <a:ext cx="7010280" cy="681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arts at Plynlim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Upper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lyn"/>
          <p:cNvPicPr/>
          <p:nvPr/>
        </p:nvPicPr>
        <p:blipFill>
          <a:blip r:embed="rId1"/>
          <a:stretch/>
        </p:blipFill>
        <p:spPr>
          <a:xfrm>
            <a:off x="609480" y="1371600"/>
            <a:ext cx="3541680" cy="50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" name="Picture 7" descr="273616_842f86b2"/>
          <p:cNvPicPr/>
          <p:nvPr/>
        </p:nvPicPr>
        <p:blipFill>
          <a:blip r:embed="rId2"/>
          <a:stretch/>
        </p:blipFill>
        <p:spPr>
          <a:xfrm>
            <a:off x="4800600" y="1295280"/>
            <a:ext cx="3867120" cy="5153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pper Course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The Rapids"/>
          <p:cNvPicPr/>
          <p:nvPr/>
        </p:nvPicPr>
        <p:blipFill>
          <a:blip r:embed="rId1"/>
          <a:stretch/>
        </p:blipFill>
        <p:spPr>
          <a:xfrm>
            <a:off x="533520" y="1447920"/>
            <a:ext cx="4038480" cy="3289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40384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ev4"/>
          <p:cNvPicPr/>
          <p:nvPr/>
        </p:nvPicPr>
        <p:blipFill>
          <a:blip r:embed="rId2"/>
          <a:stretch/>
        </p:blipFill>
        <p:spPr>
          <a:xfrm>
            <a:off x="5029200" y="1371600"/>
            <a:ext cx="3664080" cy="518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eanders on the Sever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middle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ary Webb 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80880"/>
            <a:ext cx="4497480" cy="6153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River Severn"/>
          <p:cNvPicPr/>
          <p:nvPr/>
        </p:nvPicPr>
        <p:blipFill>
          <a:blip r:embed="rId3"/>
          <a:stretch/>
        </p:blipFill>
        <p:spPr>
          <a:xfrm>
            <a:off x="0" y="3352680"/>
            <a:ext cx="4876920" cy="312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hrewsbury – in a me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shrewsburyfull"/>
          <p:cNvPicPr/>
          <p:nvPr/>
        </p:nvPicPr>
        <p:blipFill>
          <a:blip r:embed="rId1"/>
          <a:stretch/>
        </p:blipFill>
        <p:spPr>
          <a:xfrm>
            <a:off x="685800" y="1066680"/>
            <a:ext cx="7562880" cy="5407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orc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worcester04"/>
          <p:cNvPicPr/>
          <p:nvPr/>
        </p:nvPicPr>
        <p:blipFill>
          <a:blip r:embed="rId1"/>
          <a:stretch/>
        </p:blipFill>
        <p:spPr>
          <a:xfrm>
            <a:off x="990720" y="1066680"/>
            <a:ext cx="7315200" cy="5475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Severn Bore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Severn%20Bore%20005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1:32:13Z</dcterms:created>
  <dc:creator/>
  <dc:description/>
  <dc:language>en-US</dc:language>
  <cp:lastModifiedBy>RomaK</cp:lastModifiedBy>
  <dcterms:modified xsi:type="dcterms:W3CDTF">2015-09-04T09:44:55Z</dcterms:modified>
  <cp:revision>31</cp:revision>
  <dc:subject/>
  <dc:title>Slide 1</dc:title>
</cp:coreProperties>
</file>