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867160"/>
            <a:ext cx="297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842320"/>
            <a:ext cx="2971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456-CFCA-4D0C-ADF4-AA6F4B8CBB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4810680"/>
            <a:ext cx="297180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’ …Nine Number Picture Boar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a number to link to an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image to link to an information p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yellow squar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to link back to the imag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ick the red square     to link back to the picture boar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ce selected, numbers will change colou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’ …Nine Number Pictur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ine number picture board is adapted from  a template available from   www.sln.org.uk/ge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a number to link to an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image to link to an information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yellow squ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link back to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he red square     to link back to the picture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selected, numbers will chang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explain the differences between the sides of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ircular depressions are little pot hol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ircular depressions are little pot h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tones are swirled around in them when the river is flowing higher and faster than it is at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 holes are eroded by the abrasive action of the swirling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6478200"/>
            <a:ext cx="29718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undee is located on its estuar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shows the River Tay which at 117 miles is Scotland’s longest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ises  only 25 miles from the west coast but flows east to its mouth on the North S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many English rivers e.g. the Severn and theThames are longer than the Tay, the Tay carries a greater volume of water than any other British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dee is located on its estu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6922080"/>
            <a:ext cx="29718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x bow lak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mit of tidal influen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more than 8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d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ad, flat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tle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bankments/leve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 bow 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 of tidal infl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more than 8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, flat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le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ankments/lev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712116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eature is a confluence.  It occurs where a tributary joins the main stream or ri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stream of a confluence , the river increases in width. The discharge of a river (the volume of water it is carrying) also increases significan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7477920"/>
            <a:ext cx="297180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locking sp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bsence of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rge bedloa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ocking sp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ed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7208280"/>
            <a:ext cx="29718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band of hard rock interrupts the river’s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latively softer rock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unge poo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nd of hard rock interrupts the river’s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rhang develops where the softer rock below is eroded.  In time this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ly soft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ng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6017760"/>
            <a:ext cx="2971800" cy="31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20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ley is a U-shaped valley in the Scottish Highlands.  It was eroded by ice during the Ic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uch too large and deep to have been carved by the small river which now flows i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ver is called a ‘misfit’ as it is not in keeping with the scale of its vall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e river is in a highland valley, it displays features of a valley in its lower course (meanders).  This is because the valley floor is so fl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7017480"/>
            <a:ext cx="2971800" cy="21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valley sid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ny small tributari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 flood pla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channel less than 8m wid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eep long profi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iver follows a relatively straight cour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valley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mall tribut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od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channel less than 8m w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p long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 follows a relatively straight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6088320"/>
            <a:ext cx="29718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Question of Rive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estion of Ri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6938640"/>
            <a:ext cx="2971800" cy="22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side of the meander water is flowing more slowly. This results in deposition and the formation of the slip-off slope or river b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utside of the meander water is flower more quickly. This results in erosion and the formation of a cut bank or river cli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re the little circular depressions in the bedrock of this river form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7581600"/>
            <a:ext cx="2971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cotland’s longest river. Which river is it? Into which body of water does it flow?  Scotland’s fourth largest city is located on its estuary?  Which city is it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6747840"/>
            <a:ext cx="29718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produced from the OS Get-a-Map service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scribe the physical features of the river and its valle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produced from the OS Get-a-Map servi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reproduced with kind permission of the OS and OS of Northern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physical features of the river and its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river feature occupies the centre of this photo? How does the river change downstream of the fe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129160"/>
            <a:ext cx="2971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eatures identify  this stretch of river as part of its upper cou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311680"/>
            <a:ext cx="2971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has a waterfall developed here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a waterfall develop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7946640"/>
            <a:ext cx="29718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ould you know that this valley was not carved by the river which flows in it to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63F-4361-434B-A952-F5FDE0BD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93C-C0AC-47A9-AD09-41BA55D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25E-AEF9-4728-A6E9-A760B06F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DA3-D403-4129-9DDD-B2913C0C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391F-3891-4135-AFE3-EB36316F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FE1A-27BE-4272-B704-D16C9BA9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9299-05B8-4715-A858-AEBB0456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6FF2-51F0-4420-B01D-6CCCF79B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6E9-606C-419F-B2C4-84B36EBC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CEA2-7833-4628-A731-3C2BC38A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143C-AFC8-4ADB-8EE2-A595767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D4E-2E7F-4EE4-B5D2-89BF5E81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ED3-B34D-4344-B03E-4C1B8B7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CB8B-AF0B-4849-87CE-75040D32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60C3-7003-4B7E-8B75-2DD0B941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7304-26EA-43E5-9AFF-4CEBDC56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33D-1B4F-4E93-A68D-76A8474B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5D9-B6A7-4B82-B625-2170D1D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4E9-8BBE-4AEA-885E-7202617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67C-7113-42EE-886B-9D580786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BCF-C5FE-4A40-A348-40E3E8B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304-2D81-4B55-A7C1-4D353EB1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133-FFB4-4E12-8137-02D3B97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BCB-F429-46D7-AF5C-957615CE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8CCA-51C4-4E99-AC46-7216891DD9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74A4-1CD4-4254-AE20-ABBEF2A03E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ln.org.uk/geography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1.png"/><Relationship Id="rId5" Type="http://schemas.openxmlformats.org/officeDocument/2006/relationships/slide" Target="slide14.xm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" Target="slide13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9640" y="549360"/>
            <a:ext cx="835344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‘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A Question of’ …Nine Number Picture Boa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nine number picture board is adapted from  a template available from  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Comic Sans MS"/>
                <a:hlinkClick r:id="rId1"/>
              </a:rPr>
              <a:t>www.sln.org.uk/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a number to link to an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image to link to an information p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yellow squ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o link back to the im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lick the red square     to link back to the picture boar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nce selected, numbers will change colo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3995640" y="436392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bd10264_"/>
          <p:cNvPicPr/>
          <p:nvPr/>
        </p:nvPicPr>
        <p:blipFill>
          <a:blip r:embed="rId3"/>
          <a:stretch/>
        </p:blipFill>
        <p:spPr>
          <a:xfrm>
            <a:off x="3564000" y="48261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2" descr="Upp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92360" y="18900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9" name="Text Box 24"/>
          <p:cNvSpPr/>
          <p:nvPr/>
        </p:nvSpPr>
        <p:spPr>
          <a:xfrm>
            <a:off x="179280" y="3716280"/>
            <a:ext cx="13683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2268360" y="5589720"/>
            <a:ext cx="56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Img097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189000"/>
            <a:ext cx="6770880" cy="50781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34" name="Text Box 21"/>
          <p:cNvSpPr/>
          <p:nvPr/>
        </p:nvSpPr>
        <p:spPr>
          <a:xfrm>
            <a:off x="1476360" y="551664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1476360" y="551664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scribe and explain the differences between the sides of the riv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1042920" y="765000"/>
            <a:ext cx="7129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ircular depressions are littl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pot hol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mall stones are swirled around in them when the river is flowing higher and faster than it is at pres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ot holes are eroded by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abrasive actio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the swirling st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826920" y="620640"/>
            <a:ext cx="7490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photo shows the River Tay which at 117 miles is Scotland’s longest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rises  only 25 miles from the west coast but flows east to its mouth on the North Se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many English rivers e.g. the Severn and theThames are longer than the Tay, the Tay carries a greater volume of water than any other British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undee is located on its estuar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539640" y="33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9640" y="404640"/>
            <a:ext cx="828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Lower cours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9640" y="981000"/>
            <a:ext cx="8352000" cy="4403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Text Box 11"/>
          <p:cNvSpPr/>
          <p:nvPr/>
        </p:nvSpPr>
        <p:spPr>
          <a:xfrm>
            <a:off x="464328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ox bow lak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2000" y="2637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limit of tidal influ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500364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more than 8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3851280" y="263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eand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611280" y="1989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broad, flat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1116000" y="256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gentle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5724360" y="4221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embankments/leve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Line 18"/>
          <p:cNvSpPr/>
          <p:nvPr/>
        </p:nvSpPr>
        <p:spPr>
          <a:xfrm flipV="1">
            <a:off x="7524720" y="349992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8"/>
          <p:cNvSpPr/>
          <p:nvPr/>
        </p:nvSpPr>
        <p:spPr>
          <a:xfrm>
            <a:off x="755640" y="1052640"/>
            <a:ext cx="7201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feature is a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confluence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It occurs where a tributary joins the main stream or riv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ownstream of a confluence , the river increases in width. The discharge of a river (the volume of water it is carrying) also increases significantly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bd10264_"/>
          <p:cNvPicPr/>
          <p:nvPr/>
        </p:nvPicPr>
        <p:blipFill>
          <a:blip r:embed="rId1"/>
          <a:stretch/>
        </p:blipFill>
        <p:spPr>
          <a:xfrm>
            <a:off x="25092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6227640" y="1268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interlocking spu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012000" y="2565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16" descr="resized"/>
          <p:cNvPicPr/>
          <p:nvPr/>
        </p:nvPicPr>
        <p:blipFill>
          <a:blip r:embed="rId3"/>
          <a:stretch/>
        </p:blipFill>
        <p:spPr>
          <a:xfrm>
            <a:off x="826920" y="333360"/>
            <a:ext cx="4314960" cy="5759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63" name="Line 15"/>
          <p:cNvSpPr/>
          <p:nvPr/>
        </p:nvSpPr>
        <p:spPr>
          <a:xfrm flipH="1">
            <a:off x="4643280" y="2781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13"/>
          <p:cNvSpPr/>
          <p:nvPr/>
        </p:nvSpPr>
        <p:spPr>
          <a:xfrm flipH="1">
            <a:off x="2987280" y="1413000"/>
            <a:ext cx="30970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5796000" y="4292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bsence of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3995280" y="4508640"/>
            <a:ext cx="180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3132000" y="3716280"/>
            <a:ext cx="2664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6156360" y="35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6012000" y="530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rge bedlo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Line 23"/>
          <p:cNvSpPr/>
          <p:nvPr/>
        </p:nvSpPr>
        <p:spPr>
          <a:xfrm flipH="1">
            <a:off x="2484360" y="5445000"/>
            <a:ext cx="324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Thornton Force Panorama copy"/>
          <p:cNvPicPr/>
          <p:nvPr/>
        </p:nvPicPr>
        <p:blipFill>
          <a:blip r:embed="rId3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74" name="Line 10"/>
          <p:cNvSpPr/>
          <p:nvPr/>
        </p:nvSpPr>
        <p:spPr>
          <a:xfrm flipV="1">
            <a:off x="1403280" y="2133360"/>
            <a:ext cx="0" cy="2879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Line 11"/>
          <p:cNvSpPr/>
          <p:nvPr/>
        </p:nvSpPr>
        <p:spPr>
          <a:xfrm flipV="1">
            <a:off x="3419640" y="2708280"/>
            <a:ext cx="0" cy="2233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12"/>
          <p:cNvSpPr/>
          <p:nvPr/>
        </p:nvSpPr>
        <p:spPr>
          <a:xfrm flipV="1">
            <a:off x="6156360" y="3284280"/>
            <a:ext cx="0" cy="1657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Line 14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826920" y="515772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 band of hard rock interrupts the river’s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2700360" y="4941720"/>
            <a:ext cx="23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n overhang develops where the softer rock below is eroded.  In time this will collap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5292720" y="5013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relatively softer roc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7236000" y="515772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plunge p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1"/>
          <p:cNvSpPr/>
          <p:nvPr/>
        </p:nvSpPr>
        <p:spPr>
          <a:xfrm>
            <a:off x="539640" y="765000"/>
            <a:ext cx="84250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valley is a U-shaped valley in the Scottish Highlands.  It was eroded by ice during the Ice Ag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t is much too large and deep to have been carved by the small river which now flows in i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iver is called a ‘misfit’ as it is not in keeping with the scale of its valle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though the river is in a highland valley, it displays features of a valley in its lower course (meanders).  This is because the valley floor is so fla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6" descr="bd10264_"/>
          <p:cNvPicPr/>
          <p:nvPr/>
        </p:nvPicPr>
        <p:blipFill>
          <a:blip r:embed="rId1"/>
          <a:stretch/>
        </p:blipFill>
        <p:spPr>
          <a:xfrm>
            <a:off x="179280" y="63086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2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Upper course"/>
          <p:cNvPicPr/>
          <p:nvPr/>
        </p:nvPicPr>
        <p:blipFill>
          <a:blip r:embed="rId3"/>
          <a:stretch/>
        </p:blipFill>
        <p:spPr>
          <a:xfrm>
            <a:off x="755640" y="333360"/>
            <a:ext cx="7056360" cy="5138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8" name="Oval 20"/>
          <p:cNvSpPr/>
          <p:nvPr/>
        </p:nvSpPr>
        <p:spPr>
          <a:xfrm>
            <a:off x="2843280" y="692280"/>
            <a:ext cx="1081080" cy="576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4211640" y="148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valley sid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900000" y="155736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many small tributari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406600" y="20653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no flood pla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5148360" y="227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channel less than 8m wi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2916360" y="2924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steep long profi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3276720" y="364500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Verdana"/>
              </a:rPr>
              <a:t>river follows a relatively straight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4"/>
          <p:cNvSpPr/>
          <p:nvPr/>
        </p:nvSpPr>
        <p:spPr>
          <a:xfrm>
            <a:off x="1600200" y="1414440"/>
            <a:ext cx="1644480" cy="1508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3581280" y="1414440"/>
            <a:ext cx="1644840" cy="15080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5562720" y="1414440"/>
            <a:ext cx="1644480" cy="15080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7"/>
          <p:cNvSpPr/>
          <p:nvPr/>
        </p:nvSpPr>
        <p:spPr>
          <a:xfrm>
            <a:off x="1600200" y="3243240"/>
            <a:ext cx="1644480" cy="15080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8"/>
          <p:cNvSpPr/>
          <p:nvPr/>
        </p:nvSpPr>
        <p:spPr>
          <a:xfrm>
            <a:off x="3581280" y="3243240"/>
            <a:ext cx="1644840" cy="15080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5562720" y="3243240"/>
            <a:ext cx="1644480" cy="1508040"/>
          </a:xfrm>
          <a:prstGeom prst="rect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30"/>
          <p:cNvSpPr/>
          <p:nvPr/>
        </p:nvSpPr>
        <p:spPr>
          <a:xfrm>
            <a:off x="1600200" y="5072040"/>
            <a:ext cx="1644480" cy="1508040"/>
          </a:xfrm>
          <a:prstGeom prst="rect">
            <a:avLst/>
          </a:prstGeom>
          <a:solidFill>
            <a:srgbClr val="00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1"/>
          <p:cNvSpPr/>
          <p:nvPr/>
        </p:nvSpPr>
        <p:spPr>
          <a:xfrm>
            <a:off x="3581280" y="5072040"/>
            <a:ext cx="1644840" cy="150804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5562720" y="5072040"/>
            <a:ext cx="1644480" cy="15080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47"/>
          <p:cNvSpPr/>
          <p:nvPr/>
        </p:nvSpPr>
        <p:spPr>
          <a:xfrm>
            <a:off x="826920" y="333360"/>
            <a:ext cx="71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A Question of R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8">
            <a:hlinkClick r:id="rId1" action="ppaction://hlinksldjump"/>
          </p:cNvPr>
          <p:cNvSpPr/>
          <p:nvPr/>
        </p:nvSpPr>
        <p:spPr>
          <a:xfrm>
            <a:off x="2124000" y="1484280"/>
            <a:ext cx="719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49">
            <a:hlinkClick r:id="rId3" action="ppaction://hlinksldjump"/>
          </p:cNvPr>
          <p:cNvSpPr/>
          <p:nvPr/>
        </p:nvSpPr>
        <p:spPr>
          <a:xfrm>
            <a:off x="5981760" y="1514520"/>
            <a:ext cx="72072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50"/>
          <p:cNvSpPr/>
          <p:nvPr/>
        </p:nvSpPr>
        <p:spPr>
          <a:xfrm>
            <a:off x="4010040" y="15145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5" action="ppaction://hlinksldjump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1"/>
          <p:cNvSpPr/>
          <p:nvPr/>
        </p:nvSpPr>
        <p:spPr>
          <a:xfrm>
            <a:off x="2035080" y="332748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6" action="ppaction://hlinksldjump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4010040" y="33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7" action="ppaction://hlinksldjump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910120" y="33577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8" action="ppaction://hlinksldjump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54"/>
          <p:cNvSpPr/>
          <p:nvPr/>
        </p:nvSpPr>
        <p:spPr>
          <a:xfrm>
            <a:off x="2035080" y="5199120"/>
            <a:ext cx="792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9" action="ppaction://hlinksldjump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4010040" y="5157720"/>
            <a:ext cx="792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0" action="ppaction://hlinksldjump"/>
              </a:rPr>
              <a:t>8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5838840" y="5157720"/>
            <a:ext cx="8636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 u="sng">
                <a:solidFill>
                  <a:srgbClr val="ffffcc"/>
                </a:solidFill>
                <a:uFillTx/>
                <a:latin typeface="Comic Sans MS"/>
                <a:hlinkClick r:id="rId11" action="ppaction://hlinksldjump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3049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bd10264_"/>
          <p:cNvPicPr/>
          <p:nvPr/>
        </p:nvPicPr>
        <p:blipFill>
          <a:blip r:embed="rId1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Img0978 resized"/>
          <p:cNvPicPr/>
          <p:nvPr/>
        </p:nvPicPr>
        <p:blipFill>
          <a:blip r:embed="rId2"/>
          <a:stretch/>
        </p:blipFill>
        <p:spPr>
          <a:xfrm>
            <a:off x="1908000" y="260280"/>
            <a:ext cx="5761080" cy="432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98" name="Line 5"/>
          <p:cNvSpPr/>
          <p:nvPr/>
        </p:nvSpPr>
        <p:spPr>
          <a:xfrm flipV="1">
            <a:off x="2700360" y="306828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Line 6"/>
          <p:cNvSpPr/>
          <p:nvPr/>
        </p:nvSpPr>
        <p:spPr>
          <a:xfrm flipV="1">
            <a:off x="7020000" y="2852280"/>
            <a:ext cx="0" cy="20890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16000" y="494172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inside of the meander water is flowing more slowly. This results in deposition and the formation of the slip-off slope or river beac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5219640" y="501336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n the outside of the meander water is flower more quickly. This results in erosion and the formation of a cut bank or river cliff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8317080" y="623736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304920" y="30492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1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4" descr="Img0511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6840360" cy="5129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88" name="Text Box 35"/>
          <p:cNvSpPr/>
          <p:nvPr/>
        </p:nvSpPr>
        <p:spPr>
          <a:xfrm>
            <a:off x="1258920" y="580536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ere the little circular depressions in the bedrock of this river form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Line 36"/>
          <p:cNvSpPr/>
          <p:nvPr/>
        </p:nvSpPr>
        <p:spPr>
          <a:xfrm>
            <a:off x="5867280" y="1341360"/>
            <a:ext cx="0" cy="57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356000" y="2637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5219640" y="1052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Line 39"/>
          <p:cNvSpPr/>
          <p:nvPr/>
        </p:nvSpPr>
        <p:spPr>
          <a:xfrm>
            <a:off x="3276720" y="220500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Line 40"/>
          <p:cNvSpPr/>
          <p:nvPr/>
        </p:nvSpPr>
        <p:spPr>
          <a:xfrm>
            <a:off x="4643280" y="83664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Line 41"/>
          <p:cNvSpPr/>
          <p:nvPr/>
        </p:nvSpPr>
        <p:spPr>
          <a:xfrm>
            <a:off x="3708360" y="1916280"/>
            <a:ext cx="0" cy="57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15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8" descr="Tay south of perth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258920" y="260280"/>
            <a:ext cx="7524720" cy="3235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98" name="Text Box 40"/>
          <p:cNvSpPr/>
          <p:nvPr/>
        </p:nvSpPr>
        <p:spPr>
          <a:xfrm>
            <a:off x="684360" y="393372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s is Scotland’s longest river. Which river is it? Into which body of water does it flow?  Scotland’s fourth largest city is located on its estuary?  Which city is it?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2" descr="Dundee and River Tay estuary resized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4114800" cy="2657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10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4" descr="Lower cours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7704360" cy="40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3" name="Text Box 36"/>
          <p:cNvSpPr/>
          <p:nvPr/>
        </p:nvSpPr>
        <p:spPr>
          <a:xfrm>
            <a:off x="179280" y="4941720"/>
            <a:ext cx="180036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produced from the OS Get-a-Map service.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Image reproduced with kind permission of the OS and OS of Northern Ireland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2700360" y="501336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escribe the physical features of the river and its vall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6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1"/>
          <p:cNvSpPr/>
          <p:nvPr/>
        </p:nvSpPr>
        <p:spPr>
          <a:xfrm>
            <a:off x="5651640" y="141300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23" descr="Img0652 resize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476280"/>
            <a:ext cx="6624720" cy="49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9" name="Text Box 24"/>
          <p:cNvSpPr/>
          <p:nvPr/>
        </p:nvSpPr>
        <p:spPr>
          <a:xfrm>
            <a:off x="1476360" y="5661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1547640" y="566100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Oval 26"/>
          <p:cNvSpPr/>
          <p:nvPr/>
        </p:nvSpPr>
        <p:spPr>
          <a:xfrm>
            <a:off x="3924360" y="2133720"/>
            <a:ext cx="2089080" cy="2087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7"/>
          <p:cNvSpPr/>
          <p:nvPr/>
        </p:nvSpPr>
        <p:spPr>
          <a:xfrm>
            <a:off x="1547640" y="57340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28"/>
          <p:cNvSpPr/>
          <p:nvPr/>
        </p:nvSpPr>
        <p:spPr>
          <a:xfrm>
            <a:off x="826920" y="5734080"/>
            <a:ext cx="83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river feature occupies the centre of this photo? How does the river change downstream of the featu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0492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6443640" y="1700280"/>
            <a:ext cx="24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at features identify  this stretch of river as part of its upper cour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5" descr="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549360"/>
            <a:ext cx="4370400" cy="583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28600" y="22860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8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4" descr="Thornton Force Panorama copy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42920" y="692280"/>
            <a:ext cx="7634520" cy="3695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1" name="Text Box 25"/>
          <p:cNvSpPr/>
          <p:nvPr/>
        </p:nvSpPr>
        <p:spPr>
          <a:xfrm>
            <a:off x="2050920" y="472428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hy has a waterfall developed her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380880" y="22860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Picture 7" descr="bd10264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0" descr="Img0918 resize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333360"/>
            <a:ext cx="6409080" cy="480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5" name="Text Box 31"/>
          <p:cNvSpPr/>
          <p:nvPr/>
        </p:nvSpPr>
        <p:spPr>
          <a:xfrm>
            <a:off x="1547640" y="530064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ow would you know that this valley was not carved by the river which flows in it today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9:45:47Z</dcterms:created>
  <dc:creator>VV</dc:creator>
  <dc:description/>
  <dc:language>en-US</dc:language>
  <cp:lastModifiedBy>RomaK</cp:lastModifiedBy>
  <dcterms:modified xsi:type="dcterms:W3CDTF">2015-09-04T09:44:49Z</dcterms:modified>
  <cp:revision>47</cp:revision>
  <dc:subject/>
  <dc:title>PowerPoint Presentation</dc:title>
</cp:coreProperties>
</file>