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0513-4BCA-4C37-B95D-98E78628B9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46A-E708-41F5-BAD2-CA7A7069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01F-3089-46CB-B6B6-6A4D6309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901-6C92-404A-B723-5EC548DD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B6A-C226-4C7B-9EEC-376B5CE0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77A9-5B32-472D-B51D-BE236AFF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4488-AE9A-4CCD-88B6-E42F593F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5580-F6B6-41B3-BB85-F412BBD1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EA85-4F7D-4619-9754-C179DBED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630D-1C8F-49D3-9E13-8E68BF26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96BC-DFEB-4539-9CED-1E4E3EBF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BF05-FB83-4F6D-997D-D4BCEC9E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9A7-296E-4DBE-9143-92D5C52D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81B2-F014-46D5-BFC3-AFDAB8F5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C898-B90F-49BC-9D8A-C803DE6B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1058-FF4F-49FA-AB37-83B31EE4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29B7-44B0-4114-BC95-83C98185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0147-F5C5-4036-8096-1D014C85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DA1D3-D9A7-4D27-8CAF-477C8FDA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5E4A-1277-4FD4-9AF0-F0615CD3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3768-7968-4C1E-87BA-FB31A862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9E9EB-D177-4271-BC40-7D4C754A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04E8-3DF1-4FED-945F-A67FA1AE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8E6-E16A-4CCC-8D11-D641AECA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4B41-AF0E-4D74-82CB-DE40036C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93559-2B6A-4975-B7F8-B4C5DFF7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7BA46-E05F-4467-BAC0-9CED1F94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2D3F-C988-45FE-A534-961DEBD1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1C142-1EDE-43E8-A6E2-AB58E56B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0246E-A45C-4D85-B0BE-7CD84E92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44477-0AAD-4567-9334-56A96581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15975-3E4B-4426-B8EF-18931E56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5B9F9-1A99-4E29-B23E-8C02F2A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BAC4-7C1D-43D5-AB40-991CB656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E65-FB6D-4ECA-A407-3D4F833A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7A4C-CDF5-4A5C-B8C0-054D0568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155B9-95DA-4886-B7D5-971E055E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DB34C-B044-4375-9B15-B2455FFE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DC35-4D93-44FD-9340-4BF716C1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5AF1-478F-4CD2-AC3E-C66D1997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24A28-A70F-4F6E-BAB9-1A142A74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4F570-1B2E-46BC-BA03-F51AB73D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5279-A4E9-4CBB-BB22-3799250D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AE10B-564B-45A7-856A-DB77E7F7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72632-655C-4D63-9D4C-8AFA30E5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DF2-0145-4706-B573-6CBFA981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F6B90-B1A7-48B9-97B4-E49B03B2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5474F-88F7-45FD-A85A-66A14A48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10F77-C75C-47B8-B7C5-0091744C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B7989-8746-41E2-83A6-F6EEE0C4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C2CAE-3F98-45C6-B396-2FBE6AFB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C857C-685F-48E0-B354-6FC14C12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466D6-DDE1-4568-BA1D-A6918769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0A15B-7E02-4224-833E-2E7AD27C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BD12E-EC62-40F9-8645-34E59C0A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F59AF-383F-45EE-B29D-A714227F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2CA-6D58-4530-A353-132CC703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72AD3-159F-43F6-BF9F-01366ABC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83702-F58E-46D0-B4D8-0B7E492B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1FCD3-294D-4DA6-9841-F8FBDF30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67A74-D791-4141-A89C-030EAB4A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03945-8365-407B-9B4E-489E805E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FB8AB-081F-435F-8A2A-732E1EF1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BBB30-69BB-4C46-8DD1-30263DF7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C357C-D679-4B5F-B446-1EBA6EDF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B708B-D181-4D0B-B459-F81347DD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0C8E1-1307-44E0-B577-1E70536F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C02-9FAE-489B-858E-FFCF9E81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EE607-5661-4263-B53F-DFE3F598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D32E6-75AB-4F17-BD56-D3BC4DFC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FD227-0BE3-41E2-8086-73E54494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61233-014B-47B7-87E3-B6C1770A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7ADE2-56C9-4CB9-AB0A-A99C6DC9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2C4AB-7B36-4BC9-BD49-C4F6634D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1E1E1-CE70-4B3A-8B88-DEEF9ABA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0183C-6382-447E-AC0A-543AC1BB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529AD-A2A5-4DBA-8033-EABABBA4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FB128-5ADD-4E3D-B4A7-5F0509E5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3CC-9EA7-449A-AD2C-D5310D82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A7640-82C9-425F-9A3D-EC4985E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C4B6D-D052-4607-818A-9578EA46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7855D-40C6-4BB5-8AED-F02A1643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953C6-5077-4CAC-8264-B6EDF887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EE2A4-AA5E-4CB6-99F3-D59745C3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5C4D0-C0B3-4673-8126-494CC021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EFE0E-5BF4-4FA3-80FE-71266222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BC066-756A-49DB-BBD9-2D347E4B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2517D-954A-46A9-9798-BC348B48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AE82D-452F-4566-BE84-38D7DC8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1DC-57B1-48B0-8CEF-9C8F583C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E6E1-960B-47A4-A714-422C12E3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55F3-9E48-4B36-A912-E05E67E5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FD6FE-BF85-42BF-BA0D-3F24A9C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F245E-B4B9-4CFC-9C45-AFF8E082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09635-8263-4A42-B528-74DF08CC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6F322-DE98-4FF0-806C-A39F5DDB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001B2-3A9B-4E51-99CA-3A290CAB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CED1-54E8-4D04-B8ED-C3A9180ECCC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9498-C7A2-4C2A-B576-0ABE0DC99BC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BCC4-059F-4AA4-B441-1ED67668798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B188-2C2B-456E-8233-25E0B14CC66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5D03-B7ED-4387-84F0-651FD284AF5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8EEA-78ED-4EA2-813C-71D06C1BA5C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200A-EE4D-4B3D-9AA8-6D508951AB4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1A00-0BD2-4E73-A2AD-A8819DA5735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8156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3"/>
          <a:stretch/>
        </p:blipFill>
        <p:spPr>
          <a:xfrm>
            <a:off x="96840" y="2895480"/>
            <a:ext cx="8278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wind blowing for 10 hours across the ocean will cause the surface waters to flow at about 2% of the wind spe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ater will pile up in the direction the wind is blow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 will pull the water down the "hill" or pile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ut the Coriolis Force causes the water to move to the right (in the northern hemisphere) around the mound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3" descr="earth 4.jpg"/>
          <p:cNvPicPr/>
          <p:nvPr/>
        </p:nvPicPr>
        <p:blipFill>
          <a:blip r:embed="rId2"/>
          <a:stretch/>
        </p:blipFill>
        <p:spPr>
          <a:xfrm>
            <a:off x="5638680" y="5029200"/>
            <a:ext cx="177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3" descr="forces.jpg"/>
          <p:cNvPicPr/>
          <p:nvPr/>
        </p:nvPicPr>
        <p:blipFill>
          <a:blip r:embed="rId2"/>
          <a:stretch/>
        </p:blipFill>
        <p:spPr>
          <a:xfrm>
            <a:off x="1752480" y="2666880"/>
            <a:ext cx="5384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large mounds of water and the flow around them are called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The produce large circular currents in all the ocean basi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Picture 3" descr="gyres.jpg"/>
          <p:cNvPicPr/>
          <p:nvPr/>
        </p:nvPicPr>
        <p:blipFill>
          <a:blip r:embed="rId1"/>
          <a:stretch/>
        </p:blipFill>
        <p:spPr>
          <a:xfrm>
            <a:off x="4038480" y="3200400"/>
            <a:ext cx="3276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member the Coriolis Force move objects to the right in the northern hemisphere, and to the left in the southern hemi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3" descr="coriolis.jpg"/>
          <p:cNvPicPr/>
          <p:nvPr/>
        </p:nvPicPr>
        <p:blipFill>
          <a:blip r:embed="rId1"/>
          <a:stretch/>
        </p:blipFill>
        <p:spPr>
          <a:xfrm>
            <a:off x="4038480" y="2895480"/>
            <a:ext cx="3429000" cy="3656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oriolis 2.jpg"/>
          <p:cNvPicPr/>
          <p:nvPr/>
        </p:nvPicPr>
        <p:blipFill>
          <a:blip r:embed="rId2"/>
          <a:stretch/>
        </p:blipFill>
        <p:spPr>
          <a:xfrm>
            <a:off x="609480" y="311796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70%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the Earth’s surface is covered by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that, 95% is salt water – only 5% is fresh water – and part of that is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arth 1.jpg"/>
          <p:cNvPicPr/>
          <p:nvPr/>
        </p:nvPicPr>
        <p:blipFill>
          <a:blip r:embed="rId2"/>
          <a:stretch/>
        </p:blipFill>
        <p:spPr>
          <a:xfrm>
            <a:off x="990720" y="3276720"/>
            <a:ext cx="2674800" cy="2657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ocean map 2.gif"/>
          <p:cNvPicPr/>
          <p:nvPr/>
        </p:nvPicPr>
        <p:blipFill>
          <a:blip r:embed="rId3"/>
          <a:stretch/>
        </p:blipFill>
        <p:spPr>
          <a:xfrm>
            <a:off x="4343400" y="3505320"/>
            <a:ext cx="4260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 oceans are really just one body of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divided into the four named ocea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Pac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tlan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Indi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rc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wave.jpg"/>
          <p:cNvPicPr/>
          <p:nvPr/>
        </p:nvPicPr>
        <p:blipFill>
          <a:blip r:embed="rId2"/>
          <a:stretch/>
        </p:blipFill>
        <p:spPr>
          <a:xfrm>
            <a:off x="5715000" y="152280"/>
            <a:ext cx="28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ocean map 3.jpg"/>
          <p:cNvPicPr/>
          <p:nvPr/>
        </p:nvPicPr>
        <p:blipFill>
          <a:blip r:embed="rId3"/>
          <a:stretch/>
        </p:blipFill>
        <p:spPr>
          <a:xfrm>
            <a:off x="3429000" y="3505320"/>
            <a:ext cx="4952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ceans are always in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happen twice d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are caused by the pull of gravity by the moon, and to a lesser degree by the su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you think the sun would pull less than the mo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wave 1.jpg"/>
          <p:cNvPicPr/>
          <p:nvPr/>
        </p:nvPicPr>
        <p:blipFill>
          <a:blip r:embed="rId2"/>
          <a:stretch/>
        </p:blipFill>
        <p:spPr>
          <a:xfrm>
            <a:off x="2743200" y="4343400"/>
            <a:ext cx="60199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 of Ocean Curr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urface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about 10% of all the water in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are the upper 400 meters of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urface currents 1.jpg"/>
          <p:cNvPicPr/>
          <p:nvPr/>
        </p:nvPicPr>
        <p:blipFill>
          <a:blip r:embed="rId2"/>
          <a:stretch/>
        </p:blipFill>
        <p:spPr>
          <a:xfrm>
            <a:off x="4191120" y="4267080"/>
            <a:ext cx="33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ep Water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rmohalin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the other 90% of the oce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ove around the ocean basins by density driven forces and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difference is caused by different temperatures and salin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deep waters sink into the deep ocean basins at high latitudes where the temperatures are cold enough to cause the density to increa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eep currents.jpg"/>
          <p:cNvPicPr/>
          <p:nvPr/>
        </p:nvPicPr>
        <p:blipFill>
          <a:blip r:embed="rId2"/>
          <a:stretch/>
        </p:blipFill>
        <p:spPr>
          <a:xfrm>
            <a:off x="5486400" y="541008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ean Currents are influenced by two types of fo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. Primary Forces--start the water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primary forc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riolis eff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oriolis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81200" cy="2752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1 coriolis.jpg"/>
          <p:cNvPicPr/>
          <p:nvPr/>
        </p:nvPicPr>
        <p:blipFill>
          <a:blip r:embed="rId3"/>
          <a:stretch/>
        </p:blipFill>
        <p:spPr>
          <a:xfrm>
            <a:off x="6172200" y="2819520"/>
            <a:ext cx="2519280" cy="231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oriolis 2.jpg"/>
          <p:cNvPicPr/>
          <p:nvPr/>
        </p:nvPicPr>
        <p:blipFill>
          <a:blip r:embed="rId4"/>
          <a:stretch/>
        </p:blipFill>
        <p:spPr>
          <a:xfrm>
            <a:off x="6324480" y="525780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. Secondary Forces--influence where the currents f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 blowing on the surface of the ocean push the water. Friction occurs between the wind and the water's surfa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ave 3.jpg"/>
          <p:cNvPicPr/>
          <p:nvPr/>
        </p:nvPicPr>
        <p:blipFill>
          <a:blip r:embed="rId2"/>
          <a:stretch/>
        </p:blipFill>
        <p:spPr>
          <a:xfrm>
            <a:off x="5410080" y="548640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winds.jpg"/>
          <p:cNvPicPr/>
          <p:nvPr/>
        </p:nvPicPr>
        <p:blipFill>
          <a:blip r:embed="rId1"/>
          <a:stretch/>
        </p:blipFill>
        <p:spPr>
          <a:xfrm>
            <a:off x="4419720" y="1676520"/>
            <a:ext cx="4333680" cy="4113000"/>
          </a:xfrm>
          <a:prstGeom prst="rect">
            <a:avLst/>
          </a:prstGeom>
          <a:ln w="0">
            <a:noFill/>
          </a:ln>
        </p:spPr>
      </p:pic>
      <p:pic>
        <p:nvPicPr>
          <p:cNvPr id="406" name="Title 4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world map 1.jpg"/>
          <p:cNvPicPr/>
          <p:nvPr/>
        </p:nvPicPr>
        <p:blipFill>
          <a:blip r:embed="rId3"/>
          <a:stretch/>
        </p:blipFill>
        <p:spPr>
          <a:xfrm>
            <a:off x="457200" y="2438280"/>
            <a:ext cx="3657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6:39Z</dcterms:created>
  <dc:creator>Ector County ISD Employee</dc:creator>
  <dc:description/>
  <dc:language>en-US</dc:language>
  <cp:lastModifiedBy>RomaK</cp:lastModifiedBy>
  <dcterms:modified xsi:type="dcterms:W3CDTF">2015-09-04T09:44:20Z</dcterms:modified>
  <cp:revision>21</cp:revision>
  <dc:subject/>
  <dc:title>Oceans</dc:title>
</cp:coreProperties>
</file>