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CD49-0B63-44C7-8D9A-FF2A7039F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summers, mild, wet w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5 places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a, Northern Baj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of the 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er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cape of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Cost of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summers, mild, wet w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5 places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a, Northern Baj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of the 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er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cape of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Cost of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egon to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 species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tree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egon to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 species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tree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3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emperatures 10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temperatures 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3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emperatures 10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temperatures 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° to 70°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 means barre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is permanetly frozen 10” to 3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emperature -18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he sun never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s’ coldest/driest bi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° to 70°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 means barre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is permanetly frozen 10” to 3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emperature -18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he sun never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s’ coldest/driest bi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four specific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jave Desert – the smallest, but where Death Valley can reach 134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hua Tree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huahuan Desert – found in Mexico, it gets 8-12 inches of rain per year.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Century Plan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four specific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jave Desert – the smallest, but where Death Valley can reach 134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hua Tree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huahuan Desert – found in Mexico, it gets 8-12 inches of rain per year.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Century Plan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peak is Denali,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gby, North Dako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poi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peak is Denali,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gby, North Dako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poi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8% of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largest i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8% of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largest i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bia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d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o Gran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ouri River - l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ssipp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i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ouri/Mississippi River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879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umbia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d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o Gran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ouri River - l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issipp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i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ouri/Mississippi River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,879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rea of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es, fir and spruce trees, produce cones which contains th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mountains have supported tree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and stormy in the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ning storms in 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rea of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es, fir and spruce trees, produce cones which contains th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mountains have supported tree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and stormy in the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ning storms in 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found 0 - 50° degrees north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r glaciers from New England to 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 climate, 4 seasons and they get 2 - 4 feet of rain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oaks, maples, beeches, hickories and a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found 0 - 50° degrees north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r glaciers from New England to 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 climate, 4 seasons and they get 2 - 4 feet of rain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oaks, maples, beeches, hickories and a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0AD4-E0CC-4E7A-866E-47C5AA63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926-F249-4CF2-BC78-694C1674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C72-EC80-469A-8DCB-AD8C98C7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E15-6403-49F2-876F-50246F8C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3695-E4BB-4B20-8F70-D210FEE4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1B75-2993-46C6-9340-EED81932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F1BC-690E-4D81-A518-69DBE1D7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5B63-7520-4742-B834-C7FE5E3E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6B0E-8F39-4C1E-988E-1367092E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9D5E-CC3C-444E-A9B4-446D851E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4596-98DB-4115-9B75-19A4DD2C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D8FD-B009-4F72-BE8A-56D386BF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2A58-E4AD-4350-9DF2-9F15AC0C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F845-C4D9-444C-BC7C-29FF1BDF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06E0-5A50-4356-BCA0-346882EE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2FF1-F8E0-4A90-8E6C-B2940646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F85A-B643-48C0-AF80-B64E07ED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82D-D448-49DC-8DE7-E3066DD9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152F-DB5E-4E76-B2E2-56C6C18A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96E-8396-47FD-97D2-0A2AEEEF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4EB-D939-41B4-BCAE-5FB74E17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A259-1168-4BC1-8E35-339B1C77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EDA-A915-45E3-ACAC-11340DF5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DC90-55CF-4656-96E7-8B421884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1238-0E7C-4F66-B631-C78D20509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1C6F-566D-4378-812D-602C7D58F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North America</a:t>
            </a:r>
            <a:br>
              <a:rPr sz="4800"/>
            </a:b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The Continent Series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6087600"/>
            <a:ext cx="4114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Mediterranean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ot, dry summers, mild, wet w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nly found in 5 places on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alifornia, Northern Baja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Basin of the Mediterranean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outhwestern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estern cape of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entral Cost of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alifornia Coast"/>
          <p:cNvPicPr/>
          <p:nvPr/>
        </p:nvPicPr>
        <p:blipFill>
          <a:blip r:embed="rId1"/>
          <a:stretch/>
        </p:blipFill>
        <p:spPr>
          <a:xfrm>
            <a:off x="3951360" y="4754520"/>
            <a:ext cx="3476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Rain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for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regon to 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50 species of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25 tree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55 inches of rainfall p/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Olympic%20National%20Park2"/>
          <p:cNvPicPr/>
          <p:nvPr/>
        </p:nvPicPr>
        <p:blipFill>
          <a:blip r:embed="rId1"/>
          <a:stretch/>
        </p:blipFill>
        <p:spPr>
          <a:xfrm>
            <a:off x="6618240" y="3184560"/>
            <a:ext cx="22384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Gras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2-35 inches of rainfall p/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ummer temperatures 100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inter temperatures 0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grasslands_national_park"/>
          <p:cNvPicPr/>
          <p:nvPr/>
        </p:nvPicPr>
        <p:blipFill>
          <a:blip r:embed="rId1"/>
          <a:stretch/>
        </p:blipFill>
        <p:spPr>
          <a:xfrm>
            <a:off x="6510240" y="2813040"/>
            <a:ext cx="1800360" cy="279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800px-Grasslands-menggu"/>
          <p:cNvPicPr/>
          <p:nvPr/>
        </p:nvPicPr>
        <p:blipFill>
          <a:blip r:embed="rId2"/>
          <a:stretch/>
        </p:blipFill>
        <p:spPr>
          <a:xfrm>
            <a:off x="3122640" y="3209760"/>
            <a:ext cx="2763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Tundra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55° to 70° Nor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undra means barren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Ground is permanetly frozen 10” to 3 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verage temperature -18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ummer the sun never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orlds’ coldest/driest bi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anaktuvuk_scenery"/>
          <p:cNvPicPr/>
          <p:nvPr/>
        </p:nvPicPr>
        <p:blipFill>
          <a:blip r:embed="rId1"/>
          <a:stretch/>
        </p:blipFill>
        <p:spPr>
          <a:xfrm>
            <a:off x="5070600" y="4297320"/>
            <a:ext cx="3152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27440" y="414000"/>
            <a:ext cx="631656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Des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82560" y="1020240"/>
            <a:ext cx="6661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ere four specific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ojave Desert – the smallest, but where Death Valley can reach 134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Joshua Tree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hihuahuan Desert – found in Mexico, it gets 8-12 inches of rain per year.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               Century Plant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phnadde"/>
          <p:cNvPicPr/>
          <p:nvPr/>
        </p:nvPicPr>
        <p:blipFill>
          <a:blip r:embed="rId1"/>
          <a:stretch/>
        </p:blipFill>
        <p:spPr>
          <a:xfrm>
            <a:off x="316080" y="663480"/>
            <a:ext cx="2104920" cy="358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phjtwde"/>
          <p:cNvPicPr/>
          <p:nvPr/>
        </p:nvPicPr>
        <p:blipFill>
          <a:blip r:embed="rId2"/>
          <a:stretch/>
        </p:blipFill>
        <p:spPr>
          <a:xfrm>
            <a:off x="5448240" y="313704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century-plant-blossoms"/>
          <p:cNvPicPr/>
          <p:nvPr/>
        </p:nvPicPr>
        <p:blipFill>
          <a:blip r:embed="rId3"/>
          <a:stretch/>
        </p:blipFill>
        <p:spPr>
          <a:xfrm>
            <a:off x="8271000" y="4791240"/>
            <a:ext cx="6588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11080" y="30924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north-america"/>
          <p:cNvPicPr/>
          <p:nvPr/>
        </p:nvPicPr>
        <p:blipFill>
          <a:blip r:embed="rId1"/>
          <a:stretch/>
        </p:blipFill>
        <p:spPr>
          <a:xfrm>
            <a:off x="3479760" y="1558800"/>
            <a:ext cx="44607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world image"/>
          <p:cNvPicPr/>
          <p:nvPr/>
        </p:nvPicPr>
        <p:blipFill>
          <a:blip r:embed="rId1"/>
          <a:stretch/>
        </p:blipFill>
        <p:spPr>
          <a:xfrm>
            <a:off x="2335320" y="1816200"/>
            <a:ext cx="58197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2744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Unique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ighest peak is Denali, 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ugby, North Dak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enter poi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heartbeats_of_denali_L"/>
          <p:cNvPicPr/>
          <p:nvPr/>
        </p:nvPicPr>
        <p:blipFill>
          <a:blip r:embed="rId1"/>
          <a:stretch/>
        </p:blipFill>
        <p:spPr>
          <a:xfrm>
            <a:off x="3322800" y="2103480"/>
            <a:ext cx="2608200" cy="1749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1224_01_58---Rugby--North-Dakota--USA_web"/>
          <p:cNvPicPr/>
          <p:nvPr/>
        </p:nvPicPr>
        <p:blipFill>
          <a:blip r:embed="rId2"/>
          <a:stretch/>
        </p:blipFill>
        <p:spPr>
          <a:xfrm>
            <a:off x="6419880" y="4141800"/>
            <a:ext cx="14684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North America’s Siz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.8% of the earth’s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largest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largest i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north-america"/>
          <p:cNvPicPr/>
          <p:nvPr/>
        </p:nvPicPr>
        <p:blipFill>
          <a:blip r:embed="rId1"/>
          <a:stretch/>
        </p:blipFill>
        <p:spPr>
          <a:xfrm>
            <a:off x="2990880" y="1531800"/>
            <a:ext cx="482904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744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Bodies of 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6120" y="1531440"/>
            <a:ext cx="79502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lumbia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lorado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Rio Gra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issouri River - lo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ississippi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hio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issouri/Mississippi River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,879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Bodies_of_Water_6"/>
          <p:cNvPicPr/>
          <p:nvPr/>
        </p:nvPicPr>
        <p:blipFill>
          <a:blip r:embed="rId1"/>
          <a:stretch/>
        </p:blipFill>
        <p:spPr>
          <a:xfrm>
            <a:off x="4272120" y="1757520"/>
            <a:ext cx="4133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namerica_climate"/>
          <p:cNvPicPr/>
          <p:nvPr/>
        </p:nvPicPr>
        <p:blipFill>
          <a:blip r:embed="rId1"/>
          <a:stretch/>
        </p:blipFill>
        <p:spPr>
          <a:xfrm>
            <a:off x="2624040" y="1784520"/>
            <a:ext cx="651996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Coniferou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Fore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Upper area of 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ines, fir and spruce trees, produce cones which contains the s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all mountains have supported tree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old and stormy in the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ightening storms in the 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forestmt"/>
          <p:cNvPicPr/>
          <p:nvPr/>
        </p:nvPicPr>
        <p:blipFill>
          <a:blip r:embed="rId1"/>
          <a:stretch/>
        </p:blipFill>
        <p:spPr>
          <a:xfrm>
            <a:off x="4289400" y="4592520"/>
            <a:ext cx="30765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ciduou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ey are found 0 - 50° degrees north la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ormer glaciers from New England to Ind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oderate climate, 4 seasons and they get 2 - 4 feet of rain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rees are oaks, maples, beeches, hickories and a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121"/>
          <p:cNvPicPr/>
          <p:nvPr/>
        </p:nvPicPr>
        <p:blipFill>
          <a:blip r:embed="rId1"/>
          <a:stretch/>
        </p:blipFill>
        <p:spPr>
          <a:xfrm>
            <a:off x="6099120" y="4476600"/>
            <a:ext cx="20923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5:37:29Z</dcterms:created>
  <dc:creator>Rob</dc:creator>
  <dc:description/>
  <cp:keywords>North America the continent</cp:keywords>
  <dc:language>en-US</dc:language>
  <cp:lastModifiedBy>RomaK</cp:lastModifiedBy>
  <dcterms:modified xsi:type="dcterms:W3CDTF">2015-09-04T09:44:14Z</dcterms:modified>
  <cp:revision>7</cp:revision>
  <dc:subject/>
  <dc:title>North America the continent</dc:title>
</cp:coreProperties>
</file>