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F8B2-D83E-41AE-A5F0-BC07090D7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ADA-FEB7-4F9B-8FF7-4924EE1B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AB2-F4B6-485C-A263-1C155A3D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384-1C6B-4A77-A9C9-81CD7EB3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017-C0DC-4B99-BD06-2DB5B98E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1333-1050-4A98-8FC3-4189B894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24E-68A7-4B33-B828-E3EFA4C7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7213-0AF8-49E9-B2D3-5F34F78F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681B-3A0E-491E-B1BF-40F696F8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E61A-CEC2-4FEE-AA35-0D1A44CF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49D9-490A-4A3D-B539-3F5C1AA0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342E-AED1-4AE0-BD79-18CFF0BC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665-9BB7-4814-8C47-4EB4E9A9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2046-4A26-4822-8362-FE1425B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8A82-B700-492E-BCDD-21D0560A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202F-AC0B-4C91-9FAB-F6C5A952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4B04-82A0-4FB5-900C-F7B27207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53BB-7394-4066-AFD6-5928B436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627-F741-4BC6-B76D-44214B7A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77D-3C61-419D-8541-261A8BDE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C55-BE58-453B-9AC1-68DB3EA4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8D6-0F9D-4C1E-BC2F-E51F6B88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3D4-715E-498B-9732-1093A62B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5DA-FCC9-40DC-A1EC-899899A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A13-EA4E-43A8-929A-D85E5AC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709B-3144-46AD-96C3-65092FD68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69C3-4801-4981-9421-157E68B88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</a:t>
            </a:r>
            <a:br>
              <a:rPr sz="48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he Continent Series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editerranea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t, dry summers, mild, wet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nly found in 5 places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alifornia, Northern Baj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asin of the Mediterrane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uthwester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estern cape of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ral Cost o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alifornia Coast"/>
          <p:cNvPicPr/>
          <p:nvPr/>
        </p:nvPicPr>
        <p:blipFill>
          <a:blip r:embed="rId1"/>
          <a:stretch/>
        </p:blipFill>
        <p:spPr>
          <a:xfrm>
            <a:off x="3951360" y="4754520"/>
            <a:ext cx="34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regon to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50 speci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5 tre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Olympic%20National%20Park2"/>
          <p:cNvPicPr/>
          <p:nvPr/>
        </p:nvPicPr>
        <p:blipFill>
          <a:blip r:embed="rId1"/>
          <a:stretch/>
        </p:blipFill>
        <p:spPr>
          <a:xfrm>
            <a:off x="6618240" y="3184560"/>
            <a:ext cx="22384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as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-3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emperatures 10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inter temperatures 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rasslands_national_park"/>
          <p:cNvPicPr/>
          <p:nvPr/>
        </p:nvPicPr>
        <p:blipFill>
          <a:blip r:embed="rId1"/>
          <a:stretch/>
        </p:blipFill>
        <p:spPr>
          <a:xfrm>
            <a:off x="6510240" y="2813040"/>
            <a:ext cx="1800360" cy="27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800px-Grasslands-menggu"/>
          <p:cNvPicPr/>
          <p:nvPr/>
        </p:nvPicPr>
        <p:blipFill>
          <a:blip r:embed="rId2"/>
          <a:stretch/>
        </p:blipFill>
        <p:spPr>
          <a:xfrm>
            <a:off x="3122640" y="3209760"/>
            <a:ext cx="2763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Tundra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° to 70° No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undra means barre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ound is permanetly frozen 10” to 3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erage temperature -18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he sun never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lds’ coldest/driest 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aktuvuk_scenery"/>
          <p:cNvPicPr/>
          <p:nvPr/>
        </p:nvPicPr>
        <p:blipFill>
          <a:blip r:embed="rId1"/>
          <a:stretch/>
        </p:blipFill>
        <p:spPr>
          <a:xfrm>
            <a:off x="5070600" y="4297320"/>
            <a:ext cx="315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7440" y="414000"/>
            <a:ext cx="63165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82560" y="1020240"/>
            <a:ext cx="6661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re four specific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jave Desert – the smallest, but where Death Valley can reach 13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Joshua Tree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hihuahuan Desert – found in Mexico, it gets 8-12 inches of rain per year.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Century Plan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hnadde"/>
          <p:cNvPicPr/>
          <p:nvPr/>
        </p:nvPicPr>
        <p:blipFill>
          <a:blip r:embed="rId1"/>
          <a:stretch/>
        </p:blipFill>
        <p:spPr>
          <a:xfrm>
            <a:off x="316080" y="663480"/>
            <a:ext cx="210492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hjtwde"/>
          <p:cNvPicPr/>
          <p:nvPr/>
        </p:nvPicPr>
        <p:blipFill>
          <a:blip r:embed="rId2"/>
          <a:stretch/>
        </p:blipFill>
        <p:spPr>
          <a:xfrm>
            <a:off x="5448240" y="31370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entury-plant-blossoms"/>
          <p:cNvPicPr/>
          <p:nvPr/>
        </p:nvPicPr>
        <p:blipFill>
          <a:blip r:embed="rId3"/>
          <a:stretch/>
        </p:blipFill>
        <p:spPr>
          <a:xfrm>
            <a:off x="8271000" y="4791240"/>
            <a:ext cx="658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11080" y="3092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north-america"/>
          <p:cNvPicPr/>
          <p:nvPr/>
        </p:nvPicPr>
        <p:blipFill>
          <a:blip r:embed="rId1"/>
          <a:stretch/>
        </p:blipFill>
        <p:spPr>
          <a:xfrm>
            <a:off x="3479760" y="1558800"/>
            <a:ext cx="4460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world image"/>
          <p:cNvPicPr/>
          <p:nvPr/>
        </p:nvPicPr>
        <p:blipFill>
          <a:blip r:embed="rId1"/>
          <a:stretch/>
        </p:blipFill>
        <p:spPr>
          <a:xfrm>
            <a:off x="2335320" y="181620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ighest peak is Denali,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ugby, North Dak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er poi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eartbeats_of_denali_L"/>
          <p:cNvPicPr/>
          <p:nvPr/>
        </p:nvPicPr>
        <p:blipFill>
          <a:blip r:embed="rId1"/>
          <a:stretch/>
        </p:blipFill>
        <p:spPr>
          <a:xfrm>
            <a:off x="3322800" y="2103480"/>
            <a:ext cx="2608200" cy="174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24_01_58---Rugby--North-Dakota--USA_web"/>
          <p:cNvPicPr/>
          <p:nvPr/>
        </p:nvPicPr>
        <p:blipFill>
          <a:blip r:embed="rId2"/>
          <a:stretch/>
        </p:blipFill>
        <p:spPr>
          <a:xfrm>
            <a:off x="6419880" y="4141800"/>
            <a:ext cx="1468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’s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.8% of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i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orth-america"/>
          <p:cNvPicPr/>
          <p:nvPr/>
        </p:nvPicPr>
        <p:blipFill>
          <a:blip r:embed="rId1"/>
          <a:stretch/>
        </p:blipFill>
        <p:spPr>
          <a:xfrm>
            <a:off x="2990880" y="1531800"/>
            <a:ext cx="48290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odies of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6120" y="1531440"/>
            <a:ext cx="7950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umbi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orad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io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issouri River -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ississippi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issouri/Mississippi Riv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,879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dies_of_Water_6"/>
          <p:cNvPicPr/>
          <p:nvPr/>
        </p:nvPicPr>
        <p:blipFill>
          <a:blip r:embed="rId1"/>
          <a:stretch/>
        </p:blipFill>
        <p:spPr>
          <a:xfrm>
            <a:off x="4272120" y="1757520"/>
            <a:ext cx="413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namerica_climate"/>
          <p:cNvPicPr/>
          <p:nvPr/>
        </p:nvPicPr>
        <p:blipFill>
          <a:blip r:embed="rId1"/>
          <a:stretch/>
        </p:blipFill>
        <p:spPr>
          <a:xfrm>
            <a:off x="2624040" y="1784520"/>
            <a:ext cx="65199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Coniferou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pper area of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ines, fir and spruce trees, produce cones which contains the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ll mountains have supported tre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ld and stormy in the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ightening storms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forestmt"/>
          <p:cNvPicPr/>
          <p:nvPr/>
        </p:nvPicPr>
        <p:blipFill>
          <a:blip r:embed="rId1"/>
          <a:stretch/>
        </p:blipFill>
        <p:spPr>
          <a:xfrm>
            <a:off x="4289400" y="4592520"/>
            <a:ext cx="3076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ciduo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y are found 0 - 50° degrees north 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ormer glaciers from New England to In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derate climate, 4 seasons and they get 2 - 4 feet of rain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ees are oaks, maples, beeches, hickories and 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21"/>
          <p:cNvPicPr/>
          <p:nvPr/>
        </p:nvPicPr>
        <p:blipFill>
          <a:blip r:embed="rId1"/>
          <a:stretch/>
        </p:blipFill>
        <p:spPr>
          <a:xfrm>
            <a:off x="6099120" y="4476600"/>
            <a:ext cx="2092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5:37:29Z</dcterms:created>
  <dc:creator>Rob</dc:creator>
  <dc:description/>
  <cp:keywords>North America the continent</cp:keywords>
  <dc:language>en-US</dc:language>
  <cp:lastModifiedBy>RomaK</cp:lastModifiedBy>
  <dcterms:modified xsi:type="dcterms:W3CDTF">2015-09-04T09:44:14Z</dcterms:modified>
  <cp:revision>7</cp:revision>
  <dc:subject/>
  <dc:title>North America the continent</dc:title>
</cp:coreProperties>
</file>