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314E-5BC1-4D37-8536-259F5E751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C44-3B63-459D-8091-F2DC3DA4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22F-935A-4372-9A3F-5E3247C6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7D5-4E33-444F-AB40-4A8AA57D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47A-F0E4-47DF-83ED-1A3C5919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B04D-DF74-4F1B-8BC6-35145C09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C84F-3F52-4B76-B8AF-39E7732F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2737-BF90-4976-8318-0AB9188F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5409-93A7-45C3-82C9-85AF9124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2109-82DC-4286-90E7-F90CAC75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D2F5-43AB-489E-90B1-D0A01B7B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AC09-CF75-486A-9E92-E19F4239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190-A229-487D-80EF-EC2B64F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8D66-4322-4BA6-B0D5-FA381DD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4893-8B4A-400A-BC2B-B41FF43A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42E6-862C-413B-9998-40CFA04B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A305-6760-4CDD-862E-523D3CA2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EBAA-915A-4ABB-AD2E-4C795587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C48-A316-4316-8EBA-67EA582A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062-B8B7-47F4-A754-5033EC20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198-91AB-4FE3-B843-CE84488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EF8-DD0A-4EBD-A26C-E2C8E378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79E-AEC5-450D-BC00-87F007FB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84F-680B-4F24-A1FD-FB423FED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08D-813D-4982-A74A-EAAAA8A5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F20D-6BF1-4131-93C4-F9F085DAC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5339-4AB6-4175-94FD-44DDA760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</a:t>
            </a:r>
            <a:br>
              <a:rPr sz="48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he Continent Series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editerranea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t, dry summers, mild, wet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nly found in 5 places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alifornia, Northern Baj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asin of the Mediterrane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uthwester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estern cape of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ral Cost o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alifornia Coast"/>
          <p:cNvPicPr/>
          <p:nvPr/>
        </p:nvPicPr>
        <p:blipFill>
          <a:blip r:embed="rId1"/>
          <a:stretch/>
        </p:blipFill>
        <p:spPr>
          <a:xfrm>
            <a:off x="3951360" y="4754520"/>
            <a:ext cx="34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regon to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50 speci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5 tre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Olympic%20National%20Park2"/>
          <p:cNvPicPr/>
          <p:nvPr/>
        </p:nvPicPr>
        <p:blipFill>
          <a:blip r:embed="rId1"/>
          <a:stretch/>
        </p:blipFill>
        <p:spPr>
          <a:xfrm>
            <a:off x="6618240" y="3184560"/>
            <a:ext cx="22384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as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-3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emperatures 10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inter temperatures 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rasslands_national_park"/>
          <p:cNvPicPr/>
          <p:nvPr/>
        </p:nvPicPr>
        <p:blipFill>
          <a:blip r:embed="rId1"/>
          <a:stretch/>
        </p:blipFill>
        <p:spPr>
          <a:xfrm>
            <a:off x="6510240" y="2813040"/>
            <a:ext cx="1800360" cy="27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800px-Grasslands-menggu"/>
          <p:cNvPicPr/>
          <p:nvPr/>
        </p:nvPicPr>
        <p:blipFill>
          <a:blip r:embed="rId2"/>
          <a:stretch/>
        </p:blipFill>
        <p:spPr>
          <a:xfrm>
            <a:off x="3122640" y="3209760"/>
            <a:ext cx="2763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Tundra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° to 70° No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undra means barre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ound is permanetly frozen 10” to 3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erage temperature -18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he sun never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lds’ coldest/driest 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aktuvuk_scenery"/>
          <p:cNvPicPr/>
          <p:nvPr/>
        </p:nvPicPr>
        <p:blipFill>
          <a:blip r:embed="rId1"/>
          <a:stretch/>
        </p:blipFill>
        <p:spPr>
          <a:xfrm>
            <a:off x="5070600" y="4297320"/>
            <a:ext cx="315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7440" y="414000"/>
            <a:ext cx="63165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82560" y="1020240"/>
            <a:ext cx="6661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re four specific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jave Desert – the smallest, but where Death Valley can reach 13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Joshua Tree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hihuahuan Desert – found in Mexico, it gets 8-12 inches of rain per year.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Century Plan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hnadde"/>
          <p:cNvPicPr/>
          <p:nvPr/>
        </p:nvPicPr>
        <p:blipFill>
          <a:blip r:embed="rId1"/>
          <a:stretch/>
        </p:blipFill>
        <p:spPr>
          <a:xfrm>
            <a:off x="316080" y="663480"/>
            <a:ext cx="210492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hjtwde"/>
          <p:cNvPicPr/>
          <p:nvPr/>
        </p:nvPicPr>
        <p:blipFill>
          <a:blip r:embed="rId2"/>
          <a:stretch/>
        </p:blipFill>
        <p:spPr>
          <a:xfrm>
            <a:off x="5448240" y="31370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entury-plant-blossoms"/>
          <p:cNvPicPr/>
          <p:nvPr/>
        </p:nvPicPr>
        <p:blipFill>
          <a:blip r:embed="rId3"/>
          <a:stretch/>
        </p:blipFill>
        <p:spPr>
          <a:xfrm>
            <a:off x="8271000" y="4791240"/>
            <a:ext cx="658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11080" y="3092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north-america"/>
          <p:cNvPicPr/>
          <p:nvPr/>
        </p:nvPicPr>
        <p:blipFill>
          <a:blip r:embed="rId1"/>
          <a:stretch/>
        </p:blipFill>
        <p:spPr>
          <a:xfrm>
            <a:off x="3479760" y="1558800"/>
            <a:ext cx="4460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world image"/>
          <p:cNvPicPr/>
          <p:nvPr/>
        </p:nvPicPr>
        <p:blipFill>
          <a:blip r:embed="rId1"/>
          <a:stretch/>
        </p:blipFill>
        <p:spPr>
          <a:xfrm>
            <a:off x="2335320" y="181620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ighest peak is Denali,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ugby, North Dak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er poi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eartbeats_of_denali_L"/>
          <p:cNvPicPr/>
          <p:nvPr/>
        </p:nvPicPr>
        <p:blipFill>
          <a:blip r:embed="rId1"/>
          <a:stretch/>
        </p:blipFill>
        <p:spPr>
          <a:xfrm>
            <a:off x="3322800" y="2103480"/>
            <a:ext cx="2608200" cy="174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24_01_58---Rugby--North-Dakota--USA_web"/>
          <p:cNvPicPr/>
          <p:nvPr/>
        </p:nvPicPr>
        <p:blipFill>
          <a:blip r:embed="rId2"/>
          <a:stretch/>
        </p:blipFill>
        <p:spPr>
          <a:xfrm>
            <a:off x="6419880" y="4141800"/>
            <a:ext cx="1468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’s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.8% of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i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orth-america"/>
          <p:cNvPicPr/>
          <p:nvPr/>
        </p:nvPicPr>
        <p:blipFill>
          <a:blip r:embed="rId1"/>
          <a:stretch/>
        </p:blipFill>
        <p:spPr>
          <a:xfrm>
            <a:off x="2990880" y="1531800"/>
            <a:ext cx="48290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odies of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6120" y="1531440"/>
            <a:ext cx="7950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umbi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orad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io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issouri River -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ississippi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issouri/Mississippi Riv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,879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dies_of_Water_6"/>
          <p:cNvPicPr/>
          <p:nvPr/>
        </p:nvPicPr>
        <p:blipFill>
          <a:blip r:embed="rId1"/>
          <a:stretch/>
        </p:blipFill>
        <p:spPr>
          <a:xfrm>
            <a:off x="4272120" y="1757520"/>
            <a:ext cx="413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namerica_climate"/>
          <p:cNvPicPr/>
          <p:nvPr/>
        </p:nvPicPr>
        <p:blipFill>
          <a:blip r:embed="rId1"/>
          <a:stretch/>
        </p:blipFill>
        <p:spPr>
          <a:xfrm>
            <a:off x="2624040" y="1784520"/>
            <a:ext cx="65199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Coniferou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pper area of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ines, fir and spruce trees, produce cones which contains the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ll mountains have supported tre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ld and stormy in the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ightening storms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forestmt"/>
          <p:cNvPicPr/>
          <p:nvPr/>
        </p:nvPicPr>
        <p:blipFill>
          <a:blip r:embed="rId1"/>
          <a:stretch/>
        </p:blipFill>
        <p:spPr>
          <a:xfrm>
            <a:off x="4289400" y="4592520"/>
            <a:ext cx="3076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ciduo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y are found 0 - 50° degrees north 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ormer glaciers from New England to In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derate climate, 4 seasons and they get 2 - 4 feet of rain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ees are oaks, maples, beeches, hickories and 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21"/>
          <p:cNvPicPr/>
          <p:nvPr/>
        </p:nvPicPr>
        <p:blipFill>
          <a:blip r:embed="rId1"/>
          <a:stretch/>
        </p:blipFill>
        <p:spPr>
          <a:xfrm>
            <a:off x="6099120" y="4476600"/>
            <a:ext cx="2092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5:37:29Z</dcterms:created>
  <dc:creator>Rob</dc:creator>
  <dc:description/>
  <cp:keywords>North America the continent</cp:keywords>
  <dc:language>en-US</dc:language>
  <cp:lastModifiedBy>RomaK</cp:lastModifiedBy>
  <dcterms:modified xsi:type="dcterms:W3CDTF">2015-09-04T09:44:14Z</dcterms:modified>
  <cp:revision>7</cp:revision>
  <dc:subject/>
  <dc:title>North America the continent</dc:title>
</cp:coreProperties>
</file>