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jpeg" ContentType="image/jpeg"/>
  <Override PartName="/ppt/media/image24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30400" y="690120"/>
            <a:ext cx="45972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E66-7035-49A7-91D5-69581A6055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tr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rection a streams is flowing is shown on a topographic map by the way a contour line crosses the str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ams are shown as a blue line on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ntour lines cross a stream it looks like an upside down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the V 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stream. It opens in the                         direction the water is flo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Depression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contours show areas of lower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n like contour lines with marks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chure marks- tick marks on inside of closed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H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s are represented on a topographic map by a series of concentric contour lines in a rough circ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ly spaced contour lines represent steep slo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paced contour lines represent gentle slop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Bench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enchmark is a place where exact elevation is kn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by a B.M. o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BM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s on a topographic map are symbolic of different map fea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=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= fore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wn = contour 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= cultural features (buildings, place names, boundary lines, roads, etc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= principal ro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k = urban a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 scale indicates your distance along the ground, or the amount of ground covered by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GS- United States Geologic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- 1:24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n the map is equal to 24,000 units of the same size on the 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1 inch on the map = 24000 inches on Ear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fter converting 1 inch = 200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scale-indicated by a line or bar with distances marked in miles, feet, or kilom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Map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opographic profile is a cross-sectional view along a line drawn through a portion of a topographic map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like taking a slice out of a portion of the Earth and looking at it from the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ap?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representation of something (Earth, stars, solar system, a building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Ma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where you are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t as a model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locate variou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stribution of various features or types of mater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North and South of the Equ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parallel to each other running west to ea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of Latitude and Longitu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degrees East or West of the prime meridi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drawn running North and Sou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y of the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relief using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- highs and lows of Earth’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ef can be calcu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difference between the highest point and the lo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Mountain peak 20 m. lake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- 10m=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lief of this area is 1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Contour 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s on topographic ma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 points of equal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hing connected to that line has the same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- the distance something is above sea level. Sea level= 0m or 0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 Contour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our interval- gives the difference in elevation between 2 contour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indicator of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n on maps as C.I.= 10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count contour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I.= 1000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ill look on a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737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7200" cy="34498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a topographic map- Index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ndex contour is a contour line that is accentuated in thickness and is labeled with the appropriate measure of elev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x contours occur every fifth contou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map user read elevations on a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arrows indicate location of index contou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C02-3CBF-4562-A6A8-F60263A3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D6E-00B5-4596-A41C-7219C63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9C44-F85C-44A6-AE37-64A98B6C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AF0-F9AC-4073-8C66-DF6DB274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2784-7B02-4F1B-9A27-FC42B5A5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859D-0597-4984-931A-58A5F1F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A86E4-80C7-4B9D-B21E-9190A02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330B-F4E0-4ADB-AF39-C4EB47A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560-6B83-4C9B-8D84-62B44E08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A276-075C-49CA-A8F4-5347D390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9AC9-0A6A-4E0B-843F-4E7D35E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247-263D-4FA1-8060-71187F1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30BE-3D14-4943-87E9-D601435D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BCE6-D45C-4B98-BF76-E36A5FAC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A6DD-7098-4F3F-8386-B14040B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0AE1-33F3-4826-9091-B046C7E2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6F80-02F2-4944-AF7B-0BCB8FDB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90D-D930-4189-9789-96043C25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116C-5AF5-4FF3-887E-98EF6698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704-CAA1-4FEF-AA44-9A5FB7D1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6ED-9E23-49DD-A4A8-0253ADDD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BF71-836A-4A72-9431-65595AC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33E5-DD9D-483E-8A1E-5DB66EB4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FED-31F6-4A89-8726-33E455DF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245-9961-4217-ADD0-8D893DC2E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23EC-8543-48AF-B713-05C502C9DC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pp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tream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rection a streams is flowing is shown on a topographic map by the way a contour line crosses the stre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ams are shown as a blue line on ma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contour lines cross a stream it looks like an upside down V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oint in the V poi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stream. It opens in the                         direction the water is flow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5" descr="187244"/>
          <p:cNvPicPr/>
          <p:nvPr/>
        </p:nvPicPr>
        <p:blipFill>
          <a:blip r:embed="rId1"/>
          <a:stretch/>
        </p:blipFill>
        <p:spPr>
          <a:xfrm>
            <a:off x="4876920" y="3886200"/>
            <a:ext cx="7588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topo-example"/>
          <p:cNvPicPr/>
          <p:nvPr/>
        </p:nvPicPr>
        <p:blipFill>
          <a:blip r:embed="rId2"/>
          <a:stretch/>
        </p:blipFill>
        <p:spPr>
          <a:xfrm>
            <a:off x="5334120" y="4676760"/>
            <a:ext cx="3429000" cy="2181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image_f_stream"/>
          <p:cNvPicPr/>
          <p:nvPr/>
        </p:nvPicPr>
        <p:blipFill>
          <a:blip r:embed="rId3"/>
          <a:stretch/>
        </p:blipFill>
        <p:spPr>
          <a:xfrm>
            <a:off x="6162840" y="762120"/>
            <a:ext cx="2981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Depression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contours show areas of lower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wn like contour lines with marks on the insid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hure marks- tick marks on inside of closed circ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ont_3"/>
          <p:cNvPicPr/>
          <p:nvPr/>
        </p:nvPicPr>
        <p:blipFill>
          <a:blip r:embed="rId1"/>
          <a:stretch/>
        </p:blipFill>
        <p:spPr>
          <a:xfrm>
            <a:off x="3276720" y="5133960"/>
            <a:ext cx="2381040" cy="1724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epression1"/>
          <p:cNvPicPr/>
          <p:nvPr/>
        </p:nvPicPr>
        <p:blipFill>
          <a:blip r:embed="rId2"/>
          <a:stretch/>
        </p:blipFill>
        <p:spPr>
          <a:xfrm>
            <a:off x="5772240" y="1143000"/>
            <a:ext cx="3371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Hil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lls are represented on a topographic map by a series of concentric contour lines in a rough circ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5" descr="hillmap"/>
          <p:cNvPicPr/>
          <p:nvPr/>
        </p:nvPicPr>
        <p:blipFill>
          <a:blip r:embed="rId1"/>
          <a:stretch/>
        </p:blipFill>
        <p:spPr>
          <a:xfrm>
            <a:off x="3048120" y="1828800"/>
            <a:ext cx="4149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Slop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ly spaced contour lines represent steep slop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ly spaced contour lines represent gentle slop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a0133"/>
          <p:cNvPicPr/>
          <p:nvPr/>
        </p:nvPicPr>
        <p:blipFill>
          <a:blip r:embed="rId1"/>
          <a:stretch/>
        </p:blipFill>
        <p:spPr>
          <a:xfrm>
            <a:off x="3124080" y="2514600"/>
            <a:ext cx="391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Benchmark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benchmark is a place where exact elevation is know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by a B.M. on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BM 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benchmark"/>
          <p:cNvPicPr/>
          <p:nvPr/>
        </p:nvPicPr>
        <p:blipFill>
          <a:blip r:embed="rId1"/>
          <a:stretch/>
        </p:blipFill>
        <p:spPr>
          <a:xfrm>
            <a:off x="914400" y="3954600"/>
            <a:ext cx="3352680" cy="2141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benchmark_image"/>
          <p:cNvPicPr/>
          <p:nvPr/>
        </p:nvPicPr>
        <p:blipFill>
          <a:blip r:embed="rId2"/>
          <a:stretch/>
        </p:blipFill>
        <p:spPr>
          <a:xfrm>
            <a:off x="5334120" y="2819520"/>
            <a:ext cx="38098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lo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lors on a topographic map are symbolic of different map featu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ue = wat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= fore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wn = contour li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 = cultural features (buildings, place names, boundary lines, road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= principal roa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nk = urban are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rple = revisions to an older map, compiled from aerial photos. If an area has become urbanized, this may be shown as purple shading on the new, revised map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943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scale indicates your distance along the ground, or the amount of ground covered by the m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GS- United States Geologic Surv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tio- 1:240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unit on the map is equal to 24,000 units of the same size on the groun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:1 inch on the map = 24000 inches on Earth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r after converting 1 inch = 2000f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r scale-indicated by a line or bar with distances marked in miles, feet, or kilomet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9" descr="image39"/>
          <p:cNvPicPr/>
          <p:nvPr/>
        </p:nvPicPr>
        <p:blipFill>
          <a:blip r:embed="rId1"/>
          <a:stretch/>
        </p:blipFill>
        <p:spPr>
          <a:xfrm>
            <a:off x="5791320" y="5610240"/>
            <a:ext cx="3352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Map Scal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4" descr="scaler"/>
          <p:cNvPicPr/>
          <p:nvPr/>
        </p:nvPicPr>
        <p:blipFill>
          <a:blip r:embed="rId1"/>
          <a:stretch/>
        </p:blipFill>
        <p:spPr>
          <a:xfrm>
            <a:off x="1981080" y="1236600"/>
            <a:ext cx="632484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Profi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topographic profile is a cross-sectional view along a line drawn through a portion of a topographic map.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like taking a slice out of a portion of the Earth and looking at it from the sid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5" descr="mapsshow_topo1"/>
          <p:cNvPicPr/>
          <p:nvPr/>
        </p:nvPicPr>
        <p:blipFill>
          <a:blip r:embed="rId1"/>
          <a:stretch/>
        </p:blipFill>
        <p:spPr>
          <a:xfrm>
            <a:off x="6114960" y="3638520"/>
            <a:ext cx="3029040" cy="3219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tic"/>
          <p:cNvPicPr/>
          <p:nvPr/>
        </p:nvPicPr>
        <p:blipFill>
          <a:blip r:embed="rId2"/>
          <a:stretch/>
        </p:blipFill>
        <p:spPr>
          <a:xfrm>
            <a:off x="228600" y="3581280"/>
            <a:ext cx="2752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0" name="Reading_Contour_Lines_and_Mapmaking_from_Models_256k.asx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a map?  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a representation of something (Earth, stars, solar system, a building, etc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cc_map"/>
          <p:cNvPicPr/>
          <p:nvPr/>
        </p:nvPicPr>
        <p:blipFill>
          <a:blip r:embed="rId1"/>
          <a:stretch/>
        </p:blipFill>
        <p:spPr>
          <a:xfrm>
            <a:off x="5533920" y="685800"/>
            <a:ext cx="3610080" cy="513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onstellation2"/>
          <p:cNvPicPr/>
          <p:nvPr/>
        </p:nvPicPr>
        <p:blipFill>
          <a:blip r:embed="rId2"/>
          <a:stretch/>
        </p:blipFill>
        <p:spPr>
          <a:xfrm>
            <a:off x="228600" y="3886200"/>
            <a:ext cx="2297160" cy="29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national_forecast"/>
          <p:cNvPicPr/>
          <p:nvPr/>
        </p:nvPicPr>
        <p:blipFill>
          <a:blip r:embed="rId3"/>
          <a:stretch/>
        </p:blipFill>
        <p:spPr>
          <a:xfrm>
            <a:off x="2286000" y="4175280"/>
            <a:ext cx="33526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ses of Map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determine where you are go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act as a model of Earth’s surfa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to locate various pla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show the distribution of various features or types of materi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North and South of the Equat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parallel to each other running west to ea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2" descr="601latitude"/>
          <p:cNvPicPr/>
          <p:nvPr/>
        </p:nvPicPr>
        <p:blipFill>
          <a:blip r:embed="rId1"/>
          <a:stretch/>
        </p:blipFill>
        <p:spPr>
          <a:xfrm>
            <a:off x="5181480" y="3200400"/>
            <a:ext cx="36165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latitude2"/>
          <p:cNvPicPr/>
          <p:nvPr/>
        </p:nvPicPr>
        <p:blipFill>
          <a:blip r:embed="rId2"/>
          <a:stretch/>
        </p:blipFill>
        <p:spPr>
          <a:xfrm>
            <a:off x="304920" y="3641760"/>
            <a:ext cx="464796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ick Review of Latitude and Longitude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6248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it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d in degrees East or West of the prime meridi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s drawn running North and South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longitude_lines"/>
          <p:cNvPicPr/>
          <p:nvPr/>
        </p:nvPicPr>
        <p:blipFill>
          <a:blip r:embed="rId1"/>
          <a:stretch/>
        </p:blipFill>
        <p:spPr>
          <a:xfrm>
            <a:off x="2666880" y="3352680"/>
            <a:ext cx="2519640" cy="3229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longitude"/>
          <p:cNvPicPr/>
          <p:nvPr/>
        </p:nvPicPr>
        <p:blipFill>
          <a:blip r:embed="rId2"/>
          <a:stretch/>
        </p:blipFill>
        <p:spPr>
          <a:xfrm>
            <a:off x="6248520" y="2209680"/>
            <a:ext cx="28018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p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y of the 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s relief using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- highs and lows of Earth’s surf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ef can be calcul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ke the difference between the highest point and the lowe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: Mountain peak 20 m. lake 10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0m- 10m=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elief of this area is 10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Contour Lines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es on topographic map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nect points of equal ele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ything connected to that line has the same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vation- the distance something is above sea level. Sea level= 0m or 0f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conpackb"/>
          <p:cNvPicPr/>
          <p:nvPr/>
        </p:nvPicPr>
        <p:blipFill>
          <a:blip r:embed="rId1"/>
          <a:stretch/>
        </p:blipFill>
        <p:spPr>
          <a:xfrm>
            <a:off x="1523880" y="40384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topographic-map"/>
          <p:cNvPicPr/>
          <p:nvPr/>
        </p:nvPicPr>
        <p:blipFill>
          <a:blip r:embed="rId2"/>
          <a:stretch/>
        </p:blipFill>
        <p:spPr>
          <a:xfrm>
            <a:off x="5410080" y="3870360"/>
            <a:ext cx="37339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 Contour Interv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our interval- gives the difference in elevation between 2 contour li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indicator of heigh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n on maps as C.I.= 10f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count contour lin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contour_interval"/>
          <p:cNvPicPr/>
          <p:nvPr/>
        </p:nvPicPr>
        <p:blipFill>
          <a:blip r:embed="rId1"/>
          <a:stretch/>
        </p:blipFill>
        <p:spPr>
          <a:xfrm>
            <a:off x="5791320" y="3657600"/>
            <a:ext cx="3352680" cy="1811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figure11"/>
          <p:cNvPicPr/>
          <p:nvPr/>
        </p:nvPicPr>
        <p:blipFill>
          <a:blip r:embed="rId2"/>
          <a:stretch/>
        </p:blipFill>
        <p:spPr>
          <a:xfrm>
            <a:off x="0" y="4203720"/>
            <a:ext cx="4267080" cy="2654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4267080" y="6095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.I.= 1000f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095880" y="54864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it will look on a ma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ading a topographic map- Index Contour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index contour is a contour line that is accentuated in thickness and is labeled with the appropriate measure of elev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x contours occur every fifth contour l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 the map user read elevations on a ma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ndex2"/>
          <p:cNvPicPr/>
          <p:nvPr/>
        </p:nvPicPr>
        <p:blipFill>
          <a:blip r:embed="rId1"/>
          <a:stretch/>
        </p:blipFill>
        <p:spPr>
          <a:xfrm>
            <a:off x="457200" y="3411360"/>
            <a:ext cx="3809880" cy="3160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ndex"/>
          <p:cNvPicPr/>
          <p:nvPr/>
        </p:nvPicPr>
        <p:blipFill>
          <a:blip r:embed="rId2"/>
          <a:stretch/>
        </p:blipFill>
        <p:spPr>
          <a:xfrm>
            <a:off x="5867280" y="3276720"/>
            <a:ext cx="3276720" cy="3024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343400" y="62485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d arrows indicate location of index contou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5:09:35Z</dcterms:created>
  <dc:creator>SCS</dc:creator>
  <dc:description/>
  <dc:language>en-US</dc:language>
  <cp:lastModifiedBy>RomaK</cp:lastModifiedBy>
  <dcterms:modified xsi:type="dcterms:W3CDTF">2015-09-04T09:43:49Z</dcterms:modified>
  <cp:revision>24</cp:revision>
  <dc:subject/>
  <dc:title>Mapping</dc:title>
</cp:coreProperties>
</file>