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3.jpeg" ContentType="image/jpeg"/>
  <Override PartName="/ppt/media/image24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30400" y="690120"/>
            <a:ext cx="45972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8693-2168-4BDF-BE47-2B646405DB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Strea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irection a streams is flowing is shown on a topographic map by the way a contour line crosses the stre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eams are shown as a blue line on map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contour lines cross a stream it looks like an upside down V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oint in the V poin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stream. It opens in the                         direction the water is flow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Str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rection a streams is flowing is shown on a topographic map by the way a contour line crosses the 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ms are shown as a blue line on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ntour lines cross a stream it looks like an upside down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n the V 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stream. It opens in the                         direction the water is fl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Depression Cont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ion contours show areas of lower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n like contour lines with marks on the insid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hure marks- tick marks on inside of closed circ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Depression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contours show areas of lower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n like contour lines with marks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hure marks- tick marks on inside of closed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Hi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lls are represented on a topographic map by a series of concentric contour lines in a rough circl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H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ls are represented on a topographic map by a series of concentric contour lines in a rough circ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Sl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ly spaced contour lines represent steep slop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dely spaced contour lines represent gentle slop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ly spaced contour lines represent steep sl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spaced contour lines represent gentle slop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Benchmark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enchmark is a place where exact elevation is know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n by a B.M. on m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BM 6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Bench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enchmark is a place where exact elevation is kn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by a B.M. on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BM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Col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lors on a topographic map are symbolic of different map featur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ue = wate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= fore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= contour lin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 = cultural features (buildings, place names, boundary lines, roads, etc.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= principal road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nk = urban are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s on a topographic map are symbolic of different map fe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=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= for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= contour 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= cultural features (buildings, place names, boundary lines, roads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= principal ro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k = urban are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p scale indicates your distance along the ground, or the amount of ground covered by the ma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GS- United States Geologic Surv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io- 1:24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unit on the map is equal to 24,000 units of the same size on the grou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1 inch on the map = 24000 inches on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after converting 1 inch = 2000f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 scale-indicated by a line or bar with distances marked in miles, feet, or kilome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scale indicates your distance along the ground, or the amount of ground covered by the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GS- United States Geologic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- 1:2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unit on the map is equal to 24,000 units of the same size o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1 inch on the map = 24000 inches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fter converting 1 inch = 2000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scale-indicated by a line or bar with distances marked in miles, feet, or kil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Profi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opographic profile is a cross-sectional view along a line drawn through a portion of a topographic map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like taking a slice out of a portion of the Earth and looking at it from the sid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pographic profile is a cross-sectional view along a line drawn through a portion of a topographic map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like taking a slice out of a portion of the Earth and looking at it from th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map?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 representation of something (Earth, stars, solar system, a building, etc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map?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representation of something (Earth, stars, solar system, a building,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of Map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determine where you are go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act as a model of Earth’s surf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to locate various pla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how the distribution of various features or types of materia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Ma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re you are 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t as a model of Earth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locate variou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how the distribution of various features or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 of Latitude and Long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t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degrees North and South of the Equa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drawn parallel to each other running west to ea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of Latitude and 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degrees North and South of the Equ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drawn parallel to each other running west to ea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 of Latitude and Longitud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degrees East or West of the prime meridia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drawn running North and Sou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of Latitude and Longitu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degrees East or West of the prime meridi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drawn running North and S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ay of the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s relief using contour li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ef- highs and lows of Earth’s surf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ef can be calcul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the difference between the highest point and the lowe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Mountain peak 20 m. lake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m- 10m=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lief of this area is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y of the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relief using contour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- highs and lows of Earth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 can be calcu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difference between the highest point and the lo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Mountain peak 20 m. lake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- 10m=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ief of this area is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Contour Lin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on topographic map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ect points of equal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connected to that line has the same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vation- the distance something is above sea level. Sea level= 0m or 0f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Contour 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on topographic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points of equal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connected to that line has the same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- the distance something is above sea level. Sea level= 0m or 0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 Contour Interv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our interval- gives the difference in elevation between 2 contour li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dicator of he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n on maps as C.I.= 10f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to count contour lin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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I.= 1000f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t will look on a m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 Contour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our interval- gives the difference in elevation between 2 contour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indicator of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on maps as C.I.= 10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count contour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I.= 1000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will look on a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Index Cont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index contour is a contour line that is accentuated in thickness and is labeled with the appropriate measure of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ex contours occur every fifth contour lin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the map user read elevations on a ma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rrows indicate location of index contou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Index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ndex contour is a contour line that is accentuated in thickness and is labeled with the appropriate measure of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 contours occur every fifth contou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he map user read elevations on a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rrows indicate location of index conto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1E3-3666-47A3-8910-31722E04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2E47-C2CC-4F77-971A-5C36455C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1FF8-31A5-44B5-8545-2BF0AB20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F70-03EE-4A2A-9E2A-02F1DAED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6DA4-6059-4D09-9374-BF26221A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4A0B-C283-4121-9034-99A4FE9B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643A-8087-4459-BCFE-02F6F924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210C-7178-49BB-AEFB-DC79D1EC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7E92-BE47-4C27-86CB-A470FF7B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6EF1-91E0-4140-A1A0-46E9D387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634D-C8B1-4658-8B49-015E7101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3D9-9437-4B25-A0E6-91EFB930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B910-49CC-410C-BE61-DF9BC943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321F-FBC5-400C-B46A-0D86785C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ED97-FF94-457B-93B3-35DE8CE2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9352-2B24-4A12-ABF4-715EC809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DE92-FCE2-47CD-9D49-8022494F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709-B1B7-494E-BF42-77F9B2DE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47D0-F1F7-4BD0-B2EE-EECCA4E5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C2C-32F3-436F-AE25-395DC37D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F4F8-A244-4B77-B411-23C60AED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08C8-87C5-457E-AD44-471C8574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53EF-C91B-4366-8C7C-989FC535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86AC-62DC-4E3D-BE47-9E46AC71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F33D-0C9B-4FC2-B91F-3373D223D4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3FD3-47CB-4177-ACFE-628AA10A6A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Mapp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Stream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irection a streams is flowing is shown on a topographic map by the way a contour line crosses the stre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ams are shown as a blue line on ma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contour lines cross a stream it looks like an upside down 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oint in the V poi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stream. It opens in the                         direction the water is flow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187244"/>
          <p:cNvPicPr/>
          <p:nvPr/>
        </p:nvPicPr>
        <p:blipFill>
          <a:blip r:embed="rId1"/>
          <a:stretch/>
        </p:blipFill>
        <p:spPr>
          <a:xfrm>
            <a:off x="4876920" y="38862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topo-example"/>
          <p:cNvPicPr/>
          <p:nvPr/>
        </p:nvPicPr>
        <p:blipFill>
          <a:blip r:embed="rId2"/>
          <a:stretch/>
        </p:blipFill>
        <p:spPr>
          <a:xfrm>
            <a:off x="5334120" y="4676760"/>
            <a:ext cx="3429000" cy="2181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image_f_stream"/>
          <p:cNvPicPr/>
          <p:nvPr/>
        </p:nvPicPr>
        <p:blipFill>
          <a:blip r:embed="rId3"/>
          <a:stretch/>
        </p:blipFill>
        <p:spPr>
          <a:xfrm>
            <a:off x="6162840" y="762120"/>
            <a:ext cx="2981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Depression Contou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ion contours show areas of lower ele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wn like contour lines with marks on the insi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chure marks- tick marks on inside of closed cir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cont_3"/>
          <p:cNvPicPr/>
          <p:nvPr/>
        </p:nvPicPr>
        <p:blipFill>
          <a:blip r:embed="rId1"/>
          <a:stretch/>
        </p:blipFill>
        <p:spPr>
          <a:xfrm>
            <a:off x="3276720" y="5133960"/>
            <a:ext cx="2381040" cy="1724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depression1"/>
          <p:cNvPicPr/>
          <p:nvPr/>
        </p:nvPicPr>
        <p:blipFill>
          <a:blip r:embed="rId2"/>
          <a:stretch/>
        </p:blipFill>
        <p:spPr>
          <a:xfrm>
            <a:off x="5772240" y="1143000"/>
            <a:ext cx="3371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Hil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lls are represented on a topographic map by a series of concentric contour lines in a rough circ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hillmap"/>
          <p:cNvPicPr/>
          <p:nvPr/>
        </p:nvPicPr>
        <p:blipFill>
          <a:blip r:embed="rId1"/>
          <a:stretch/>
        </p:blipFill>
        <p:spPr>
          <a:xfrm>
            <a:off x="3048120" y="1828800"/>
            <a:ext cx="4149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Slop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ly spaced contour lines represent steep slo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ely spaced contour lines represent gentle slop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a0133"/>
          <p:cNvPicPr/>
          <p:nvPr/>
        </p:nvPicPr>
        <p:blipFill>
          <a:blip r:embed="rId1"/>
          <a:stretch/>
        </p:blipFill>
        <p:spPr>
          <a:xfrm>
            <a:off x="3124080" y="2514600"/>
            <a:ext cx="3916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Benchmark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enchmark is a place where exact elevation is know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n by a B.M. on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BM 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benchmark"/>
          <p:cNvPicPr/>
          <p:nvPr/>
        </p:nvPicPr>
        <p:blipFill>
          <a:blip r:embed="rId1"/>
          <a:stretch/>
        </p:blipFill>
        <p:spPr>
          <a:xfrm>
            <a:off x="914400" y="3954600"/>
            <a:ext cx="3352680" cy="214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benchmark_image"/>
          <p:cNvPicPr/>
          <p:nvPr/>
        </p:nvPicPr>
        <p:blipFill>
          <a:blip r:embed="rId2"/>
          <a:stretch/>
        </p:blipFill>
        <p:spPr>
          <a:xfrm>
            <a:off x="5334120" y="2819520"/>
            <a:ext cx="38098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Colo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lors on a topographic map are symbolic of different map featur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ue = wa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en = fore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own = contour lin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ck = cultural features (buildings, place names, boundary lines, roads, etc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 = principal roa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nk = urban are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Map Sca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943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scale indicates your distance along the ground, or the amount of ground covered by the ma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GS- United States Geologic Surv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tio- 1:24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unit on the map is equal to 24,000 units of the same size on the grou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:1 inch on the map = 24000 inches on Earth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r after converting 1 inch = 2000f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r scale-indicated by a line or bar with distances marked in miles, feet, or kilomet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9" descr="image39"/>
          <p:cNvPicPr/>
          <p:nvPr/>
        </p:nvPicPr>
        <p:blipFill>
          <a:blip r:embed="rId1"/>
          <a:stretch/>
        </p:blipFill>
        <p:spPr>
          <a:xfrm>
            <a:off x="5791320" y="5610240"/>
            <a:ext cx="33526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Map Sca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4" descr="scaler"/>
          <p:cNvPicPr/>
          <p:nvPr/>
        </p:nvPicPr>
        <p:blipFill>
          <a:blip r:embed="rId1"/>
          <a:stretch/>
        </p:blipFill>
        <p:spPr>
          <a:xfrm>
            <a:off x="1981080" y="1236600"/>
            <a:ext cx="63248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Profil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opographic profile is a cross-sectional view along a line drawn through a portion of a topographic map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like taking a slice out of a portion of the Earth and looking at it from the si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mapsshow_topo1"/>
          <p:cNvPicPr/>
          <p:nvPr/>
        </p:nvPicPr>
        <p:blipFill>
          <a:blip r:embed="rId1"/>
          <a:stretch/>
        </p:blipFill>
        <p:spPr>
          <a:xfrm>
            <a:off x="6114960" y="3638520"/>
            <a:ext cx="3029040" cy="321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tic"/>
          <p:cNvPicPr/>
          <p:nvPr/>
        </p:nvPicPr>
        <p:blipFill>
          <a:blip r:embed="rId2"/>
          <a:stretch/>
        </p:blipFill>
        <p:spPr>
          <a:xfrm>
            <a:off x="228600" y="3581280"/>
            <a:ext cx="2752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Reading_Contour_Lines_and_Mapmaking_from_Models_256k.asx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map?  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 representation of something (Earth, stars, solar system, a building, etc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cc_map"/>
          <p:cNvPicPr/>
          <p:nvPr/>
        </p:nvPicPr>
        <p:blipFill>
          <a:blip r:embed="rId1"/>
          <a:stretch/>
        </p:blipFill>
        <p:spPr>
          <a:xfrm>
            <a:off x="5533920" y="685800"/>
            <a:ext cx="3610080" cy="513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onstellation2"/>
          <p:cNvPicPr/>
          <p:nvPr/>
        </p:nvPicPr>
        <p:blipFill>
          <a:blip r:embed="rId2"/>
          <a:stretch/>
        </p:blipFill>
        <p:spPr>
          <a:xfrm>
            <a:off x="228600" y="3886200"/>
            <a:ext cx="2297160" cy="29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national_forecast"/>
          <p:cNvPicPr/>
          <p:nvPr/>
        </p:nvPicPr>
        <p:blipFill>
          <a:blip r:embed="rId3"/>
          <a:stretch/>
        </p:blipFill>
        <p:spPr>
          <a:xfrm>
            <a:off x="2286000" y="4175280"/>
            <a:ext cx="33526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es of Map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determine where you are go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ct as a model of Earth’s surf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o locate various pl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how the distribution of various features or types of materi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ick Review of Latitude and Longitud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degrees North and South of the Equa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s drawn parallel to each other running west to ea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12" descr="601latitude"/>
          <p:cNvPicPr/>
          <p:nvPr/>
        </p:nvPicPr>
        <p:blipFill>
          <a:blip r:embed="rId1"/>
          <a:stretch/>
        </p:blipFill>
        <p:spPr>
          <a:xfrm>
            <a:off x="5181480" y="3200400"/>
            <a:ext cx="3616560" cy="365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atitude2"/>
          <p:cNvPicPr/>
          <p:nvPr/>
        </p:nvPicPr>
        <p:blipFill>
          <a:blip r:embed="rId2"/>
          <a:stretch/>
        </p:blipFill>
        <p:spPr>
          <a:xfrm>
            <a:off x="304920" y="3641760"/>
            <a:ext cx="464796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ick Review of Latitude and Longitude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degrees East or West of the prime meridi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s drawn running North and South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longitude_lines"/>
          <p:cNvPicPr/>
          <p:nvPr/>
        </p:nvPicPr>
        <p:blipFill>
          <a:blip r:embed="rId1"/>
          <a:stretch/>
        </p:blipFill>
        <p:spPr>
          <a:xfrm>
            <a:off x="2666880" y="3352680"/>
            <a:ext cx="2519640" cy="3229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longitude"/>
          <p:cNvPicPr/>
          <p:nvPr/>
        </p:nvPicPr>
        <p:blipFill>
          <a:blip r:embed="rId2"/>
          <a:stretch/>
        </p:blipFill>
        <p:spPr>
          <a:xfrm>
            <a:off x="6248520" y="2209680"/>
            <a:ext cx="280188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p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y of the 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s relief using contour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f- highs and lows of Earth’s surf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f can be calcul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ke the difference between the highest point and the lowe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Mountain peak 20 m. lake 10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m- 10m= 10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elief of this area is 10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Contour Lines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s on topographic ma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nect points of equal ele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thing connected to that line has the same ele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ion- the distance something is above sea level. Sea level= 0m or 0f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conpackb"/>
          <p:cNvPicPr/>
          <p:nvPr/>
        </p:nvPicPr>
        <p:blipFill>
          <a:blip r:embed="rId1"/>
          <a:stretch/>
        </p:blipFill>
        <p:spPr>
          <a:xfrm>
            <a:off x="1523880" y="4038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topographic-map"/>
          <p:cNvPicPr/>
          <p:nvPr/>
        </p:nvPicPr>
        <p:blipFill>
          <a:blip r:embed="rId2"/>
          <a:stretch/>
        </p:blipFill>
        <p:spPr>
          <a:xfrm>
            <a:off x="5410080" y="3870360"/>
            <a:ext cx="3733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 Contour Interva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our interval- gives the difference in elevation between 2 contour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indicator of he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n on maps as C.I.= 10f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to count contour li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contour_interval"/>
          <p:cNvPicPr/>
          <p:nvPr/>
        </p:nvPicPr>
        <p:blipFill>
          <a:blip r:embed="rId1"/>
          <a:stretch/>
        </p:blipFill>
        <p:spPr>
          <a:xfrm>
            <a:off x="5791320" y="3657600"/>
            <a:ext cx="3352680" cy="181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figure11"/>
          <p:cNvPicPr/>
          <p:nvPr/>
        </p:nvPicPr>
        <p:blipFill>
          <a:blip r:embed="rId2"/>
          <a:stretch/>
        </p:blipFill>
        <p:spPr>
          <a:xfrm>
            <a:off x="0" y="4203720"/>
            <a:ext cx="4267080" cy="2654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4267080" y="6095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.I.= 1000f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095880" y="54864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it will look on a ma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Index Contou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index contour is a contour line that is accentuated in thickness and is labeled with the appropriate measure of ele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x contours occur every fifth contour 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 the map user read elevations on a map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5" descr="index2"/>
          <p:cNvPicPr/>
          <p:nvPr/>
        </p:nvPicPr>
        <p:blipFill>
          <a:blip r:embed="rId1"/>
          <a:stretch/>
        </p:blipFill>
        <p:spPr>
          <a:xfrm>
            <a:off x="457200" y="3411360"/>
            <a:ext cx="3809880" cy="3160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ndex"/>
          <p:cNvPicPr/>
          <p:nvPr/>
        </p:nvPicPr>
        <p:blipFill>
          <a:blip r:embed="rId2"/>
          <a:stretch/>
        </p:blipFill>
        <p:spPr>
          <a:xfrm>
            <a:off x="5867280" y="3276720"/>
            <a:ext cx="3276720" cy="3024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4343400" y="6248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 arrows indicate location of index contou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5:09:35Z</dcterms:created>
  <dc:creator>SCS</dc:creator>
  <dc:description/>
  <dc:language>en-US</dc:language>
  <cp:lastModifiedBy>RomaK</cp:lastModifiedBy>
  <dcterms:modified xsi:type="dcterms:W3CDTF">2015-09-04T09:43:49Z</dcterms:modified>
  <cp:revision>24</cp:revision>
  <dc:subject/>
  <dc:title>Mapping</dc:title>
</cp:coreProperties>
</file>