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8DB4-28B6-4CC8-900D-0BFBAEADAE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69E-EBD4-4BAA-8102-DF81E105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14B-649F-4600-A230-64BD7760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8FB-FE0B-424D-BC7F-4916B345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A13-8262-4DFE-8A2D-30F5B7B2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8962-CC91-43C5-B91E-CA194EBF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0926-715E-4F67-859C-431FDB7B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EDF3-6104-48DF-B169-2B7E04A0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2EDB-38FE-43F6-AC09-12C747BF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C7A0-1BA0-4291-AF0E-0D42C3D6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5913-85D1-4153-A35F-0774B95A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3827-E0FA-41CE-84DC-8C00BDB3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68A-70F1-4F5D-A2B2-2A3B545F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FEE9-273B-4D33-9B21-51CB6589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282A-A153-4E84-B686-84F18E67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9360-3429-48FB-BF6E-98AEBDC0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A35E-AF61-4000-BB3E-EB8870B0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8DCC-96FE-4B93-B8C2-F219BC26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7BC-3485-431A-B802-0EC4D584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E35-FFCA-4571-A75B-EF76F08D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605-D088-4EB2-831F-71647098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49B-7BE6-4F7E-A6A7-6543CB33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556-8B16-483E-A21E-4F464D19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FCD-62AD-4364-9896-9092C61C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6F0-0307-41DA-9452-B17330B4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4CB9-F9EB-4F05-B65A-59DFC981F8A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E5DC-CA24-4C87-938C-267CE7795AC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eatures of the Earth’s surface and how they are formed and chang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3" descr="Beach.gif"/>
          <p:cNvPicPr/>
          <p:nvPr/>
        </p:nvPicPr>
        <p:blipFill>
          <a:blip r:embed="rId2"/>
          <a:stretch/>
        </p:blipFill>
        <p:spPr>
          <a:xfrm>
            <a:off x="685800" y="1523880"/>
            <a:ext cx="4419720" cy="1600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2374200" y="3244680"/>
            <a:ext cx="43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Beach formed by water erosion - oc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2" descr="beach 2.jpg"/>
          <p:cNvPicPr/>
          <p:nvPr/>
        </p:nvPicPr>
        <p:blipFill>
          <a:blip r:embed="rId3"/>
          <a:stretch/>
        </p:blipFill>
        <p:spPr>
          <a:xfrm>
            <a:off x="2971800" y="3809880"/>
            <a:ext cx="487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5" descr="canyon 2.jpg"/>
          <p:cNvPicPr/>
          <p:nvPr/>
        </p:nvPicPr>
        <p:blipFill>
          <a:blip r:embed="rId2"/>
          <a:stretch/>
        </p:blipFill>
        <p:spPr>
          <a:xfrm>
            <a:off x="990720" y="44197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anyon.gif"/>
          <p:cNvPicPr/>
          <p:nvPr/>
        </p:nvPicPr>
        <p:blipFill>
          <a:blip r:embed="rId3"/>
          <a:stretch/>
        </p:blipFill>
        <p:spPr>
          <a:xfrm>
            <a:off x="2895480" y="16002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2362320" y="3429000"/>
            <a:ext cx="438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Canyons formed by water erosion –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OR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canyon 4.jpg"/>
          <p:cNvPicPr/>
          <p:nvPr/>
        </p:nvPicPr>
        <p:blipFill>
          <a:blip r:embed="rId4"/>
          <a:stretch/>
        </p:blipFill>
        <p:spPr>
          <a:xfrm>
            <a:off x="5257800" y="4267080"/>
            <a:ext cx="29462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3" descr="fjord.gif"/>
          <p:cNvPicPr/>
          <p:nvPr/>
        </p:nvPicPr>
        <p:blipFill>
          <a:blip r:embed="rId2"/>
          <a:stretch/>
        </p:blipFill>
        <p:spPr>
          <a:xfrm>
            <a:off x="2819520" y="2417760"/>
            <a:ext cx="335268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5" descr="desert 2.jpg"/>
          <p:cNvPicPr/>
          <p:nvPr/>
        </p:nvPicPr>
        <p:blipFill>
          <a:blip r:embed="rId2"/>
          <a:stretch/>
        </p:blipFill>
        <p:spPr>
          <a:xfrm>
            <a:off x="518148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esert.gif"/>
          <p:cNvPicPr/>
          <p:nvPr/>
        </p:nvPicPr>
        <p:blipFill>
          <a:blip r:embed="rId3"/>
          <a:stretch/>
        </p:blipFill>
        <p:spPr>
          <a:xfrm>
            <a:off x="609480" y="17524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023720" y="324468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Deserts formed by wind de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5" descr="canyon 3.jpg"/>
          <p:cNvPicPr/>
          <p:nvPr/>
        </p:nvPicPr>
        <p:blipFill>
          <a:blip r:embed="rId2"/>
          <a:stretch/>
        </p:blipFill>
        <p:spPr>
          <a:xfrm>
            <a:off x="1295280" y="38862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Mesa.gif"/>
          <p:cNvPicPr/>
          <p:nvPr/>
        </p:nvPicPr>
        <p:blipFill>
          <a:blip r:embed="rId3"/>
          <a:stretch/>
        </p:blipFill>
        <p:spPr>
          <a:xfrm>
            <a:off x="5715000" y="1828800"/>
            <a:ext cx="2747880" cy="212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533520" y="2514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esas and plateaus formed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2" name="Content Placeholder 5" descr="mountain 1.jpg"/>
          <p:cNvPicPr/>
          <p:nvPr/>
        </p:nvPicPr>
        <p:blipFill>
          <a:blip r:embed="rId1"/>
          <a:stretch/>
        </p:blipFill>
        <p:spPr>
          <a:xfrm>
            <a:off x="4267080" y="1905120"/>
            <a:ext cx="2362320" cy="144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Mountain.gif"/>
          <p:cNvPicPr/>
          <p:nvPr/>
        </p:nvPicPr>
        <p:blipFill>
          <a:blip r:embed="rId2"/>
          <a:stretch/>
        </p:blipFill>
        <p:spPr>
          <a:xfrm>
            <a:off x="609480" y="1752480"/>
            <a:ext cx="1981440" cy="2171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312408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ountains formed by earthquakes and pushing up of cr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mountain 2.jpg"/>
          <p:cNvPicPr/>
          <p:nvPr/>
        </p:nvPicPr>
        <p:blipFill>
          <a:blip r:embed="rId3"/>
          <a:stretch/>
        </p:blipFill>
        <p:spPr>
          <a:xfrm>
            <a:off x="2057400" y="4572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ountain 3.jpg"/>
          <p:cNvPicPr/>
          <p:nvPr/>
        </p:nvPicPr>
        <p:blipFill>
          <a:blip r:embed="rId4"/>
          <a:stretch/>
        </p:blipFill>
        <p:spPr>
          <a:xfrm>
            <a:off x="6248520" y="411480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8" name="Content Placeholder 3" descr="delta 1.jpg"/>
          <p:cNvPicPr/>
          <p:nvPr/>
        </p:nvPicPr>
        <p:blipFill>
          <a:blip r:embed="rId1"/>
          <a:stretch/>
        </p:blipFill>
        <p:spPr>
          <a:xfrm>
            <a:off x="609480" y="1647720"/>
            <a:ext cx="2286000" cy="145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elta 2.jpg"/>
          <p:cNvPicPr/>
          <p:nvPr/>
        </p:nvPicPr>
        <p:blipFill>
          <a:blip r:embed="rId2"/>
          <a:stretch/>
        </p:blipFill>
        <p:spPr>
          <a:xfrm>
            <a:off x="6019920" y="3048120"/>
            <a:ext cx="2328840" cy="154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elta 3.jpg"/>
          <p:cNvPicPr/>
          <p:nvPr/>
        </p:nvPicPr>
        <p:blipFill>
          <a:blip r:embed="rId3"/>
          <a:stretch/>
        </p:blipFill>
        <p:spPr>
          <a:xfrm>
            <a:off x="1828800" y="4255920"/>
            <a:ext cx="2514600" cy="1963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828800" y="3352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New land formed by deposition of rivers/floodwa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olcanoes and Earthquak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ivers and R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loods and Mud slid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nd and water ero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athe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ce and Glaci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os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4:17:26Z</dcterms:created>
  <dc:creator>Ector County ISD Employee</dc:creator>
  <dc:description/>
  <dc:language>en-US</dc:language>
  <cp:lastModifiedBy>RomaK</cp:lastModifiedBy>
  <dcterms:modified xsi:type="dcterms:W3CDTF">2015-09-04T09:43:29Z</dcterms:modified>
  <cp:revision>9</cp:revision>
  <dc:subject/>
  <dc:title>Landforms</dc:title>
</cp:coreProperties>
</file>