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C9D9-0B40-441E-BB22-F8AFC43848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BA7-4891-40A7-92DA-F73A07F0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679-E53A-4A0C-A3AE-0F153884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D21-C97B-453F-A027-0C992425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A1C-6A4C-4D1D-8DA9-5B04D030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5736-C8E7-4365-BAC3-654BB2F0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0005-DBE5-49A8-B8FB-5669F474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0DDF-3219-46F4-B5A9-2BA03876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1944-D42E-4B2C-BB8F-3990DB6E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3D1A-DBA7-46BC-AE13-C29F5207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76AB-96AB-4057-BB9F-790F268E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50DC-CBDC-41C6-9832-658B12D6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864-23BC-4AA7-B626-96D81F70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0427-7423-45E8-A1AF-AA3177E0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7911-8E50-41AD-B91B-3E43886C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7E71-8FA5-4375-AB7C-45C4267C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8F8A-67FF-4BA2-9E04-E55289D5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5EE1-6FDF-4792-81C7-BA319254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435-63D9-4C9D-AF3E-4E6718C8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997-D693-4A77-BA0E-C69061CF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D8E-EF59-4C02-B250-BFD0B56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FA7-1BDF-41D4-8988-EDC716E4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62D-CE47-43AE-8EDF-C7E49581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68A-F975-4BA2-A2C0-579A88B8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8C1-98DB-408C-9E43-267CEBE1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5F03-EC27-42CD-8D1B-063A1B376B9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C8A0-76DA-48BA-BD38-2F2B39363A1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atures of the Earth’s surface and how they are formed and chang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each.gif"/>
          <p:cNvPicPr/>
          <p:nvPr/>
        </p:nvPicPr>
        <p:blipFill>
          <a:blip r:embed="rId2"/>
          <a:stretch/>
        </p:blipFill>
        <p:spPr>
          <a:xfrm>
            <a:off x="685800" y="1523880"/>
            <a:ext cx="44197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2374200" y="32446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Beach formed by water erosion - oc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beach 2.jpg"/>
          <p:cNvPicPr/>
          <p:nvPr/>
        </p:nvPicPr>
        <p:blipFill>
          <a:blip r:embed="rId3"/>
          <a:stretch/>
        </p:blipFill>
        <p:spPr>
          <a:xfrm>
            <a:off x="2971800" y="38098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5" descr="canyon 2.jpg"/>
          <p:cNvPicPr/>
          <p:nvPr/>
        </p:nvPicPr>
        <p:blipFill>
          <a:blip r:embed="rId2"/>
          <a:stretch/>
        </p:blipFill>
        <p:spPr>
          <a:xfrm>
            <a:off x="9907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anyon.gif"/>
          <p:cNvPicPr/>
          <p:nvPr/>
        </p:nvPicPr>
        <p:blipFill>
          <a:blip r:embed="rId3"/>
          <a:stretch/>
        </p:blipFill>
        <p:spPr>
          <a:xfrm>
            <a:off x="2895480" y="16002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362320" y="3429000"/>
            <a:ext cx="43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Canyons formed by water erosion –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OR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canyon 4.jpg"/>
          <p:cNvPicPr/>
          <p:nvPr/>
        </p:nvPicPr>
        <p:blipFill>
          <a:blip r:embed="rId4"/>
          <a:stretch/>
        </p:blipFill>
        <p:spPr>
          <a:xfrm>
            <a:off x="5257800" y="4267080"/>
            <a:ext cx="2946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fjord.gif"/>
          <p:cNvPicPr/>
          <p:nvPr/>
        </p:nvPicPr>
        <p:blipFill>
          <a:blip r:embed="rId2"/>
          <a:stretch/>
        </p:blipFill>
        <p:spPr>
          <a:xfrm>
            <a:off x="2819520" y="2417760"/>
            <a:ext cx="33526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5" descr="desert 2.jpg"/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esert.gif"/>
          <p:cNvPicPr/>
          <p:nvPr/>
        </p:nvPicPr>
        <p:blipFill>
          <a:blip r:embed="rId3"/>
          <a:stretch/>
        </p:blipFill>
        <p:spPr>
          <a:xfrm>
            <a:off x="609480" y="17524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23720" y="32446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eserts formed by wind de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5" descr="canyon 3.jpg"/>
          <p:cNvPicPr/>
          <p:nvPr/>
        </p:nvPicPr>
        <p:blipFill>
          <a:blip r:embed="rId2"/>
          <a:stretch/>
        </p:blipFill>
        <p:spPr>
          <a:xfrm>
            <a:off x="1295280" y="3886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esa.gif"/>
          <p:cNvPicPr/>
          <p:nvPr/>
        </p:nvPicPr>
        <p:blipFill>
          <a:blip r:embed="rId3"/>
          <a:stretch/>
        </p:blipFill>
        <p:spPr>
          <a:xfrm>
            <a:off x="5715000" y="1828800"/>
            <a:ext cx="2747880" cy="21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53352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esas and plateaus formed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2" name="Content Placeholder 5" descr="mountain 1.jpg"/>
          <p:cNvPicPr/>
          <p:nvPr/>
        </p:nvPicPr>
        <p:blipFill>
          <a:blip r:embed="rId1"/>
          <a:stretch/>
        </p:blipFill>
        <p:spPr>
          <a:xfrm>
            <a:off x="4267080" y="1905120"/>
            <a:ext cx="236232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ountain.gif"/>
          <p:cNvPicPr/>
          <p:nvPr/>
        </p:nvPicPr>
        <p:blipFill>
          <a:blip r:embed="rId2"/>
          <a:stretch/>
        </p:blipFill>
        <p:spPr>
          <a:xfrm>
            <a:off x="609480" y="1752480"/>
            <a:ext cx="1981440" cy="2171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2408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ountains formed by earthquakes and pushing up of cr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ountain 2.jpg"/>
          <p:cNvPicPr/>
          <p:nvPr/>
        </p:nvPicPr>
        <p:blipFill>
          <a:blip r:embed="rId3"/>
          <a:stretch/>
        </p:blipFill>
        <p:spPr>
          <a:xfrm>
            <a:off x="20574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untain 3.jpg"/>
          <p:cNvPicPr/>
          <p:nvPr/>
        </p:nvPicPr>
        <p:blipFill>
          <a:blip r:embed="rId4"/>
          <a:stretch/>
        </p:blipFill>
        <p:spPr>
          <a:xfrm>
            <a:off x="6248520" y="41148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8" name="Content Placeholder 3" descr="delta 1.jpg"/>
          <p:cNvPicPr/>
          <p:nvPr/>
        </p:nvPicPr>
        <p:blipFill>
          <a:blip r:embed="rId1"/>
          <a:stretch/>
        </p:blipFill>
        <p:spPr>
          <a:xfrm>
            <a:off x="609480" y="1647720"/>
            <a:ext cx="228600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lta 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32884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lta 3.jpg"/>
          <p:cNvPicPr/>
          <p:nvPr/>
        </p:nvPicPr>
        <p:blipFill>
          <a:blip r:embed="rId3"/>
          <a:stretch/>
        </p:blipFill>
        <p:spPr>
          <a:xfrm>
            <a:off x="1828800" y="4255920"/>
            <a:ext cx="2514600" cy="196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82880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New land formed by deposition of rivers/floodwa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lcanoes and 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vers and R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 and Mud sl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nd and water ero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ce and Glaci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os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17:26Z</dcterms:created>
  <dc:creator>Ector County ISD Employee</dc:creator>
  <dc:description/>
  <dc:language>en-US</dc:language>
  <cp:lastModifiedBy>RomaK</cp:lastModifiedBy>
  <dcterms:modified xsi:type="dcterms:W3CDTF">2015-09-04T09:43:29Z</dcterms:modified>
  <cp:revision>9</cp:revision>
  <dc:subject/>
  <dc:title>Landforms</dc:title>
</cp:coreProperties>
</file>