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6FB6-BDAA-4FF8-A6D3-8F12AA7416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7A4-EDD9-4BFF-832E-CABFC706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90C-67A0-4128-8DFE-CFE581BC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851-ED07-4E48-9621-9431AD3E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4F5-4C23-4A4B-B4D5-87ED737C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7481-0DB7-4E5E-B69E-171DDAD5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1EF1-8A2E-45A9-BEC9-93702704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C166-1062-4886-BA8C-22A38599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2C4A-3981-4318-A963-A74259D0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ACF8-B057-439A-8254-62B4C67B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AA53-2B39-4CB8-A5EB-750351F4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C9C4-A156-4B3A-94F6-7A5CDE9F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21E-29EA-4DDC-B101-23654FC2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28C0-22D4-450F-A311-173C74DD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8E2E-379C-476D-9F32-CF82BCF0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C0EE-C8D0-40FE-9286-B71EA213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D879-8A64-42E5-84CD-70F3BA04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8586-1179-48F6-8E7A-83A87EC3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59F-3F1C-4DEC-9869-05053E57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03F-8F5D-4968-885F-A9EBCA54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EC5-D646-4997-8207-192F245C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7A1-F1D6-4BAF-8C2D-E1D5D25B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921-B423-460A-BA6B-B049523A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452-2AC2-4B26-B970-F15678CD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975-AA79-44AC-A6A6-A34B268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0247-3324-4775-A343-6F15A6E8E5F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13CD-B57E-4ED6-BF87-0FA4EEC8E84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atures of the Earth’s surface and how they are formed and chang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each.gif"/>
          <p:cNvPicPr/>
          <p:nvPr/>
        </p:nvPicPr>
        <p:blipFill>
          <a:blip r:embed="rId2"/>
          <a:stretch/>
        </p:blipFill>
        <p:spPr>
          <a:xfrm>
            <a:off x="685800" y="1523880"/>
            <a:ext cx="44197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2374200" y="32446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Beach formed by water erosion - oc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2" descr="beach 2.jpg"/>
          <p:cNvPicPr/>
          <p:nvPr/>
        </p:nvPicPr>
        <p:blipFill>
          <a:blip r:embed="rId3"/>
          <a:stretch/>
        </p:blipFill>
        <p:spPr>
          <a:xfrm>
            <a:off x="2971800" y="38098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5" descr="canyon 2.jpg"/>
          <p:cNvPicPr/>
          <p:nvPr/>
        </p:nvPicPr>
        <p:blipFill>
          <a:blip r:embed="rId2"/>
          <a:stretch/>
        </p:blipFill>
        <p:spPr>
          <a:xfrm>
            <a:off x="9907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anyon.gif"/>
          <p:cNvPicPr/>
          <p:nvPr/>
        </p:nvPicPr>
        <p:blipFill>
          <a:blip r:embed="rId3"/>
          <a:stretch/>
        </p:blipFill>
        <p:spPr>
          <a:xfrm>
            <a:off x="2895480" y="16002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2362320" y="3429000"/>
            <a:ext cx="43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Canyons formed by water erosion –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OR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canyon 4.jpg"/>
          <p:cNvPicPr/>
          <p:nvPr/>
        </p:nvPicPr>
        <p:blipFill>
          <a:blip r:embed="rId4"/>
          <a:stretch/>
        </p:blipFill>
        <p:spPr>
          <a:xfrm>
            <a:off x="5257800" y="4267080"/>
            <a:ext cx="2946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fjord.gif"/>
          <p:cNvPicPr/>
          <p:nvPr/>
        </p:nvPicPr>
        <p:blipFill>
          <a:blip r:embed="rId2"/>
          <a:stretch/>
        </p:blipFill>
        <p:spPr>
          <a:xfrm>
            <a:off x="2819520" y="2417760"/>
            <a:ext cx="33526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5" descr="desert 2.jpg"/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esert.gif"/>
          <p:cNvPicPr/>
          <p:nvPr/>
        </p:nvPicPr>
        <p:blipFill>
          <a:blip r:embed="rId3"/>
          <a:stretch/>
        </p:blipFill>
        <p:spPr>
          <a:xfrm>
            <a:off x="609480" y="17524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23720" y="32446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Deserts formed by wind de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5" descr="canyon 3.jpg"/>
          <p:cNvPicPr/>
          <p:nvPr/>
        </p:nvPicPr>
        <p:blipFill>
          <a:blip r:embed="rId2"/>
          <a:stretch/>
        </p:blipFill>
        <p:spPr>
          <a:xfrm>
            <a:off x="1295280" y="38862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Mesa.gif"/>
          <p:cNvPicPr/>
          <p:nvPr/>
        </p:nvPicPr>
        <p:blipFill>
          <a:blip r:embed="rId3"/>
          <a:stretch/>
        </p:blipFill>
        <p:spPr>
          <a:xfrm>
            <a:off x="5715000" y="1828800"/>
            <a:ext cx="2747880" cy="212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53352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esas and plateaus formed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2" name="Content Placeholder 5" descr="mountain 1.jpg"/>
          <p:cNvPicPr/>
          <p:nvPr/>
        </p:nvPicPr>
        <p:blipFill>
          <a:blip r:embed="rId1"/>
          <a:stretch/>
        </p:blipFill>
        <p:spPr>
          <a:xfrm>
            <a:off x="4267080" y="1905120"/>
            <a:ext cx="236232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ountain.gif"/>
          <p:cNvPicPr/>
          <p:nvPr/>
        </p:nvPicPr>
        <p:blipFill>
          <a:blip r:embed="rId2"/>
          <a:stretch/>
        </p:blipFill>
        <p:spPr>
          <a:xfrm>
            <a:off x="609480" y="1752480"/>
            <a:ext cx="1981440" cy="2171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12408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ountains formed by earthquakes and pushing up of cr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ountain 2.jpg"/>
          <p:cNvPicPr/>
          <p:nvPr/>
        </p:nvPicPr>
        <p:blipFill>
          <a:blip r:embed="rId3"/>
          <a:stretch/>
        </p:blipFill>
        <p:spPr>
          <a:xfrm>
            <a:off x="2057400" y="4572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untain 3.jpg"/>
          <p:cNvPicPr/>
          <p:nvPr/>
        </p:nvPicPr>
        <p:blipFill>
          <a:blip r:embed="rId4"/>
          <a:stretch/>
        </p:blipFill>
        <p:spPr>
          <a:xfrm>
            <a:off x="6248520" y="41148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8" name="Content Placeholder 3" descr="delta 1.jpg"/>
          <p:cNvPicPr/>
          <p:nvPr/>
        </p:nvPicPr>
        <p:blipFill>
          <a:blip r:embed="rId1"/>
          <a:stretch/>
        </p:blipFill>
        <p:spPr>
          <a:xfrm>
            <a:off x="609480" y="1647720"/>
            <a:ext cx="228600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lta 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328840" cy="15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elta 3.jpg"/>
          <p:cNvPicPr/>
          <p:nvPr/>
        </p:nvPicPr>
        <p:blipFill>
          <a:blip r:embed="rId3"/>
          <a:stretch/>
        </p:blipFill>
        <p:spPr>
          <a:xfrm>
            <a:off x="1828800" y="4255920"/>
            <a:ext cx="2514600" cy="196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828800" y="3352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New land formed by deposition of rivers/floodwa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lcanoes and 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ivers and R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oods and Mud sl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nd and water ero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ce and Glaci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os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17:26Z</dcterms:created>
  <dc:creator>Ector County ISD Employee</dc:creator>
  <dc:description/>
  <dc:language>en-US</dc:language>
  <cp:lastModifiedBy>RomaK</cp:lastModifiedBy>
  <dcterms:modified xsi:type="dcterms:W3CDTF">2015-09-04T09:43:29Z</dcterms:modified>
  <cp:revision>9</cp:revision>
  <dc:subject/>
  <dc:title>Landforms</dc:title>
</cp:coreProperties>
</file>