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327C-1A05-4B3E-B124-2486C10BBA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Solv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is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 + Cr(MnO4)2  Cr2O3+ MnO2 + Pb3O4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(N3)2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(MnO4)2 =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Cr2O3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MnO2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Pb3O4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NO=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ach Compound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 is the amount of Pb on 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3E is the amount on the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ve For Each of 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A=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A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stitute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: 1=3E  1/3=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: 6x1=F  6=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: B=2C or B/2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n: 2B=D or B=D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: 8B=3C+2D+4E+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B=3(B/2)+3(2B)+4(1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b(N3)2+Cr(MnO4)2Cr2O3+MnO2+Pb3O4+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: 8B=3B/2+4B+4/3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west common multiple of 2 an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side by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6x] 8B=(3B/2)+(4B+4/3)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9B+24B+8+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B=33B+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Your 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(B/2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44/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(2/1)x(44/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/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1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GCD and multiply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Finish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ach value into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=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=4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=2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=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Pb(N3)2 +44 Cr(MnO4)2  22Cr2O3+ 88MnO2 + 5Pb3O4 +90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87D-40A1-46BD-81F6-E99EBB40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C45-B146-4CFD-BDA9-65A782E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F1B-13F3-40E3-B0FE-A690890D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7B0-FDF7-4729-B724-BA1D1674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3E0-0D98-48CE-BF25-DE83F6F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EA6C-CADA-4411-826D-D65BED27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FE34-7FDF-456B-9B31-042789D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9C8-5BC1-49A6-A891-86495C6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1302-D2D9-4C9F-85A7-DF52D291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86A-695B-4DAE-9D41-B767A8C7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B80-5E42-4D41-A72C-9A17780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F9E-1C68-4BB4-8755-589F9AC0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59E9-4913-4377-9879-C603FD2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AC7F-B80D-41EB-ACCB-0FE93401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8AF-D77B-4FB2-99F6-07A4D754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800F-B297-4F87-BACF-ABAF2D49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D8A-7452-43BF-90D2-1C1213D7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445-9FD7-4EB0-9CC8-2D255C8A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3C4-0EDB-461F-9E29-A649B0CF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B6C-03BB-4313-BD87-50F6BFF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F643-8525-4EF7-8769-9F73B652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649-5C37-46D8-92D1-1C31A10B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DA8-3795-4FBB-99F0-AD9DBD44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24F-E56E-4B98-827D-0291F6D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12F-439B-4472-BFB5-E84A437BE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D565-E49C-4CDD-B17E-3BE574B7A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lgebraic Solving Metho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alance This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048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3)2 + Cr(MnO4)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2O3+ MnO2 + Pb3O4 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9372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(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C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M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P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NO= 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ive Each Compound a Var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A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A is the amount of Pb on the left side o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E is the amount on the lef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Each of the Variabl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A=3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A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itute in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b: 1=3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/3=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: 6x1=F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=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: B=2C or B/2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n: 2B=D or B=D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: 8B=3C+2D+4E+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B=3(B/2)+3(2B)+4(1/3)+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82800" y="1219320"/>
            <a:ext cx="8936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ve for Oxygen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049120"/>
            <a:ext cx="82249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: 8B=3B/2+4B+4/3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lowest common multiple of 2 and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each side by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6x] 8B=(3B/2)+(4B+4/3)+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9B+24B+8+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B=33B+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B=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mplify Your Fr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(B/2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44/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2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(2/1)x(44/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/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1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a GCD and multiply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=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=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=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=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Now You Have A Finished Equat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itute each value into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=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2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5Pb(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44 Cr(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2Cr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88M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5Pb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90 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2:22:10Z</dcterms:created>
  <dc:creator>Samantha Madden</dc:creator>
  <dc:description/>
  <dc:language>en-US</dc:language>
  <cp:lastModifiedBy>LEGION</cp:lastModifiedBy>
  <dcterms:modified xsi:type="dcterms:W3CDTF">2015-09-04T09:52:55Z</dcterms:modified>
  <cp:revision>11</cp:revision>
  <dc:subject/>
  <dc:title>Algebraic Solving Method</dc:title>
</cp:coreProperties>
</file>