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96DF-300A-4241-BDEB-77A376C275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gebraic Solving Meth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lancing Chemical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Solving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Balance This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is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Pb(N3)2 =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Cr(MnO4)2 = 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Cr2O3= 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MnO2= 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Pb3O4=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NO= 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ive Each Compound a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Pb(N3)2 =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Cr(MnO4)2 =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Cr2O3=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MnO2=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Pb3O4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NO=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Each Compound a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A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A is the amount of Pb on the left side of th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3E is the amount on the left s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A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A is the amount of Pb on the lef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3E is the amount on the lef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N: 6A=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r: B=2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n: 2B=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ubstitute in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b: 1=3E  1/3=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N: 6x1=F  6=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r: B=2C or B/2=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n: 2B=D or B=D/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8B=3(B/2)+3(2B)+4(1/3)+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: 6A=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: B=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n: 2B=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stitute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b: 1=3E  1/3=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: 6x1=F  6=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: B=2C or B/2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n: 2B=D or B=D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B=3(B/2)+3(2B)+4(1/3)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 for Oxyge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: 8B=3B/2+4B+4/3+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d a lowest common multiple of 2 and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each side by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6x] 8B=(3B/2)+(4B+4/3)+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8B=9B+24B+8+3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8B=33B+4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B=4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Oxy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: 8B=3B/2+4B+4/3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west common multiple of 2 and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each side by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6x] 8B=(3B/2)+(4B+4/3)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B=9B+24B+8+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B=33B+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B=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mplify Your Frac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=44/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(B/2)x(44/1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44/3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2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(2/1)x(44/1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88/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=1/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=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d a GCD and multiply ea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=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=4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=9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Your 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=44/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(B/2)x(44/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44/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(2/1)x(44/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88/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1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=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GCD and multiply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=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=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You Have A Finished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itute each value into the equ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=15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=4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22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=90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Pb(N3)2 +44 Cr(MnO4)2  22Cr2O3+ 88MnO2 + 5Pb3O4 +90 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Finished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each value into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=4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2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=9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Pb(N3)2 +44 Cr(MnO4)2  22Cr2O3+ 88MnO2 + 5Pb3O4 +90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2569-07D2-4277-9BA4-0130DA83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D4E4-2720-47AA-A0BA-1A9095A6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821-FFE3-4DE1-A5CF-FA988816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D7E4-3D66-49A6-AA52-BBE0654A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6782-35AB-426F-A5FF-4DF1BD6F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8049-D1AC-429C-82D7-559A337B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E268-76D7-4C70-A7DA-8665F56C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4FA1-9892-410D-81C3-E524D32A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46F2-5C41-41D1-81A5-7CFE1F2A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01D9-B94B-47CD-9599-0CD5D9A1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F35D-0FB1-415E-A78C-B0E3CC99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7450-F008-4A07-9DEC-28E3396C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A2C5-8954-4867-8178-D1BD4823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BF44-5531-453F-90C9-978FBF96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B1B8-8945-40C3-9574-E619FEEB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C077-C8CB-4E72-99D7-46E8835D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5BF5-96B7-484E-8867-7BC8F5FA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09A6-BF09-4A0C-B24B-E3B85E41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F593-2322-400D-A3AF-C1FE2ACA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503B-540F-4552-B85E-C5D14DA5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B832-9A00-4365-8A6D-BC7BBBB3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E67A-BBCA-4FD7-8D4C-B42DFE0F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0215-DEA3-44E1-9D8D-26953EAD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0DC7-E726-472B-B44A-2BE6D949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1ABE-E365-4F35-B9D4-EE8EE8D6B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44BA-5C04-4843-B82D-C92CDC2988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Algebraic Solving Method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ing Chemical Equ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Balance This Equat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3048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(N3)2 + Cr(MnO4)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2O3+ MnO2 + Pb3O4 +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218960"/>
            <a:ext cx="9372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(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Cr(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P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Pb(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Cr(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C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P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NO= 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09480" y="2286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Give Each Compound a Vari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ve For Each of the Variab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b(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Cr(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Pb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A=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: A=3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A is the amount of Pb on the left side of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3E is the amount on the lef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ve For Each of the Variab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b: A=3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: 6A=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: B=2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n: 2B=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: 8B=3C+2D+4E+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itute in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b: 1=3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/3=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: 6x1=F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6=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: B=2C or B/2=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n: 2B=D or B=D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: 8B=3C+2D+4E+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B=3(B/2)+3(2B)+4(1/3)+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82800" y="1219320"/>
            <a:ext cx="8936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b(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Cr(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Pb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ve for Oxygen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2049120"/>
            <a:ext cx="82249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: 8B=3B/2+4B+4/3+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a lowest common multiple of 2 and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y each side by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6x] 8B=(3B/2)+(4B+4/3)+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8B=9B+24B+8+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8B=33B+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B=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mplify Your Fra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=44/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=(B/2)x(44/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=44/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2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(2/1)x(44/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88/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=1/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=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a GCD and multiply ea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=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=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=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=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=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Now You Have A Finished Equat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itute each value into the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=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=8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=4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=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=2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=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5Pb(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44 Cr(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22Cr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88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5Pb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90 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2:22:10Z</dcterms:created>
  <dc:creator>Samantha Madden</dc:creator>
  <dc:description/>
  <dc:language>en-US</dc:language>
  <cp:lastModifiedBy>LEGION</cp:lastModifiedBy>
  <dcterms:modified xsi:type="dcterms:W3CDTF">2015-09-04T09:52:55Z</dcterms:modified>
  <cp:revision>11</cp:revision>
  <dc:subject/>
  <dc:title>Algebraic Solving Method</dc:title>
</cp:coreProperties>
</file>