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BE0F-D8F5-4654-A668-DF9BE7627B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4BFA-202F-4DF0-AA9C-D2DF32C64F2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169A-8382-4702-AD59-813AC62E190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Hori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at which no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0C78-4C6E-4B64-A016-4CEB79BBE4D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runken star too small to be measured but with indefinite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75A6-65D4-4E75-8346-14D991396A3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4229-79A9-4B56-9A41-B4FEB4FD781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F27D-F564-4F3C-8328-406DC232BCA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ssembly of stars and 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72CB-1F12-4A3A-A009-298CFA6A0DA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572D-7A0F-4EE1-A00B-C9F9F55818F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ilky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disk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4C47-4A94-4675-8BD3-4991AE356B8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9719-EC2A-4959-A069-FB4B7E9931A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58F0-FA24-4CD6-A7A6-C509026E74F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li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l sh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type of galaxy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1303-2BD9-4185-8D21-2E8F805146E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4F94-23BE-4815-8B69-1CD76D7522F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ittle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dim and difficult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367A-ECD0-48B5-B226-4DA4C4896F72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454-1D43-4B7C-8E50-5F6F057B876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center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and easy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39D6-C81E-49BA-9B74-9A6BEAFFA65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 – always producing new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B456-2D25-42D2-A539-5A13B7A44EC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55B3-2190-46CF-BDE6-6067EAE373D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85DD-911C-4057-8199-2155A783748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pecific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3536-CD83-42F1-BC77-B2458507135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nd faint therefore hard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C8F1-B5FE-4DA7-8AF2-37C56B064C5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4C9E-5D9A-40F1-8A5B-CCB8DBEA41E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505B-A4F8-419D-8793-E3118394CC2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5941-7535-4B4F-A869-6CBF4D6C922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, powerful source of energy thought to be cores of distant spiral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1083-9B6F-48C5-8BEB-AA5C54A1803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mit radio waves and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98A5-6DA7-4220-A6CE-D5EE3C3444C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0C77-BD20-4ECB-ACFD-01AC9E96A03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se gravitational field left when a giant star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3ADA-29FD-4D25-9543-6E3C6CB1E75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C58D-B61F-405C-94AC-AC57005FAF2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a black hole because not even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DAF6-146D-4CE8-A6A2-3AFD83E586F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3566-4230-44C2-81FB-E34461EAAAD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81DF-3A1F-4DAF-BDDE-DA71C8AE661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oton Sp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 edge where light bends but is still esca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EF2-AF7F-44B6-93BF-A4FE4F14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AB0-6FE1-4E80-862C-A705799A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79E-3C5B-471B-888E-2E93B03C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E42-F8FA-445B-AE85-D9F76ED0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5DD7-4463-403B-ABE4-194C404D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BBF9-FD1C-48E7-A827-C3DBEF00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CF33-A6C1-4488-ACE6-075362C9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3729-68DF-48FB-B07A-485C54BE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E729-7290-4CD0-BF3C-EF2B3472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8FEF-92BA-491B-BF18-FD809A9D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CF29-2732-47CE-8F10-C2F56809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0EB-237B-4CF7-BA5B-BD9F6D7E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BA3E-CC9E-4E50-B62A-10B3686C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4AC4-64F4-4C7D-AE67-4AAF7D9F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A679-4C18-4527-A51E-A7293C05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1C23-7896-4E56-B97C-7CE20385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2D29-AD80-49AA-B245-473E9236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11D-73AB-41F7-AB68-EBEB0190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460-D476-497D-B6BE-7A8D578B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CDC-844D-45D1-A163-CD3D77F9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FFA-919A-4214-A5C0-74898DE3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46D-78B3-4D61-AEBA-743C8843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402-0155-4F28-BC9F-D370523B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43A-BE1F-49DA-95A4-2D4D17ED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6396-3F05-4905-8438-F039F7912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E489-C06F-4CCD-A33B-392296A5A82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Black</a:t>
            </a:r>
            <a:br>
              <a:rPr sz="8800"/>
            </a:b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 Hol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03840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Picture 8" descr="A Black Hole"/>
          <p:cNvPicPr/>
          <p:nvPr/>
        </p:nvPicPr>
        <p:blipFill>
          <a:blip r:embed="rId1"/>
          <a:stretch/>
        </p:blipFill>
        <p:spPr>
          <a:xfrm>
            <a:off x="5943600" y="304920"/>
            <a:ext cx="2895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Event Horizon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point at which no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ingularit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shrunken star too small to be measured but with indefinite densit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7" descr="StaticBlackHole"/>
          <p:cNvPicPr/>
          <p:nvPr/>
        </p:nvPicPr>
        <p:blipFill>
          <a:blip r:embed="rId1"/>
          <a:stretch/>
        </p:blipFill>
        <p:spPr>
          <a:xfrm>
            <a:off x="1143000" y="304920"/>
            <a:ext cx="64008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Galaxi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Picture 4" descr="j0300519"/>
          <p:cNvPicPr/>
          <p:nvPr/>
        </p:nvPicPr>
        <p:blipFill>
          <a:blip r:embed="rId1"/>
          <a:stretch/>
        </p:blipFill>
        <p:spPr>
          <a:xfrm>
            <a:off x="3200400" y="3505320"/>
            <a:ext cx="2971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Galax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A large assembly of stars and nebulae 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oup of Galax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7" name="Picture 1028" descr="Virgo Cluster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The Milky Wa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ur galax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Flat disk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he Milky Way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Three Types of Galaxie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Picture 5" descr="Copy of j0234677(t)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Elliptical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val shape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common type of galaxy foun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artist concept of a black hole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ittle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are dim and difficult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entaurus A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piral 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Dense center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Bright and easy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 – always producing new star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26"/>
          <p:cNvSpPr/>
          <p:nvPr/>
        </p:nvSpPr>
        <p:spPr>
          <a:xfrm>
            <a:off x="294948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1028" descr="M100"/>
          <p:cNvPicPr/>
          <p:nvPr/>
        </p:nvPicPr>
        <p:blipFill>
          <a:blip r:embed="rId1"/>
          <a:stretch/>
        </p:blipFill>
        <p:spPr>
          <a:xfrm>
            <a:off x="1143000" y="304920"/>
            <a:ext cx="6324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29" descr="A typical spiral galaxy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Irregul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No specific sh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 and faint therefore hard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27" descr="An irregular galaxy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See Explanation.  Clicking on the picture will download&#13; the largest version available.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, powerful source of energy thought to be cores of distant spiral galaxi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y emit radio waves and bright ligh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37636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7" name="Picture 4" descr="Quasar at the heart of a galaxy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Black Hole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intense gravitational field left when a giant star collaps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iagram of Cygnus X-1 system"/>
          <p:cNvPicPr/>
          <p:nvPr/>
        </p:nvPicPr>
        <p:blipFill>
          <a:blip r:embed="rId1"/>
          <a:stretch/>
        </p:blipFill>
        <p:spPr>
          <a:xfrm>
            <a:off x="914400" y="685800"/>
            <a:ext cx="69343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It is called a black hole because not even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27" descr="blackhole_illustration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blackhole.mpg" descr=""/>
          <p:cNvPicPr/>
          <p:nvPr/>
        </p:nvPicPr>
        <p:blipFill>
          <a:blip r:embed="rId1"/>
          <a:stretch/>
        </p:blipFill>
        <p:spPr>
          <a:xfrm>
            <a:off x="1219320" y="206280"/>
            <a:ext cx="6324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Photon Sphere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outer edge where light bends but is still escapabl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1:01:15Z</dcterms:created>
  <dc:creator>Daniel LeClere</dc:creator>
  <dc:description/>
  <dc:language>en-US</dc:language>
  <cp:lastModifiedBy>RomaK</cp:lastModifiedBy>
  <dcterms:modified xsi:type="dcterms:W3CDTF">2015-07-31T22:36:58Z</dcterms:modified>
  <cp:revision>9</cp:revision>
  <dc:subject/>
  <dc:title>Black  Holes</dc:title>
</cp:coreProperties>
</file>