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1587-617D-44D6-A90E-766E617DB3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0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0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a natural Greenhouse Effect, earth would be fro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a natural Greenhouse Effect, earth would be fro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continue to erup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% CO2, abrupt warming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continue to erup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% CO2, abrupt warming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ic Eruptions - Sudden output of CO2 (warming) or particulates (cool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ic Eruptions - Sudden output of CO2 (warming) or particulates (cool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, Haze, CO2 May Alter Clim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, Haze, CO2 May Alter Clim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50BC-07AC-4789-A100-0FEE9054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12A2-06B3-476F-87A1-CA6630E8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56B9-74BE-43DB-990C-A1EC9596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63E6-E8BB-468A-9DEC-11EA863F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54FF-7DD7-4307-8421-2F54B081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FB4E-ACF3-4B68-A876-02A4FC76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27DC-59F7-4D08-8478-EE00D627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8109-635D-4762-9907-C3166BC5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107B-F6CA-4AB2-ADED-CBD10A44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CA70-A4BE-4073-ACF8-C7A8623E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298F-E8B7-48ED-BBA5-1DAB89DF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2287-071B-4C50-B988-AAEBF2F7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DD84-069D-44C0-ADFC-C87697CDE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300 M.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eenhouse Effect, earth would be fro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canoes continue to erupt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10%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brupt warming be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canic Eruptions - Sudden output of 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warming) or particulates (cool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oke, Haze,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Alter Clim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80880" y="228600"/>
          <a:ext cx="8458200" cy="6267600"/>
        </p:xfrm>
        <a:graphic>
          <a:graphicData uri="http://schemas.openxmlformats.org/drawingml/2006/table">
            <a:tbl>
              <a:tblPr/>
              <a:tblGrid>
                <a:gridCol w="1828800"/>
                <a:gridCol w="1752840"/>
                <a:gridCol w="1447560"/>
                <a:gridCol w="1737000"/>
                <a:gridCol w="1692000"/>
              </a:tblGrid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(1000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h Ame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hern Eur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and-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glaci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scon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u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t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s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-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ga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zn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-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linoi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rthe/Sa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ac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-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rmo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et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s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omir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-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n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rosla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-3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on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om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khv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0-4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Nebraskan 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n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ap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0-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al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0-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u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ybou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-5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gl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-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u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-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ut 20 Glacial Adv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(2 M.Y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ginning of Pleistoc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 (4 M.Y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warf forests still in Antarc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M.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Glaciation in Antarctic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O18Record800Ka"/>
          <p:cNvPicPr/>
          <p:nvPr/>
        </p:nvPicPr>
        <p:blipFill>
          <a:blip r:embed="rId1"/>
          <a:stretch/>
        </p:blipFill>
        <p:spPr>
          <a:xfrm>
            <a:off x="685800" y="1981080"/>
            <a:ext cx="79246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266688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DeepSeaRecord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495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Milankovich0"/>
          <p:cNvPicPr/>
          <p:nvPr/>
        </p:nvPicPr>
        <p:blipFill>
          <a:blip r:embed="rId1"/>
          <a:stretch/>
        </p:blipFill>
        <p:spPr>
          <a:xfrm>
            <a:off x="1523880" y="1447920"/>
            <a:ext cx="6286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38102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PrecessAxis"/>
          <p:cNvPicPr/>
          <p:nvPr/>
        </p:nvPicPr>
        <p:blipFill>
          <a:blip r:embed="rId1"/>
          <a:stretch/>
        </p:blipFill>
        <p:spPr>
          <a:xfrm>
            <a:off x="4191120" y="1219320"/>
            <a:ext cx="4419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40384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Milankovich1"/>
          <p:cNvPicPr/>
          <p:nvPr/>
        </p:nvPicPr>
        <p:blipFill>
          <a:blip r:embed="rId1"/>
          <a:stretch/>
        </p:blipFill>
        <p:spPr>
          <a:xfrm>
            <a:off x="1447920" y="1143000"/>
            <a:ext cx="6286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8T21:10:32Z</dcterms:created>
  <dc:creator>Steven Dutch</dc:creator>
  <dc:description/>
  <dc:language>en-US</dc:language>
  <cp:lastModifiedBy>RomaK</cp:lastModifiedBy>
  <dcterms:modified xsi:type="dcterms:W3CDTF">2015-09-04T09:43:17Z</dcterms:modified>
  <cp:revision>14</cp:revision>
  <dc:subject/>
  <dc:title>Glaciers </dc:title>
</cp:coreProperties>
</file>