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A72E-2307-4F29-AC02-91A669E35E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0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0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a natural Greenhouse Effect, earth would be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a natural Greenhouse Effect, earth would be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continue to erup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% CO2, abrupt warm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continue to erup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% CO2, abrupt warm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ic Eruptions - Sudden output of CO2 (warming) or particulates (cool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ic Eruptions - Sudden output of CO2 (warming) or particulates (cool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, Haze, CO2 May Alter Cl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, Haze, CO2 May Alter Cl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552-CD90-4255-8638-16D29A09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211-EF63-4B69-AB6A-1BD8DFD5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532E-94F6-45B3-8DB6-A9D67491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DD2-27C9-4D13-AEDA-5D39C500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EBF9-2771-4999-B85A-18433262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2058-CA94-449A-B740-B62EFDCE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EFF-7299-4CD2-8548-79B8DF90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F83-68CC-4AA1-B22B-7DB2F485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3D8-47E6-4325-B877-0D573078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8BB-5BCC-4E0B-ADB5-D1059345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E7C-C534-4440-A9DA-3253DF22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9259-EC6C-4DE3-812E-29CD51E2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3AA8-2E72-4030-8EFF-E1EA940C8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00 M.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eenhouse Effect, earth would be fro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es continue to erupt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10%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brupt warming be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canic Eruptions - Sudden output of 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arming) or particulates (cool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oke, Haze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Alter Clim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80880" y="228600"/>
          <a:ext cx="8458200" cy="6267600"/>
        </p:xfrm>
        <a:graphic>
          <a:graphicData uri="http://schemas.openxmlformats.org/drawingml/2006/table">
            <a:tbl>
              <a:tblPr/>
              <a:tblGrid>
                <a:gridCol w="1828800"/>
                <a:gridCol w="1752840"/>
                <a:gridCol w="1447560"/>
                <a:gridCol w="1737000"/>
                <a:gridCol w="1692000"/>
              </a:tblGrid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(1000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 Ame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ern Eur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and-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glaci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scon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u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t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s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-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ga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zn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-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linoi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the/Sa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ac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-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rmo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e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s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omir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-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n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rosla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-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on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om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kh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0-4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Nebraskan 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ap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0-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a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-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u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ybou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-5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g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-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u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-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 20 Glacial Adv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(2 M.Y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ginning of Pleistoc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 (4 M.Y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warf forests still in Antar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M.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Glaciation in Antarct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O18Record800Ka"/>
          <p:cNvPicPr/>
          <p:nvPr/>
        </p:nvPicPr>
        <p:blipFill>
          <a:blip r:embed="rId1"/>
          <a:stretch/>
        </p:blipFill>
        <p:spPr>
          <a:xfrm>
            <a:off x="685800" y="1981080"/>
            <a:ext cx="79246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66688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DeepSeaRecord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Milankovich0"/>
          <p:cNvPicPr/>
          <p:nvPr/>
        </p:nvPicPr>
        <p:blipFill>
          <a:blip r:embed="rId1"/>
          <a:stretch/>
        </p:blipFill>
        <p:spPr>
          <a:xfrm>
            <a:off x="1523880" y="1447920"/>
            <a:ext cx="628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PrecessAxis"/>
          <p:cNvPicPr/>
          <p:nvPr/>
        </p:nvPicPr>
        <p:blipFill>
          <a:blip r:embed="rId1"/>
          <a:stretch/>
        </p:blipFill>
        <p:spPr>
          <a:xfrm>
            <a:off x="4191120" y="121932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40384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Milankovich1"/>
          <p:cNvPicPr/>
          <p:nvPr/>
        </p:nvPicPr>
        <p:blipFill>
          <a:blip r:embed="rId1"/>
          <a:stretch/>
        </p:blipFill>
        <p:spPr>
          <a:xfrm>
            <a:off x="1447920" y="1143000"/>
            <a:ext cx="6286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21:10:32Z</dcterms:created>
  <dc:creator>Steven Dutch</dc:creator>
  <dc:description/>
  <dc:language>en-US</dc:language>
  <cp:lastModifiedBy>RomaK</cp:lastModifiedBy>
  <dcterms:modified xsi:type="dcterms:W3CDTF">2015-09-04T09:43:17Z</dcterms:modified>
  <cp:revision>14</cp:revision>
  <dc:subject/>
  <dc:title>Glaciers </dc:title>
</cp:coreProperties>
</file>